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7BD-353B-4146-91E6-DDB800B9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8EC-92FE-48E0-AC9E-BD7FB3E8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3F2-7A01-4A97-A15C-4FB6B533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EA5-FD56-47C7-8770-51C3B61F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384-7D6E-4832-899A-B60729E1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21A-0A05-4C90-80A6-8CDB01F4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781-0E59-4C68-95AF-98A258E4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9A5-1D3C-4391-BE7F-C1FD069F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A34-CB89-4726-9730-751EF5FB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A83-EC7D-4150-BC4D-AB7932D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D83-7A3B-4D90-8719-83B86690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1C1-381E-443A-901E-F72C7738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64AB-FBDA-483F-904E-8D1B551FA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ие декабрис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836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1700280"/>
            <a:ext cx="43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71640" y="1700280"/>
            <a:ext cx="3671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8" descr="image001"/>
          <p:cNvPicPr/>
          <p:nvPr/>
        </p:nvPicPr>
        <p:blipFill>
          <a:blip r:embed="rId1"/>
          <a:stretch/>
        </p:blipFill>
        <p:spPr>
          <a:xfrm>
            <a:off x="468360" y="1628640"/>
            <a:ext cx="7991280" cy="483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Text Box 9"/>
          <p:cNvSpPr/>
          <p:nvPr/>
        </p:nvSpPr>
        <p:spPr>
          <a:xfrm>
            <a:off x="4788000" y="3716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ryleev_kondfed"/>
          <p:cNvPicPr/>
          <p:nvPr/>
        </p:nvPicPr>
        <p:blipFill>
          <a:blip r:embed="rId1"/>
          <a:stretch/>
        </p:blipFill>
        <p:spPr>
          <a:xfrm>
            <a:off x="3348000" y="1773360"/>
            <a:ext cx="2381400" cy="327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79" name="Text Box 8"/>
          <p:cNvSpPr/>
          <p:nvPr/>
        </p:nvSpPr>
        <p:spPr>
          <a:xfrm>
            <a:off x="3348000" y="5157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.Ф.Рылее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C110144_0"/>
          <p:cNvPicPr/>
          <p:nvPr/>
        </p:nvPicPr>
        <p:blipFill>
          <a:blip r:embed="rId1"/>
          <a:srcRect l="5111" t="0" r="5188" b="0"/>
          <a:stretch/>
        </p:blipFill>
        <p:spPr>
          <a:xfrm>
            <a:off x="250920" y="189000"/>
            <a:ext cx="303696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4767120" y="20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419640" y="0"/>
            <a:ext cx="59911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ван  Иванович Пущ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Жанн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член тай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революцион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посетил  Пушки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о время ссыл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 Михайловском («Пущину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79280" y="4724280"/>
            <a:ext cx="87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сужден  на каторгу в Сибирь пос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восстания декабристов («Мой первый друг…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0000" y="404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ильгельм Кюхельбекер (Кюх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C110154_0"/>
          <p:cNvPicPr/>
          <p:nvPr/>
        </p:nvPicPr>
        <p:blipFill>
          <a:blip r:embed="rId1"/>
          <a:stretch/>
        </p:blipFill>
        <p:spPr>
          <a:xfrm>
            <a:off x="250920" y="189000"/>
            <a:ext cx="3097080" cy="2690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ейский чуд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 парод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лен тайного общества, друг Грибоедова и Ры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 восстания декабри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 лет в одиночной камере, затем каторга, умер в Сибир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age001"/>
          <p:cNvPicPr/>
          <p:nvPr/>
        </p:nvPicPr>
        <p:blipFill>
          <a:blip r:embed="rId1"/>
          <a:stretch/>
        </p:blipFill>
        <p:spPr>
          <a:xfrm>
            <a:off x="684360" y="981000"/>
            <a:ext cx="7850160" cy="511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спасения» (1816 -1817 г.г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Организаторы и участники: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Н. и Н.М. Муравьевы, С.П.Трубецкой, С.И и М.И Муравьевы – Апостолы, П.И Пестель, И.И. Пущин, М.С. Лун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около 3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нить крепостное  право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конституционную монарх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ить революционный переворот в момент перехода к новому царство- 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Arial"/>
              </a:rPr>
              <a:t>Первый план цареуби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благоденствия» (1818 -18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ргнуть самодержавие, отменить крепостное пра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предать смерти царскую динас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030560" cy="44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читывалось около </a:t>
            </a:r>
            <a:r>
              <a:rPr b="1" lang="ru-RU" sz="2800" spc="-1" strike="noStrike">
                <a:solidFill>
                  <a:srgbClr val="66ff99"/>
                </a:solidFill>
                <a:latin typeface="Arial"/>
              </a:rPr>
              <a:t>20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м деятельным участником был П.И. Пес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Северное общество (1821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Организаторы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М.Муравьев, М.С.Лун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И. Турген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П.Трубец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Ры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Цели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в России конституционной монархии, равенство всех граждан перед законом, отмена крепостного пра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Вооруженное выступление при смене императоров на прест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Южное общество (1821 г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Главные деятели: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И. Пес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И. Муравьев-Апо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на крепостного пра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ство все перед за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осуществить революционный переворот в момент перехода к новому царств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Запишите и за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4 декабря 1825 года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в Петербурге было подавлено восстание революционеров-дворян, выступивших против самодержавия и крепостничества. В историю они вошли под именем декабрис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Итоги восс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лечены к следств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ш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ланы на каторгу и на поселение в Сиби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 прогнали шпицрутенами через тысячный ст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79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121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Arial"/>
              </a:rPr>
              <a:t>Повешенные декабрис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nf_2188_xex"/>
          <p:cNvPicPr/>
          <p:nvPr/>
        </p:nvPicPr>
        <p:blipFill>
          <a:blip r:embed="rId1"/>
          <a:stretch/>
        </p:blipFill>
        <p:spPr>
          <a:xfrm>
            <a:off x="1042920" y="1197000"/>
            <a:ext cx="2857680" cy="3600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1116000" y="501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П.И.Песте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9" descr="m_26259"/>
          <p:cNvPicPr/>
          <p:nvPr/>
        </p:nvPicPr>
        <p:blipFill>
          <a:blip r:embed="rId2"/>
          <a:stretch/>
        </p:blipFill>
        <p:spPr>
          <a:xfrm>
            <a:off x="5148360" y="1844640"/>
            <a:ext cx="2824200" cy="381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5148360" y="5661000"/>
            <a:ext cx="26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148360" y="573408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М.А. Бестужев-Рюм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аховский  Петр Григорьевич"/>
          <p:cNvPicPr/>
          <p:nvPr/>
        </p:nvPicPr>
        <p:blipFill>
          <a:blip r:embed="rId1"/>
          <a:stretch/>
        </p:blipFill>
        <p:spPr>
          <a:xfrm>
            <a:off x="900000" y="404640"/>
            <a:ext cx="2951280" cy="367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00000" y="4365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.Г.Ках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9" descr="&lt;small&gt;Из собр. Пушкинского Дома.&lt;/small&gt;"/>
          <p:cNvPicPr/>
          <p:nvPr/>
        </p:nvPicPr>
        <p:blipFill>
          <a:blip r:embed="rId2"/>
          <a:stretch/>
        </p:blipFill>
        <p:spPr>
          <a:xfrm>
            <a:off x="5435640" y="1989000"/>
            <a:ext cx="2954160" cy="3816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5" name="Text Box 10"/>
          <p:cNvSpPr/>
          <p:nvPr/>
        </p:nvSpPr>
        <p:spPr>
          <a:xfrm>
            <a:off x="5364000" y="5877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.И. Муравьев-Апо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0:05:55Z</dcterms:created>
  <dc:creator>Надежда</dc:creator>
  <dc:description/>
  <dc:language>en-US</dc:language>
  <cp:lastModifiedBy>Макаров</cp:lastModifiedBy>
  <dcterms:modified xsi:type="dcterms:W3CDTF">2012-11-06T04:59:34Z</dcterms:modified>
  <cp:revision>26</cp:revision>
  <dc:subject/>
  <dc:title>Восстание декабристов.  Декабристы на Кубани.</dc:title>
</cp:coreProperties>
</file>