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drumroll.wav" ContentType="audio/x-wav"/>
  <Override PartName="/ppt/media/chimes.wav" ContentType="audio/x-wav"/>
  <Override PartName="/ppt/media/image6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1171-2956-43EA-9415-1DCEB188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1F31-C8A6-484F-989B-46C07D99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854A-5F4E-4B7C-A62D-89DF71D53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B681-E279-4B2F-BA17-D8DCFF1C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3140-B6C0-4493-A11D-46F953EA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236C-4885-4971-AFB3-09DF2F19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8672-E537-4516-A7C2-3B65A85A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940D-69E1-48E1-9079-9D533CDB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D329-C657-4937-B2EA-747B4A90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AE0E-D58A-4CA6-9A74-0112689B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0261-EAEE-42D6-B4CD-9B13CACF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A0E9-74DC-4B0D-838C-F7536EF8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6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2437-F3D4-4F92-9161-45E6FF3F7B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97164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сстание декабрист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042920" y="836640"/>
            <a:ext cx="78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ru-RU" sz="3200" spc="-1" strike="noStrike">
                <a:solidFill>
                  <a:srgbClr val="ff66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11280" y="1700280"/>
            <a:ext cx="4321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971640" y="1700280"/>
            <a:ext cx="36716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Picture 8" descr="image001"/>
          <p:cNvPicPr/>
          <p:nvPr/>
        </p:nvPicPr>
        <p:blipFill>
          <a:blip r:embed="rId1"/>
          <a:stretch/>
        </p:blipFill>
        <p:spPr>
          <a:xfrm>
            <a:off x="468360" y="1628640"/>
            <a:ext cx="7991280" cy="4834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Text Box 9"/>
          <p:cNvSpPr/>
          <p:nvPr/>
        </p:nvSpPr>
        <p:spPr>
          <a:xfrm>
            <a:off x="4788000" y="371628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ryleev_kondfed"/>
          <p:cNvPicPr/>
          <p:nvPr/>
        </p:nvPicPr>
        <p:blipFill>
          <a:blip r:embed="rId1"/>
          <a:stretch/>
        </p:blipFill>
        <p:spPr>
          <a:xfrm>
            <a:off x="3348000" y="1773360"/>
            <a:ext cx="2381400" cy="327636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  <p:sp>
        <p:nvSpPr>
          <p:cNvPr id="79" name="Text Box 8"/>
          <p:cNvSpPr/>
          <p:nvPr/>
        </p:nvSpPr>
        <p:spPr>
          <a:xfrm>
            <a:off x="3348000" y="515772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.Ф.Рылее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PC110144_0"/>
          <p:cNvPicPr/>
          <p:nvPr/>
        </p:nvPicPr>
        <p:blipFill>
          <a:blip r:embed="rId1"/>
          <a:srcRect l="5111" t="0" r="5188" b="0"/>
          <a:stretch/>
        </p:blipFill>
        <p:spPr>
          <a:xfrm>
            <a:off x="250920" y="189000"/>
            <a:ext cx="3036960" cy="3095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81" name="Text Box 5"/>
          <p:cNvSpPr/>
          <p:nvPr/>
        </p:nvSpPr>
        <p:spPr>
          <a:xfrm>
            <a:off x="4767120" y="203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419640" y="0"/>
            <a:ext cx="599112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Иван  Иванович Пущ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Жанно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член тайног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революционног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общест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ahoma"/>
              </a:rPr>
              <a:t>посетил  Пушкин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ahoma"/>
              </a:rPr>
              <a:t>во время ссылк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ahoma"/>
              </a:rPr>
              <a:t>в Михайловском («Пущину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79280" y="4724280"/>
            <a:ext cx="873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Осужден  на каторгу в Сибирь посл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восстания декабристов («Мой первый друг…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7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2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600000" y="404280"/>
            <a:ext cx="55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Вильгельм Кюхельбекер (Кюхл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PC110154_0"/>
          <p:cNvPicPr/>
          <p:nvPr/>
        </p:nvPicPr>
        <p:blipFill>
          <a:blip r:embed="rId1"/>
          <a:stretch/>
        </p:blipFill>
        <p:spPr>
          <a:xfrm>
            <a:off x="250920" y="189000"/>
            <a:ext cx="3097080" cy="2690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569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ицейский чуда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ъект парод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лен тайного общества, друг Грибоедова и Рылее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астник восстания декабрис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8 лет в одиночной камере, затем каторга, умер в Сибири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00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3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000"/>
                            </p:stCondLst>
                            <p:childTnLst>
                              <p:par>
                                <p:cTn id="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3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3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3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image001"/>
          <p:cNvPicPr/>
          <p:nvPr/>
        </p:nvPicPr>
        <p:blipFill>
          <a:blip r:embed="rId1"/>
          <a:stretch/>
        </p:blipFill>
        <p:spPr>
          <a:xfrm>
            <a:off x="684360" y="981000"/>
            <a:ext cx="7850160" cy="5113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Союз спасения» (1816 -1817 г.г.)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Организаторы и участники:</a:t>
            </a: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Н. и Н.М. Муравьевы, С.П.Трубецкой, С.И и М.И Муравьевы – Апостолы, П.И Пестель, И.И. Пущин, М.С. Лунин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го около 30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Це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менить крепостное  право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ить конституционную монарх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ить революционный переворот в момент перехода к новому царство- в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66"/>
                </a:solidFill>
                <a:latin typeface="Arial"/>
              </a:rPr>
              <a:t>Первый план цареуби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Союз благоденствия» (1818 -182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99"/>
                </a:solidFill>
                <a:latin typeface="Arial"/>
              </a:rPr>
              <a:t>Це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ергнуть самодержавие, отменить крепостное пра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предать смерти царскую династ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030560" cy="446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читывалось около </a:t>
            </a:r>
            <a:r>
              <a:rPr b="1" lang="ru-RU" sz="2800" spc="-1" strike="noStrike">
                <a:solidFill>
                  <a:srgbClr val="66ff99"/>
                </a:solidFill>
                <a:latin typeface="Arial"/>
              </a:rPr>
              <a:t>200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ым деятельным участником был П.И. Пес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Северное общество (1821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1260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Организаторы: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.М.Муравьев, М.С.Лунин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.И. Тургене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.П.Трубецк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.Ф.Рыле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1260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Цели: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ие в России конституционной монархии, равенство всех граждан перед законом, отмена крепостного пра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66"/>
                </a:solidFill>
                <a:latin typeface="Arial"/>
              </a:rPr>
              <a:t>Вооруженное выступление при смене императоров на прест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08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Arial"/>
              </a:rPr>
              <a:t>Южное общество (1821 г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Главные деятели: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.И. Пес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.И. Муравьев-Апост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Це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мена крепостного пра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енство все перед закон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66"/>
                </a:solidFill>
                <a:latin typeface="Arial"/>
              </a:rPr>
              <a:t>осуществить революционный переворот в момент перехода к новому царств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56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Запишите и запомн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14 декабря 1825 года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 в Петербурге было подавлено восстание революционеров-дворян, выступивших против самодержавия и крепостничества. В историю они вошли под именем декабрис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Итоги восс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влечены к следств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еше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ланы на каторгу и на поселение в Сибир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лдат прогнали шпицрутенами через тысячный стр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579 челове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5 челове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121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4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4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04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Arial"/>
              </a:rPr>
              <a:t>Повешенные декабрис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inf_2188_xex"/>
          <p:cNvPicPr/>
          <p:nvPr/>
        </p:nvPicPr>
        <p:blipFill>
          <a:blip r:embed="rId1"/>
          <a:stretch/>
        </p:blipFill>
        <p:spPr>
          <a:xfrm>
            <a:off x="1042920" y="1197000"/>
            <a:ext cx="2857680" cy="360036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  <p:sp>
        <p:nvSpPr>
          <p:cNvPr id="67" name="Text Box 8"/>
          <p:cNvSpPr/>
          <p:nvPr/>
        </p:nvSpPr>
        <p:spPr>
          <a:xfrm>
            <a:off x="1116000" y="501336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99"/>
                </a:solidFill>
                <a:latin typeface="Tahoma"/>
              </a:rPr>
              <a:t>П.И.Пестел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" name="Picture 9" descr="m_26259"/>
          <p:cNvPicPr/>
          <p:nvPr/>
        </p:nvPicPr>
        <p:blipFill>
          <a:blip r:embed="rId2"/>
          <a:stretch/>
        </p:blipFill>
        <p:spPr>
          <a:xfrm>
            <a:off x="5148360" y="1844640"/>
            <a:ext cx="2824200" cy="381636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  <p:sp>
        <p:nvSpPr>
          <p:cNvPr id="69" name="Text Box 10"/>
          <p:cNvSpPr/>
          <p:nvPr/>
        </p:nvSpPr>
        <p:spPr>
          <a:xfrm>
            <a:off x="5148360" y="5661000"/>
            <a:ext cx="26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5148360" y="5734080"/>
            <a:ext cx="28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99"/>
                </a:solidFill>
                <a:latin typeface="Tahoma"/>
              </a:rPr>
              <a:t>М.А. Бестужев-Рюми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Каховский  Петр Григорьевич"/>
          <p:cNvPicPr/>
          <p:nvPr/>
        </p:nvPicPr>
        <p:blipFill>
          <a:blip r:embed="rId1"/>
          <a:stretch/>
        </p:blipFill>
        <p:spPr>
          <a:xfrm>
            <a:off x="900000" y="404640"/>
            <a:ext cx="2951280" cy="367200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sp>
        <p:nvSpPr>
          <p:cNvPr id="73" name="Text Box 8"/>
          <p:cNvSpPr/>
          <p:nvPr/>
        </p:nvSpPr>
        <p:spPr>
          <a:xfrm>
            <a:off x="900000" y="436572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.Г.Каховск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" name="Picture 9" descr="&lt;small&gt;Из собр. Пушкинского Дома.&lt;/small&gt;"/>
          <p:cNvPicPr/>
          <p:nvPr/>
        </p:nvPicPr>
        <p:blipFill>
          <a:blip r:embed="rId2"/>
          <a:stretch/>
        </p:blipFill>
        <p:spPr>
          <a:xfrm>
            <a:off x="5435640" y="1989000"/>
            <a:ext cx="2954160" cy="381636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sp>
        <p:nvSpPr>
          <p:cNvPr id="75" name="Text Box 10"/>
          <p:cNvSpPr/>
          <p:nvPr/>
        </p:nvSpPr>
        <p:spPr>
          <a:xfrm>
            <a:off x="5364000" y="587700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.И. Муравьев-Апосто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0:05:55Z</dcterms:created>
  <dc:creator>Надежда</dc:creator>
  <dc:description/>
  <dc:language>en-US</dc:language>
  <cp:lastModifiedBy>Макаров</cp:lastModifiedBy>
  <dcterms:modified xsi:type="dcterms:W3CDTF">2012-11-06T04:59:34Z</dcterms:modified>
  <cp:revision>26</cp:revision>
  <dc:subject/>
  <dc:title>Восстание декабристов.  Декабристы на Кубани.</dc:title>
</cp:coreProperties>
</file>