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drumroll.wav" ContentType="audio/x-wav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E7D-42EC-4E34-9EF3-D01CEA03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A17-BFAC-41E7-9B1F-731D816F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704-9A1D-49FB-BD3E-C7B5F7BC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2C3-EC57-4467-892B-2EE451FA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0C9-80DB-4830-A4C1-7970D773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6B2-E390-42B3-AB33-05B5E8B0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A6D2-5489-45FB-80FB-4A913B9B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506-A5BF-4DAA-ADF1-B31439EB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050-DC6B-4CF6-A365-B1002731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78B-8B8B-42C5-B110-ED217A7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CBA-96F7-4BD8-BA16-F671FF9F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B32-7093-4CD4-944F-B6712403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2EA8-52F5-4049-9B3D-3DFBF94FA0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ие декабрис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42920" y="83664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66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1700280"/>
            <a:ext cx="432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71640" y="1700280"/>
            <a:ext cx="36716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8" descr="image001"/>
          <p:cNvPicPr/>
          <p:nvPr/>
        </p:nvPicPr>
        <p:blipFill>
          <a:blip r:embed="rId1"/>
          <a:stretch/>
        </p:blipFill>
        <p:spPr>
          <a:xfrm>
            <a:off x="468360" y="1628640"/>
            <a:ext cx="7991280" cy="483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Text Box 9"/>
          <p:cNvSpPr/>
          <p:nvPr/>
        </p:nvSpPr>
        <p:spPr>
          <a:xfrm>
            <a:off x="4788000" y="3716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ryleev_kondfed"/>
          <p:cNvPicPr/>
          <p:nvPr/>
        </p:nvPicPr>
        <p:blipFill>
          <a:blip r:embed="rId1"/>
          <a:stretch/>
        </p:blipFill>
        <p:spPr>
          <a:xfrm>
            <a:off x="3348000" y="1773360"/>
            <a:ext cx="2381400" cy="3276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79" name="Text Box 8"/>
          <p:cNvSpPr/>
          <p:nvPr/>
        </p:nvSpPr>
        <p:spPr>
          <a:xfrm>
            <a:off x="3348000" y="5157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.Ф.Рылее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PC110144_0"/>
          <p:cNvPicPr/>
          <p:nvPr/>
        </p:nvPicPr>
        <p:blipFill>
          <a:blip r:embed="rId1"/>
          <a:srcRect l="5111" t="0" r="5188" b="0"/>
          <a:stretch/>
        </p:blipFill>
        <p:spPr>
          <a:xfrm>
            <a:off x="250920" y="189000"/>
            <a:ext cx="3036960" cy="309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1" name="Text Box 5"/>
          <p:cNvSpPr/>
          <p:nvPr/>
        </p:nvSpPr>
        <p:spPr>
          <a:xfrm>
            <a:off x="4767120" y="203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419640" y="0"/>
            <a:ext cx="599112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Иван  Иванович Пущ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Жанно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член тай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революцион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об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посетил  Пушки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во время ссыл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в Михайловском («Пущину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79280" y="4724280"/>
            <a:ext cx="873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Осужден  на каторгу в Сибирь посл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восстания декабристов («Мой первый друг…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00000" y="40428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Вильгельм Кюхельбекер (Кюхл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C110154_0"/>
          <p:cNvPicPr/>
          <p:nvPr/>
        </p:nvPicPr>
        <p:blipFill>
          <a:blip r:embed="rId1"/>
          <a:stretch/>
        </p:blipFill>
        <p:spPr>
          <a:xfrm>
            <a:off x="250920" y="189000"/>
            <a:ext cx="3097080" cy="2690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цейский чуд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 парод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лен тайного общества, друг Грибоедова и Ры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 восстания декабрис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 лет в одиночной камере, затем каторга, умер в Сибири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mage001"/>
          <p:cNvPicPr/>
          <p:nvPr/>
        </p:nvPicPr>
        <p:blipFill>
          <a:blip r:embed="rId1"/>
          <a:stretch/>
        </p:blipFill>
        <p:spPr>
          <a:xfrm>
            <a:off x="684360" y="981000"/>
            <a:ext cx="7850160" cy="511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оюз спасения» (1816 -1817 г.г.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Организаторы и участники: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Н. и Н.М. Муравьевы, С.П.Трубецкой, С.И и М.И Муравьевы – Апостолы, П.И Пестель, И.И. Пущин, М.С. Лун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около 3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нить крепостное  право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ь конституционную монарх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ить революционный переворот в момент перехода к новому царство- 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Arial"/>
              </a:rPr>
              <a:t>Первый план цареуби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оюз благоденствия» (1818 -18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99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ргнуть самодержавие, отменить крепостное пра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предать смерти царскую динас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030560" cy="44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читывалось около </a:t>
            </a:r>
            <a:r>
              <a:rPr b="1" lang="ru-RU" sz="2800" spc="-1" strike="noStrike">
                <a:solidFill>
                  <a:srgbClr val="66ff99"/>
                </a:solidFill>
                <a:latin typeface="Arial"/>
              </a:rPr>
              <a:t>20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м деятельным участником был П.И. Пес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Северное общество (1821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Организаторы: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М.Муравьев, М.С.Лун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И. Тургене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П.Трубец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Ры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Цели: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в России конституционной монархии, равенство всех граждан перед законом, отмена крепостного пра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Вооруженное выступление при смене императоров на прест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Южное общество (1821 г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Главные деятели: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И. Пес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И. Муравьев-Апо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мена крепостного пра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енство все перед за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осуществить революционный переворот в момент перехода к новому царств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Запишите и запомн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14 декабря 1825 года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в Петербурге было подавлено восстание революционеров-дворян, выступивших против самодержавия и крепостничества. В историю они вошли под именем декабрис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Итоги восс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лечены к следств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ш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ланы на каторгу и на поселение в Сиби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дат прогнали шпицрутенами через тысячный ст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579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5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121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Arial"/>
              </a:rPr>
              <a:t>Повешенные декабрис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inf_2188_xex"/>
          <p:cNvPicPr/>
          <p:nvPr/>
        </p:nvPicPr>
        <p:blipFill>
          <a:blip r:embed="rId1"/>
          <a:stretch/>
        </p:blipFill>
        <p:spPr>
          <a:xfrm>
            <a:off x="1042920" y="1197000"/>
            <a:ext cx="2857680" cy="3600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67" name="Text Box 8"/>
          <p:cNvSpPr/>
          <p:nvPr/>
        </p:nvSpPr>
        <p:spPr>
          <a:xfrm>
            <a:off x="1116000" y="5013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П.И.Пестел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Picture 9" descr="m_26259"/>
          <p:cNvPicPr/>
          <p:nvPr/>
        </p:nvPicPr>
        <p:blipFill>
          <a:blip r:embed="rId2"/>
          <a:stretch/>
        </p:blipFill>
        <p:spPr>
          <a:xfrm>
            <a:off x="5148360" y="1844640"/>
            <a:ext cx="2824200" cy="3816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5148360" y="5661000"/>
            <a:ext cx="26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148360" y="573408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М.А. Бестужев-Рюм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Каховский  Петр Григорьевич"/>
          <p:cNvPicPr/>
          <p:nvPr/>
        </p:nvPicPr>
        <p:blipFill>
          <a:blip r:embed="rId1"/>
          <a:stretch/>
        </p:blipFill>
        <p:spPr>
          <a:xfrm>
            <a:off x="900000" y="404640"/>
            <a:ext cx="2951280" cy="36720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900000" y="4365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.Г.Кахов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9" descr="&lt;small&gt;Из собр. Пушкинского Дома.&lt;/small&gt;"/>
          <p:cNvPicPr/>
          <p:nvPr/>
        </p:nvPicPr>
        <p:blipFill>
          <a:blip r:embed="rId2"/>
          <a:stretch/>
        </p:blipFill>
        <p:spPr>
          <a:xfrm>
            <a:off x="5435640" y="1989000"/>
            <a:ext cx="2954160" cy="38163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5" name="Text Box 10"/>
          <p:cNvSpPr/>
          <p:nvPr/>
        </p:nvSpPr>
        <p:spPr>
          <a:xfrm>
            <a:off x="5364000" y="5877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.И. Муравьев-Апост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0:05:55Z</dcterms:created>
  <dc:creator>Надежда</dc:creator>
  <dc:description/>
  <dc:language>en-US</dc:language>
  <cp:lastModifiedBy>Макаров</cp:lastModifiedBy>
  <dcterms:modified xsi:type="dcterms:W3CDTF">2012-11-06T04:59:34Z</dcterms:modified>
  <cp:revision>26</cp:revision>
  <dc:subject/>
  <dc:title>Восстание декабристов.  Декабристы на Кубани.</dc:title>
</cp:coreProperties>
</file>