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0E5-CDF5-41BE-A9B7-081F806B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5FD-A0FE-4AAF-B582-0F5069E2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39C-37C0-44C8-A272-0FCFA2AE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05B-FE0D-4BBD-B30A-FDA4D0C1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4FC3-ADA1-4482-AF44-4F07D853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CE02-69EA-4B22-B9B8-A149DF3F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B246-CAB2-49F1-A421-83E41DFB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C122-8F83-4395-B080-05880B82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8AB2-D281-4513-83FA-CBFE107B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DB0A-2A20-45A1-AF1A-90E9F5FA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87B7-F890-4376-900F-0BC81C3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4DC-F7D3-43B4-B244-683C5A3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B169-0BDA-445F-AF74-18DFDC50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6145-9217-4436-8918-022C0A9F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D531-E604-4FA7-9581-BA46B3A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E87A-AFDE-4806-99B7-126729E0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1022-0082-45E0-A162-6F369200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9E4-4936-48C0-9462-22CE8962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906-8954-4AE4-9FE7-DDDE139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D6F-55A0-4EED-8D17-EFF1BCDE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161-CD77-4C31-A810-06E57A4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9C2-FA18-477C-90FC-B7EB167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9AD-4C05-47C8-86CB-741D17A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CCB-F10E-4D20-BBE4-CB49F09D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2CFB-FF14-461D-84BA-BD4191C08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8CA-027D-4822-B068-F76A26AD8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Органы чувств и </a:t>
            </a: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нервная систем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782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 уроку окружающего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3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зрения-гл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слуха- уш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05120"/>
            <a:ext cx="558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боняния-н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85436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вкуса- язы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сязания-кож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582560"/>
            <a:ext cx="511668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549000"/>
            <a:ext cx="44863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рвная систем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nervous_system4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Scan0001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14:14Z</dcterms:created>
  <dc:creator>Admin</dc:creator>
  <dc:description/>
  <dc:language>en-US</dc:language>
  <cp:lastModifiedBy>Admin</cp:lastModifiedBy>
  <dcterms:modified xsi:type="dcterms:W3CDTF">2011-03-09T11:49:25Z</dcterms:modified>
  <cp:revision>4</cp:revision>
  <dc:subject/>
  <dc:title>Органы чувств</dc:title>
</cp:coreProperties>
</file>