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14.jpeg" ContentType="image/jpeg"/>
  <Override PartName="/ppt/media/image22.png" ContentType="image/png"/>
  <Override PartName="/ppt/media/image5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1.gif" ContentType="image/gif"/>
  <Override PartName="/ppt/media/image10.png" ContentType="image/png"/>
  <Override PartName="/ppt/media/image6.jpeg" ContentType="image/jpeg"/>
  <Override PartName="/ppt/media/image2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950B-8ED8-41E9-B048-CF59D09EA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9D4E-5B71-49A6-B44D-885DDC5F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96DC-2C46-442A-87A6-91C6AEE04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5AFE-AFBE-41ED-9812-67209F84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2062-F5E9-47A6-AE31-04AD19127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07E9-DFEA-4FC2-B740-8F4883CD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1333-EBBD-4419-99AF-E6A33CBF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F883-1814-4237-9C6A-F0B97139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494F-02C8-47C9-8B06-E7C84159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E781-4584-4C6E-A8B8-7A0436C4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D2C6-29D0-4192-8736-54D4A471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E6AE-CB7D-4EA2-BE93-9860DD2F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5B93-39B9-4E15-96F3-057A5AAD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D0EA-93CE-4F4B-AE65-387304E1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4B56-9E30-48B3-A13A-506C9611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F505-CB71-4194-B6A9-D64A2FECC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992C-41C6-4E8F-9C4E-D5FBA70DD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75C1B-791B-4D3C-9798-D36008AE8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C122B-9EFD-4616-B87A-2C3C64E1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2B8E8-63FF-4A6A-BA82-3F90A629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B4A90-B94F-4359-832F-C2081EBF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175C5-AA47-4536-9108-977A0E2C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A481-A75D-4C95-A672-D2098072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8DE56-2A75-4386-AA36-A7F65998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56EE7-759E-4E68-BAC1-85AF59EC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D1070-12A4-4AF6-8073-63B281EA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15088-4F8F-41DE-9219-7946FAAC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60448-7A79-44F2-9610-E9B0018F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BB5A9-AAA7-4D81-979C-4EE3EAFDA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A297C-FA93-4E87-9A8F-0C5235D1B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9BB92-8C1A-4C50-87C2-B63E40C1E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E84D6-A251-4BBA-8812-44CF1709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87561-9945-4E27-8972-4AAC6E44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693D-2761-4D4B-9B26-ED622BD2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B53C1-291D-4E03-A719-392316CF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262C9-BB1E-4F7F-AB9B-B0CFF227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6140D-0952-4B38-9DCE-27FC33CC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B25BB-E496-4618-AE56-7E0183CC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2CBA4-475F-4F99-9C1F-A04FCCE6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554A8-5045-44BF-939D-A3C67341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F9E6F-6F5F-48BB-ADAE-59B34747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11271-C93E-45B8-B780-165477DFA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7CEFF-3DFF-443F-8AB7-D479A8978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F3F2C-2F34-49B9-A9BF-415C16423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1C0A-4A46-4AE7-A6D2-7BF55186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D68D0-BA15-4FE2-AE61-D3FCC602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327F8-4717-470D-BD0C-9A3BA5B5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6110E-34E3-4958-9101-D51C9B66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1EAD8-04E6-4D17-B2D1-571AC76C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23A29-88C8-4D35-94E8-822465A8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6A957-B72B-4424-93F2-3E4F37F2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0197C-26F5-4602-A9FA-65C615E8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09E2D-B3A6-4EEE-AD80-E165DE2C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72606-76F4-4DF1-B647-6F3E0E4F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D44AE-2D80-4F57-835D-437E5BC9F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C0FF-7D43-4833-8BD4-484042F6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B472C-FFF9-46B5-B2BE-036143063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B7D3-0CA2-47B4-8946-D8D9B10E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8170-08D3-4B1A-ADE3-CBFFD4E2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BD5D-1BE7-403D-8364-FB288213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FDD2-F8C0-463C-8EEE-D10B3BC77D6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5175-A504-4FDF-8B8B-D4035BE80108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B051-8119-4631-9500-B293251F8FD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95B3-0DDC-47EE-A9E9-531CB7A8F6B2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EF47-1763-4131-84DA-213B2D59C936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3572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547640" y="47592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Урок №13                         3 класс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Рисунок 5" descr="1265024397311.jpg"/>
          <p:cNvPicPr/>
          <p:nvPr/>
        </p:nvPicPr>
        <p:blipFill>
          <a:blip r:embed="rId2"/>
          <a:stretch/>
        </p:blipFill>
        <p:spPr>
          <a:xfrm>
            <a:off x="142920" y="4500720"/>
            <a:ext cx="2428920" cy="221436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6" descr="комп2.jpg"/>
          <p:cNvPicPr/>
          <p:nvPr/>
        </p:nvPicPr>
        <p:blipFill>
          <a:blip r:embed="rId3"/>
          <a:srcRect l="7316" t="9756" r="9756" b="19513"/>
          <a:stretch/>
        </p:blipFill>
        <p:spPr>
          <a:xfrm>
            <a:off x="142920" y="2357280"/>
            <a:ext cx="24289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212760" y="208080"/>
            <a:ext cx="7493040" cy="725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285840" y="1357200"/>
            <a:ext cx="3571920" cy="2857680"/>
          </a:xfrm>
          <a:prstGeom prst="rect">
            <a:avLst/>
          </a:prstGeom>
          <a:solidFill>
            <a:srgbClr val="f4e7ed"/>
          </a:solidFill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бор информаци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едставление информаци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одирование информаци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Хранение информаци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бработка информаци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Рисунок 5" descr="800px-Obrabotka.jpg"/>
          <p:cNvPicPr/>
          <p:nvPr/>
        </p:nvPicPr>
        <p:blipFill>
          <a:blip r:embed="rId2"/>
          <a:stretch/>
        </p:blipFill>
        <p:spPr>
          <a:xfrm>
            <a:off x="3929040" y="1285920"/>
            <a:ext cx="40514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2" descr=""/>
          <p:cNvPicPr/>
          <p:nvPr/>
        </p:nvPicPr>
        <p:blipFill>
          <a:blip r:embed="rId1"/>
          <a:stretch/>
        </p:blipFill>
        <p:spPr>
          <a:xfrm>
            <a:off x="212760" y="420840"/>
            <a:ext cx="7961400" cy="585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571680" y="1142640"/>
            <a:ext cx="74736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амять человека обеспечивает ему способность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0120" indent="-240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учиться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0120" indent="-240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работать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0120" indent="-240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беспечивать свою жизнедеятельность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0120" indent="-240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безопасность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Рисунок 7" descr="wpid-d0bcd0bed0b7d0b3.jpg"/>
          <p:cNvPicPr/>
          <p:nvPr/>
        </p:nvPicPr>
        <p:blipFill>
          <a:blip r:embed="rId2"/>
          <a:stretch/>
        </p:blipFill>
        <p:spPr>
          <a:xfrm>
            <a:off x="2786040" y="2643120"/>
            <a:ext cx="41752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3" descr="02_sm.jpg"/>
          <p:cNvPicPr/>
          <p:nvPr/>
        </p:nvPicPr>
        <p:blipFill>
          <a:blip r:embed="rId1"/>
          <a:stretch/>
        </p:blipFill>
        <p:spPr>
          <a:xfrm>
            <a:off x="-258840" y="0"/>
            <a:ext cx="981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212760" y="281160"/>
            <a:ext cx="7493040" cy="7254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1928520" y="1213920"/>
            <a:ext cx="47149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Книги – для длительного хранения информаци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Компьютер – инструмент для хранения закодированной информаци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Электронные носители информаци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Рисунок 5" descr="comp_4.jpg"/>
          <p:cNvPicPr/>
          <p:nvPr/>
        </p:nvPicPr>
        <p:blipFill>
          <a:blip r:embed="rId2"/>
          <a:stretch/>
        </p:blipFill>
        <p:spPr>
          <a:xfrm>
            <a:off x="214200" y="2786040"/>
            <a:ext cx="1500480" cy="150012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6" descr="i.jpg"/>
          <p:cNvPicPr/>
          <p:nvPr/>
        </p:nvPicPr>
        <p:blipFill>
          <a:blip r:embed="rId3"/>
          <a:stretch/>
        </p:blipFill>
        <p:spPr>
          <a:xfrm>
            <a:off x="428760" y="1357200"/>
            <a:ext cx="1006200" cy="100008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7" descr="1284970462_cd-dvd.jpg"/>
          <p:cNvPicPr/>
          <p:nvPr/>
        </p:nvPicPr>
        <p:blipFill>
          <a:blip r:embed="rId4"/>
          <a:stretch/>
        </p:blipFill>
        <p:spPr>
          <a:xfrm>
            <a:off x="214200" y="4929120"/>
            <a:ext cx="1357560" cy="101772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8" descr="mediatheque_NZ.gif"/>
          <p:cNvPicPr/>
          <p:nvPr/>
        </p:nvPicPr>
        <p:blipFill>
          <a:blip r:embed="rId5"/>
          <a:stretch/>
        </p:blipFill>
        <p:spPr>
          <a:xfrm>
            <a:off x="6500880" y="2643120"/>
            <a:ext cx="1466640" cy="183852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9" descr="1l.gif"/>
          <p:cNvPicPr/>
          <p:nvPr/>
        </p:nvPicPr>
        <p:blipFill>
          <a:blip r:embed="rId6"/>
          <a:stretch/>
        </p:blipFill>
        <p:spPr>
          <a:xfrm>
            <a:off x="6357960" y="4929120"/>
            <a:ext cx="16286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474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428480"/>
            <a:ext cx="72388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Действия с информацией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аписывать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апоминать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ередавать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бмениваться;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хранить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обирать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Собирать информацию — это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аблюдать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мотреть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читать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Представлять информацию — это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аписывать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исовать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еть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C:\Users\1\Desktop\ТИО 07.11.12\2.gif"/>
          <p:cNvPicPr/>
          <p:nvPr/>
        </p:nvPicPr>
        <p:blipFill>
          <a:blip r:embed="rId2"/>
          <a:stretch/>
        </p:blipFill>
        <p:spPr>
          <a:xfrm>
            <a:off x="1857240" y="1428840"/>
            <a:ext cx="476748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285480" y="1600200"/>
            <a:ext cx="778644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аписать в рабочую тетрадь новые слов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инести носители информации которыми вы пользуйтес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4:47:43Z</dcterms:created>
  <dc:creator>Наталья</dc:creator>
  <dc:description/>
  <dc:language>en-US</dc:language>
  <cp:lastModifiedBy>1</cp:lastModifiedBy>
  <dcterms:modified xsi:type="dcterms:W3CDTF">2012-11-06T17:56:54Z</dcterms:modified>
  <cp:revision>21</cp:revision>
  <dc:subject/>
  <dc:title>Хранение информации </dc:title>
</cp:coreProperties>
</file>