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8.png" ContentType="image/png"/>
  <Override PartName="/ppt/media/image14.jpeg" ContentType="image/jpeg"/>
  <Override PartName="/ppt/media/image22.png" ContentType="image/png"/>
  <Override PartName="/ppt/media/image5.png" ContentType="image/png"/>
  <Override PartName="/ppt/media/image19.png" ContentType="image/pn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21.gif" ContentType="image/gif"/>
  <Override PartName="/ppt/media/image10.png" ContentType="image/png"/>
  <Override PartName="/ppt/media/image6.jpeg" ContentType="image/jpeg"/>
  <Override PartName="/ppt/media/image2.jpeg" ContentType="image/jpeg"/>
  <Override PartName="/ppt/media/image3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1F74-A6E0-4804-BFDD-5490824D0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E17F-56C8-4B2E-86E9-FEC16AA15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F194-D110-4537-8F6B-8486038BA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5D4E-B5A7-491B-9473-14394A292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9A50E-85BE-4296-A796-56DB17EC3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C2893-23CA-4C2A-9A82-BBEB67223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03F76-48DC-46D8-80E3-CE62C33DE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C12C5-044E-439C-A6F6-E7727D62D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135F6-9AE2-4D64-8878-93E9A6492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957DF-87F3-4C1D-8B3C-E2C2EF9F8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8ADAE-4FDD-4E9D-A959-C39CD536F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B6D5-8E87-4E98-8A55-AED7FC241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01F08-3BD2-44D9-86ED-8CB7B2420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00A5B-D89C-4408-ABF0-A6704CB84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61C0D-73A2-47E8-B91B-379A7F108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021EE-80DC-4B21-9144-518A0EE0C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3785D-5F04-45F9-A77A-ACE7E6E7D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E29BB8-7BA5-4B44-A0DF-8A81F07F8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681DDD-6EEA-4E38-92D6-08E8F5A4B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E0BCBF-29E4-4F48-A8AE-059CC46F2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42431A-5175-4C15-B602-3C090D321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6AE6F1-27E7-4AC7-AF6B-919EEEFE7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F8F1-DFFE-4470-9191-7D839720C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9E973B-CD07-4BA1-9A00-4A6355A7E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D1554F-A558-45F2-A5F6-D6C443F29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A290CF-173F-4781-ABC3-B4B1E6642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033428-466C-451F-B66C-960C3FEA8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C1D440-3090-43FC-9CB6-D28B13CD7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AC0E0B-A570-4FD1-8D47-F894624E9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FA2393-C04C-42F4-8EED-5E7AC8BF8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256AC7-2826-4036-B5FD-429608F68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A89741-9A5D-47E2-8CB3-029943036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5C3D3A-23E9-4BE5-A9D4-9C4930C88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404C-E889-4B1B-9405-8739D2F74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41AE70-635F-474C-BBDD-55B15A37E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C2D2D9-7CCF-403B-802C-E3C5A4649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59E1F3-B915-4ECA-8E28-BC2F5B3A1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BAD2D7-23D0-43C7-AA9C-E7026BD17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8635A9-F563-40B9-8978-A2BA5A526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542FEB-A18D-4D69-B2AF-D95AB805E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B8F4A3-AB4B-48A8-AA53-1CD1D748F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7079F8-657C-4E09-BF42-D778E39E5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4AFD79-ECBE-48BC-A9C7-C48BDE35B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96BAD7-8C9D-4A86-89F5-0E92C0717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867C-3CD7-4CA5-A1F4-08740E0B2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471A35-2ECA-4CD8-BA9D-44E05E003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F90AFF-0DF1-49F2-BFAA-A08CCF351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3B0D7D-0A5A-49C0-9410-428C2A0A3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2F0338-033F-4AE1-8237-B96063AC7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C42B76-CAB6-4585-8506-F2E9DBF11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ACD802-1DF8-4EB5-A489-96410B745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E3849B-4617-4EE2-BF6C-3678F33D5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6EA3C6-731F-44AF-840C-096B4E1BE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D969F8-A679-4093-A348-B3F67A197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C91ADD-FB01-4A65-A5D5-53CD1F4BC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B774-C5FC-451C-BC71-4F9FB419A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2F2280-C513-4EF8-8359-1E04CC791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BCD8-44B4-4337-BD65-F8C5A376C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E164-856A-4193-89F9-71C5D782F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0EC4-BD45-4660-8B71-F7D086300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D2A9D-F3CF-4D0B-9596-8328AB62B91B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4F2EB-730D-493C-9713-5679C1CBA95D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EC615-7EEF-42E4-9597-A26A059D815E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3B0E9-D6CA-45FF-BCCE-634811260DDD}" type="slidenum">
              <a:rPr b="0" lang="ru-RU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A2AEE-871C-49FB-99C5-10A677458ACA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Rectangle 2" descr=""/>
          <p:cNvPicPr/>
          <p:nvPr/>
        </p:nvPicPr>
        <p:blipFill>
          <a:blip r:embed="rId1"/>
          <a:stretch/>
        </p:blipFill>
        <p:spPr>
          <a:xfrm>
            <a:off x="3359160" y="530280"/>
            <a:ext cx="5535720" cy="287820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1547640" y="475920"/>
            <a:ext cx="6400800" cy="695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Урок №13                         3 класс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2" name="Рисунок 5" descr="1265024397311.jpg"/>
          <p:cNvPicPr/>
          <p:nvPr/>
        </p:nvPicPr>
        <p:blipFill>
          <a:blip r:embed="rId2"/>
          <a:stretch/>
        </p:blipFill>
        <p:spPr>
          <a:xfrm>
            <a:off x="142920" y="4500720"/>
            <a:ext cx="2428920" cy="2214360"/>
          </a:xfrm>
          <a:prstGeom prst="rect">
            <a:avLst/>
          </a:prstGeom>
          <a:ln w="0">
            <a:noFill/>
          </a:ln>
        </p:spPr>
      </p:pic>
      <p:pic>
        <p:nvPicPr>
          <p:cNvPr id="223" name="Рисунок 6" descr="комп2.jpg"/>
          <p:cNvPicPr/>
          <p:nvPr/>
        </p:nvPicPr>
        <p:blipFill>
          <a:blip r:embed="rId3"/>
          <a:srcRect l="7316" t="9756" r="9756" b="19513"/>
          <a:stretch/>
        </p:blipFill>
        <p:spPr>
          <a:xfrm>
            <a:off x="142920" y="2357280"/>
            <a:ext cx="242892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Rectangle 2" descr=""/>
          <p:cNvPicPr/>
          <p:nvPr/>
        </p:nvPicPr>
        <p:blipFill>
          <a:blip r:embed="rId1"/>
          <a:stretch/>
        </p:blipFill>
        <p:spPr>
          <a:xfrm>
            <a:off x="212760" y="208080"/>
            <a:ext cx="7493040" cy="7254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 txBox="1"/>
          <p:nvPr/>
        </p:nvSpPr>
        <p:spPr>
          <a:xfrm>
            <a:off x="285840" y="1357200"/>
            <a:ext cx="3571920" cy="2857680"/>
          </a:xfrm>
          <a:prstGeom prst="rect">
            <a:avLst/>
          </a:prstGeom>
          <a:solidFill>
            <a:srgbClr val="f4e7ed"/>
          </a:solidFill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15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Сбор информации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15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Представление информации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15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Кодирование информации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15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Хранение информации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15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Обработка информации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6" name="Рисунок 5" descr="800px-Obrabotka.jpg"/>
          <p:cNvPicPr/>
          <p:nvPr/>
        </p:nvPicPr>
        <p:blipFill>
          <a:blip r:embed="rId2"/>
          <a:stretch/>
        </p:blipFill>
        <p:spPr>
          <a:xfrm>
            <a:off x="3929040" y="1285920"/>
            <a:ext cx="405144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Rectangle 2" descr=""/>
          <p:cNvPicPr/>
          <p:nvPr/>
        </p:nvPicPr>
        <p:blipFill>
          <a:blip r:embed="rId1"/>
          <a:stretch/>
        </p:blipFill>
        <p:spPr>
          <a:xfrm>
            <a:off x="212760" y="420840"/>
            <a:ext cx="7961400" cy="5857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 txBox="1"/>
          <p:nvPr/>
        </p:nvSpPr>
        <p:spPr>
          <a:xfrm>
            <a:off x="571680" y="1142640"/>
            <a:ext cx="74736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40120" indent="-240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Память человека обеспечивает ему способность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40120" indent="-2401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учиться,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40120" indent="-2401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работать,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40120" indent="-2401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обеспечивать свою жизнедеятельность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40120" indent="-2401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безопасность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9" name="Рисунок 7" descr="wpid-d0bcd0bed0b7d0b3.jpg"/>
          <p:cNvPicPr/>
          <p:nvPr/>
        </p:nvPicPr>
        <p:blipFill>
          <a:blip r:embed="rId2"/>
          <a:stretch/>
        </p:blipFill>
        <p:spPr>
          <a:xfrm>
            <a:off x="2786040" y="2643120"/>
            <a:ext cx="417528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Рисунок 3" descr="02_sm.jpg"/>
          <p:cNvPicPr/>
          <p:nvPr/>
        </p:nvPicPr>
        <p:blipFill>
          <a:blip r:embed="rId1"/>
          <a:stretch/>
        </p:blipFill>
        <p:spPr>
          <a:xfrm>
            <a:off x="-258840" y="0"/>
            <a:ext cx="9810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Rectangle 2" descr=""/>
          <p:cNvPicPr/>
          <p:nvPr/>
        </p:nvPicPr>
        <p:blipFill>
          <a:blip r:embed="rId1"/>
          <a:stretch/>
        </p:blipFill>
        <p:spPr>
          <a:xfrm>
            <a:off x="212760" y="281160"/>
            <a:ext cx="7493040" cy="72540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1928520" y="1213920"/>
            <a:ext cx="471492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Книги – для длительного хранения информации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Компьютер – инструмент для хранения закодированной информации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Электронные носители информации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3" name="Рисунок 5" descr="comp_4.jpg"/>
          <p:cNvPicPr/>
          <p:nvPr/>
        </p:nvPicPr>
        <p:blipFill>
          <a:blip r:embed="rId2"/>
          <a:stretch/>
        </p:blipFill>
        <p:spPr>
          <a:xfrm>
            <a:off x="214200" y="2786040"/>
            <a:ext cx="1500480" cy="1500120"/>
          </a:xfrm>
          <a:prstGeom prst="rect">
            <a:avLst/>
          </a:prstGeom>
          <a:ln w="0">
            <a:noFill/>
          </a:ln>
        </p:spPr>
      </p:pic>
      <p:pic>
        <p:nvPicPr>
          <p:cNvPr id="234" name="Рисунок 6" descr="i.jpg"/>
          <p:cNvPicPr/>
          <p:nvPr/>
        </p:nvPicPr>
        <p:blipFill>
          <a:blip r:embed="rId3"/>
          <a:stretch/>
        </p:blipFill>
        <p:spPr>
          <a:xfrm>
            <a:off x="428760" y="1357200"/>
            <a:ext cx="1006200" cy="1000080"/>
          </a:xfrm>
          <a:prstGeom prst="rect">
            <a:avLst/>
          </a:prstGeom>
          <a:ln w="0">
            <a:noFill/>
          </a:ln>
        </p:spPr>
      </p:pic>
      <p:pic>
        <p:nvPicPr>
          <p:cNvPr id="235" name="Рисунок 7" descr="1284970462_cd-dvd.jpg"/>
          <p:cNvPicPr/>
          <p:nvPr/>
        </p:nvPicPr>
        <p:blipFill>
          <a:blip r:embed="rId4"/>
          <a:stretch/>
        </p:blipFill>
        <p:spPr>
          <a:xfrm>
            <a:off x="214200" y="4929120"/>
            <a:ext cx="1357560" cy="1017720"/>
          </a:xfrm>
          <a:prstGeom prst="rect">
            <a:avLst/>
          </a:prstGeom>
          <a:ln w="0">
            <a:noFill/>
          </a:ln>
        </p:spPr>
      </p:pic>
      <p:pic>
        <p:nvPicPr>
          <p:cNvPr id="236" name="Рисунок 8" descr="mediatheque_NZ.gif"/>
          <p:cNvPicPr/>
          <p:nvPr/>
        </p:nvPicPr>
        <p:blipFill>
          <a:blip r:embed="rId5"/>
          <a:stretch/>
        </p:blipFill>
        <p:spPr>
          <a:xfrm>
            <a:off x="6500880" y="2643120"/>
            <a:ext cx="1466640" cy="1838520"/>
          </a:xfrm>
          <a:prstGeom prst="rect">
            <a:avLst/>
          </a:prstGeom>
          <a:ln w="0">
            <a:noFill/>
          </a:ln>
        </p:spPr>
      </p:pic>
      <p:pic>
        <p:nvPicPr>
          <p:cNvPr id="237" name="Рисунок 9" descr="1l.gif"/>
          <p:cNvPicPr/>
          <p:nvPr/>
        </p:nvPicPr>
        <p:blipFill>
          <a:blip r:embed="rId6"/>
          <a:stretch/>
        </p:blipFill>
        <p:spPr>
          <a:xfrm>
            <a:off x="6357960" y="4929120"/>
            <a:ext cx="1628640" cy="14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Заголовок 1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147492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 txBox="1"/>
          <p:nvPr/>
        </p:nvSpPr>
        <p:spPr>
          <a:xfrm>
            <a:off x="457200" y="1428480"/>
            <a:ext cx="723888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Действия с информацией: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записывать;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запоминать;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передавать;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обмениваться; 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хранить;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собирать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Собирать информацию — это: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наблюдать;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смотреть;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читать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Представлять информацию — это: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записывать;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рисовать;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петь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Заголовок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2" descr="C:\Users\1\Desktop\ТИО 07.11.12\2.gif"/>
          <p:cNvPicPr/>
          <p:nvPr/>
        </p:nvPicPr>
        <p:blipFill>
          <a:blip r:embed="rId2"/>
          <a:stretch/>
        </p:blipFill>
        <p:spPr>
          <a:xfrm>
            <a:off x="1857240" y="1428840"/>
            <a:ext cx="4767480" cy="42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Rectangl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 txBox="1"/>
          <p:nvPr/>
        </p:nvSpPr>
        <p:spPr>
          <a:xfrm>
            <a:off x="285480" y="1600200"/>
            <a:ext cx="778644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Записать в рабочую тетрадь новые слова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Принести носители информации которыми вы пользуйтесь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8T14:47:43Z</dcterms:created>
  <dc:creator>Наталья</dc:creator>
  <dc:description/>
  <dc:language>en-US</dc:language>
  <cp:lastModifiedBy>1</cp:lastModifiedBy>
  <dcterms:modified xsi:type="dcterms:W3CDTF">2012-11-06T17:56:54Z</dcterms:modified>
  <cp:revision>21</cp:revision>
  <dc:subject/>
  <dc:title>Хранение информации </dc:title>
</cp:coreProperties>
</file>