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22.png" ContentType="image/png"/>
  <Override PartName="/ppt/media/image5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1.gif" ContentType="image/gif"/>
  <Override PartName="/ppt/media/image10.png" ContentType="image/png"/>
  <Override PartName="/ppt/media/image6.jpeg" ContentType="image/jpeg"/>
  <Override PartName="/ppt/media/image2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D401-D325-4CB9-BBFE-A4EB3EBD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768-DED6-4CDC-BC32-4DFFA322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436-0212-410D-BD1D-549132BA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81E-6620-4293-B497-4574CAA3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21BC-F564-4F7B-AEDA-8DD366A7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6511-E2F5-4E77-893E-5D0864F2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3F10-E395-407C-97DA-2EFEA148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6A68-A3D9-4B59-A17F-1022C1BA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92DD-4FCB-4E8D-BEB6-DD488B44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9817-C2C9-42E6-91D6-CE3DBF3C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5866-D7DC-4AFF-A2DF-4E22E19F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3024-97A5-4765-A6A6-6A06B08D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803D-68EA-4AD9-8BA2-4CB57BBC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36A2-0A2A-49F5-A391-59B0BC1B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D115-3937-476E-AC2A-88BA7FE4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3314-C5D2-429D-B6C4-23009F60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A9DB-083C-4877-84B8-13B7D011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86B70-D878-45C5-9E50-9D328AE4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FD145-E23B-419C-9EBD-DC14CA15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DAD3E-CC6C-4F1D-8C88-448E2703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ACF44-365F-40F6-B98B-2A9929A7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3E2CF-0889-4852-99D5-E293B067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9D2-0EED-458A-91B1-C54114AC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27323-A79F-40FE-8C5D-00D97F0D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4904E-15B9-4F37-AE1D-D3E7F3E5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7A718-1303-4DB8-BABF-65E13205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2508B-5565-4A13-9EDF-482187F7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087E2-1A37-4FF7-8EDD-8211E825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13A4D-4BB7-411E-BB2C-C8BC229F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7DCF9-A688-4FD5-AB5A-42943103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03845-5433-4106-B6A6-474985BB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A6B5B-EAF5-4920-851A-70F047AA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BF5DB-35DB-4AED-87BE-ED89230E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0BB-37C4-47D1-8750-5A2272AA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DB446-BB9E-4A91-B538-7D7BA9AC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CF39E-8F10-4D0A-B617-C86B0442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D262E-4427-45A0-BF24-998051DE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E5F21-119B-4364-B824-8065DB47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7CFAE-BCC7-4F1C-9D31-D8C7EA1A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04116-C43A-4308-82D6-D458AD6F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67446-6B04-4B87-ADF4-6A731483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056B4-9F07-4AAD-A5F7-FB83F4C3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73A34-235A-4336-B07A-AA4ABF59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BB1E8-BB2A-432C-AAD8-63790C74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FE6-51F7-427D-83A9-8FA64C66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1708C-7955-4BF6-8758-B6D50CF2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25F12-673C-47D9-992A-860A52D3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E6E78-3A06-4192-9224-4E541221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4546E-F20D-460C-A5DC-FBBBF3D4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F0757-7F42-4D3C-9ECE-15C8223D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14530-CCB9-42E1-A4CC-9E5255BD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80568-E2C1-42BD-86FE-3FD92B60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CB378-80B9-4F31-8C03-0AA4A229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71EE9-8E47-44EE-9A55-EF653112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F3FDF-BA36-4D31-9F2F-46DD4621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D63-B5F1-4BAA-9505-C727A4F4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2A206-5A1F-40C5-BE45-6F49BA80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6D9-037B-47F3-8942-606D46E6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1F1-233C-4E37-BD6E-EEF6FEBC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0A3-DFBC-4F02-920E-E24BDDEB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A18C-9306-4918-A095-FB0C3844E85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0B60-D6DF-4FAC-A3DD-56CB86FAD50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7154-8A8C-4D39-9468-47F3BB598B7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AD20-2152-4DD7-AE59-F3BECF681BD8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C154-7066-4BFB-901C-E8940E1C1B1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3572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547640" y="47592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Урок №13                         3 класс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Рисунок 5" descr="1265024397311.jpg"/>
          <p:cNvPicPr/>
          <p:nvPr/>
        </p:nvPicPr>
        <p:blipFill>
          <a:blip r:embed="rId2"/>
          <a:stretch/>
        </p:blipFill>
        <p:spPr>
          <a:xfrm>
            <a:off x="142920" y="4500720"/>
            <a:ext cx="2428920" cy="22143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комп2.jpg"/>
          <p:cNvPicPr/>
          <p:nvPr/>
        </p:nvPicPr>
        <p:blipFill>
          <a:blip r:embed="rId3"/>
          <a:srcRect l="7316" t="9756" r="9756" b="19513"/>
          <a:stretch/>
        </p:blipFill>
        <p:spPr>
          <a:xfrm>
            <a:off x="142920" y="2357280"/>
            <a:ext cx="24289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285840" y="1357200"/>
            <a:ext cx="3571920" cy="2857680"/>
          </a:xfrm>
          <a:prstGeom prst="rect">
            <a:avLst/>
          </a:prstGeom>
          <a:solidFill>
            <a:srgbClr val="f4e7ed"/>
          </a:solidFill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бор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едставление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дирование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ранение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работка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Рисунок 5" descr="800px-Obrabotka.jpg"/>
          <p:cNvPicPr/>
          <p:nvPr/>
        </p:nvPicPr>
        <p:blipFill>
          <a:blip r:embed="rId2"/>
          <a:stretch/>
        </p:blipFill>
        <p:spPr>
          <a:xfrm>
            <a:off x="3929040" y="1285920"/>
            <a:ext cx="40514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212760" y="420840"/>
            <a:ext cx="7961400" cy="585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571680" y="1142640"/>
            <a:ext cx="7473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амять человека обеспечивает ему способность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читься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аботать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беспечивать свою жизнедеятельност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езопасност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Рисунок 7" descr="wpid-d0bcd0bed0b7d0b3.jpg"/>
          <p:cNvPicPr/>
          <p:nvPr/>
        </p:nvPicPr>
        <p:blipFill>
          <a:blip r:embed="rId2"/>
          <a:stretch/>
        </p:blipFill>
        <p:spPr>
          <a:xfrm>
            <a:off x="2786040" y="2643120"/>
            <a:ext cx="41752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3" descr="02_sm.jpg"/>
          <p:cNvPicPr/>
          <p:nvPr/>
        </p:nvPicPr>
        <p:blipFill>
          <a:blip r:embed="rId1"/>
          <a:stretch/>
        </p:blipFill>
        <p:spPr>
          <a:xfrm>
            <a:off x="-258840" y="0"/>
            <a:ext cx="981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928520" y="1213920"/>
            <a:ext cx="4714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ниги – для длительного хранения информаци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омпьютер – инструмент для хранения закодированной информаци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Электронные носители информа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Рисунок 5" descr="comp_4.jpg"/>
          <p:cNvPicPr/>
          <p:nvPr/>
        </p:nvPicPr>
        <p:blipFill>
          <a:blip r:embed="rId2"/>
          <a:stretch/>
        </p:blipFill>
        <p:spPr>
          <a:xfrm>
            <a:off x="214200" y="278604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6" descr="i.jpg"/>
          <p:cNvPicPr/>
          <p:nvPr/>
        </p:nvPicPr>
        <p:blipFill>
          <a:blip r:embed="rId3"/>
          <a:stretch/>
        </p:blipFill>
        <p:spPr>
          <a:xfrm>
            <a:off x="428760" y="1357200"/>
            <a:ext cx="1006200" cy="10000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7" descr="1284970462_cd-dvd.jpg"/>
          <p:cNvPicPr/>
          <p:nvPr/>
        </p:nvPicPr>
        <p:blipFill>
          <a:blip r:embed="rId4"/>
          <a:stretch/>
        </p:blipFill>
        <p:spPr>
          <a:xfrm>
            <a:off x="214200" y="4929120"/>
            <a:ext cx="1357560" cy="10177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8" descr="mediatheque_NZ.gif"/>
          <p:cNvPicPr/>
          <p:nvPr/>
        </p:nvPicPr>
        <p:blipFill>
          <a:blip r:embed="rId5"/>
          <a:stretch/>
        </p:blipFill>
        <p:spPr>
          <a:xfrm>
            <a:off x="6500880" y="2643120"/>
            <a:ext cx="1466640" cy="18385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9" descr="1l.gif"/>
          <p:cNvPicPr/>
          <p:nvPr/>
        </p:nvPicPr>
        <p:blipFill>
          <a:blip r:embed="rId6"/>
          <a:stretch/>
        </p:blipFill>
        <p:spPr>
          <a:xfrm>
            <a:off x="6357960" y="4929120"/>
            <a:ext cx="16286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474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428480"/>
            <a:ext cx="7238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Действия с информацией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исыв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омин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редав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мениваться;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рани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бир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обирать информацию — это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блюд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мотре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ит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редставлять информацию — это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исыв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исов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т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Users\1\Desktop\ТИО 07.11.12\2.gif"/>
          <p:cNvPicPr/>
          <p:nvPr/>
        </p:nvPicPr>
        <p:blipFill>
          <a:blip r:embed="rId2"/>
          <a:stretch/>
        </p:blipFill>
        <p:spPr>
          <a:xfrm>
            <a:off x="1857240" y="1428840"/>
            <a:ext cx="476748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285480" y="1600200"/>
            <a:ext cx="7786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исать в рабочую тетрадь новые слов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инести носители информации которыми вы пользуйтес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4:47:43Z</dcterms:created>
  <dc:creator>Наталья</dc:creator>
  <dc:description/>
  <dc:language>en-US</dc:language>
  <cp:lastModifiedBy>1</cp:lastModifiedBy>
  <dcterms:modified xsi:type="dcterms:W3CDTF">2012-11-06T17:56:54Z</dcterms:modified>
  <cp:revision>21</cp:revision>
  <dc:subject/>
  <dc:title>Хранение информации </dc:title>
</cp:coreProperties>
</file>