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4.jpeg" ContentType="image/jpeg"/>
  <Override PartName="/ppt/media/image22.png" ContentType="image/png"/>
  <Override PartName="/ppt/media/image5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1.gif" ContentType="image/gif"/>
  <Override PartName="/ppt/media/image10.png" ContentType="image/png"/>
  <Override PartName="/ppt/media/image6.jpeg" ContentType="image/jpeg"/>
  <Override PartName="/ppt/media/image2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ACDF-DF31-4720-B392-18CEEFFD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D247-0C39-4051-A57F-266131D8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69FF-B87D-4476-A50E-B115745C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6CD3-4CB4-40F2-9C8D-D127B073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A37D-B33D-49CC-A199-CFF47E36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F153-1BC9-44E2-A533-C2337F18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7BAF-2415-4277-AD55-0C35C99E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0F43-E00B-4B63-935E-A7CAC4DC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03FB-CE87-4438-9CBD-FFF5C0BC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549B-4153-4D23-8B9F-D1C55837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7B5C-5240-4D5B-A05A-F7A137FF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5A70-D960-480C-ADBF-15D2325C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E5E4-2E7F-44F6-8C45-ECE5270F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0FC4-CF7C-4B48-B7CD-F08A019F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605E-9EB5-44CE-AE60-F1E5DE35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55FC-5648-44E4-A7EB-0A76BAC2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3BB7-C659-44FA-9CF4-C71C8D67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D52A3-2210-40FA-A8BF-05B24893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4C94B-6664-483B-B3AE-8A96891E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D5D84-1D15-4E61-959B-47FD60CD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35741-E0C8-48B7-AEFC-4F218532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94114-7938-4692-8EF9-6D80D952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31D6-BE03-4EAC-BA5F-E66F1BC8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5F44A-A472-481F-BDE0-FABB9D6F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EA7C8-E732-4FF7-9446-E1C8A0A4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D2F28-5683-48FA-AA8B-13EADD9B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EAC5B-300F-4A43-96FF-27C3FF13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7ADCE-DBC0-4DDB-9187-D5E604B3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10A97-A732-47DA-B2A2-748416CA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41149-86AD-482E-96E7-AF86FA44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5A4A6-045C-4ACF-A8EA-B52DDF57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7028F-40FB-4280-B219-95BBA543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B9BC0-92C7-45FC-A325-6DE38855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0B68-E461-45B9-BCFE-5421B4A7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F0EC9-4437-4A30-8809-56A9E7A1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FA3A1-5451-44AE-8C84-3AAB1653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49897-1B59-4CC5-99EF-A005CEC2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107DF-F8EC-4C85-84B6-7E2DDB27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8A42B-F4AC-40CC-A942-904DF07A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10768-23FF-4AD2-9051-977BF9E3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14B4D-05A8-4A71-BB75-1EA3E831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CE8D4-B61E-4BD0-88E4-F19DE1C7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3D0C1-43F9-4700-B7C1-D6B72125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CD38B-6642-47EE-A67B-E8C61857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2388-9E97-4B94-BAC1-2A935ABF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BBA37-7955-4E40-863C-E4551BF3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0AE86-BEC1-409B-AB53-96D4DE0C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603AD-BA05-49E3-821C-E2EADFE7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9A150-F60E-4C66-9294-84A72E02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63E92-1EF4-4BA0-9B0C-596582E3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12554-9D37-40E0-82B4-9C10791C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A7733-A4A6-4A88-A5A9-9D7CD416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759AC-01A2-4452-86C1-8244DB1E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22EBE-D81D-4A52-8625-251768E8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C83ED-508D-4259-B2C8-E0C2743A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7915-0B78-46B0-A72F-A548362D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791EE-5B57-4D0F-B1FF-223D1C5C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9D43-9624-47D8-B299-91D186AF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CDD-725A-4531-B445-FD0C5CF4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BFD-586E-4AA6-9666-5151F4EE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7FE1-DF6C-4729-A67D-9BA59BE0B6A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3101-AC1D-475B-B493-5CDB5444C4D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A52A-61E2-4EAC-9471-36BE7D8E2BE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EC68-E763-4C81-A4BB-213EA745829C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E640-4AB5-4C3C-B664-048F3DB4106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3572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547640" y="47592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Урок №13                         3 класс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Рисунок 5" descr="1265024397311.jpg"/>
          <p:cNvPicPr/>
          <p:nvPr/>
        </p:nvPicPr>
        <p:blipFill>
          <a:blip r:embed="rId2"/>
          <a:stretch/>
        </p:blipFill>
        <p:spPr>
          <a:xfrm>
            <a:off x="142920" y="4500720"/>
            <a:ext cx="2428920" cy="221436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комп2.jpg"/>
          <p:cNvPicPr/>
          <p:nvPr/>
        </p:nvPicPr>
        <p:blipFill>
          <a:blip r:embed="rId3"/>
          <a:srcRect l="7316" t="9756" r="9756" b="19513"/>
          <a:stretch/>
        </p:blipFill>
        <p:spPr>
          <a:xfrm>
            <a:off x="142920" y="2357280"/>
            <a:ext cx="24289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285840" y="1357200"/>
            <a:ext cx="3571920" cy="2857680"/>
          </a:xfrm>
          <a:prstGeom prst="rect">
            <a:avLst/>
          </a:prstGeom>
          <a:solidFill>
            <a:srgbClr val="f4e7ed"/>
          </a:solidFill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бор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едставление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дирование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ранение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работка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Рисунок 5" descr="800px-Obrabotka.jpg"/>
          <p:cNvPicPr/>
          <p:nvPr/>
        </p:nvPicPr>
        <p:blipFill>
          <a:blip r:embed="rId2"/>
          <a:stretch/>
        </p:blipFill>
        <p:spPr>
          <a:xfrm>
            <a:off x="3929040" y="1285920"/>
            <a:ext cx="40514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212760" y="420840"/>
            <a:ext cx="7961400" cy="585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571680" y="1142640"/>
            <a:ext cx="7473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амять человека обеспечивает ему способность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читься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аботать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беспечивать свою жизнедеятельност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езопасност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Рисунок 7" descr="wpid-d0bcd0bed0b7d0b3.jpg"/>
          <p:cNvPicPr/>
          <p:nvPr/>
        </p:nvPicPr>
        <p:blipFill>
          <a:blip r:embed="rId2"/>
          <a:stretch/>
        </p:blipFill>
        <p:spPr>
          <a:xfrm>
            <a:off x="2786040" y="2643120"/>
            <a:ext cx="41752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3" descr="02_sm.jpg"/>
          <p:cNvPicPr/>
          <p:nvPr/>
        </p:nvPicPr>
        <p:blipFill>
          <a:blip r:embed="rId1"/>
          <a:stretch/>
        </p:blipFill>
        <p:spPr>
          <a:xfrm>
            <a:off x="-258840" y="0"/>
            <a:ext cx="981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12760" y="28116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928520" y="1213920"/>
            <a:ext cx="47149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ниги – для длительного хранения информаци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омпьютер – инструмент для хранения закодированной информаци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Электронные носители информа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Рисунок 5" descr="comp_4.jpg"/>
          <p:cNvPicPr/>
          <p:nvPr/>
        </p:nvPicPr>
        <p:blipFill>
          <a:blip r:embed="rId2"/>
          <a:stretch/>
        </p:blipFill>
        <p:spPr>
          <a:xfrm>
            <a:off x="214200" y="278604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6" descr="i.jpg"/>
          <p:cNvPicPr/>
          <p:nvPr/>
        </p:nvPicPr>
        <p:blipFill>
          <a:blip r:embed="rId3"/>
          <a:stretch/>
        </p:blipFill>
        <p:spPr>
          <a:xfrm>
            <a:off x="428760" y="1357200"/>
            <a:ext cx="1006200" cy="10000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7" descr="1284970462_cd-dvd.jpg"/>
          <p:cNvPicPr/>
          <p:nvPr/>
        </p:nvPicPr>
        <p:blipFill>
          <a:blip r:embed="rId4"/>
          <a:stretch/>
        </p:blipFill>
        <p:spPr>
          <a:xfrm>
            <a:off x="214200" y="4929120"/>
            <a:ext cx="1357560" cy="10177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8" descr="mediatheque_NZ.gif"/>
          <p:cNvPicPr/>
          <p:nvPr/>
        </p:nvPicPr>
        <p:blipFill>
          <a:blip r:embed="rId5"/>
          <a:stretch/>
        </p:blipFill>
        <p:spPr>
          <a:xfrm>
            <a:off x="6500880" y="2643120"/>
            <a:ext cx="1466640" cy="183852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9" descr="1l.gif"/>
          <p:cNvPicPr/>
          <p:nvPr/>
        </p:nvPicPr>
        <p:blipFill>
          <a:blip r:embed="rId6"/>
          <a:stretch/>
        </p:blipFill>
        <p:spPr>
          <a:xfrm>
            <a:off x="6357960" y="4929120"/>
            <a:ext cx="16286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474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428480"/>
            <a:ext cx="7238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Действия с информацией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писыв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помин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редав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мениваться;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рани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обира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обирать информацию — это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блюд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мотре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чита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редставлять информацию — это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писыв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исов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ть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C:\Users\1\Desktop\ТИО 07.11.12\2.gif"/>
          <p:cNvPicPr/>
          <p:nvPr/>
        </p:nvPicPr>
        <p:blipFill>
          <a:blip r:embed="rId2"/>
          <a:stretch/>
        </p:blipFill>
        <p:spPr>
          <a:xfrm>
            <a:off x="1857240" y="1428840"/>
            <a:ext cx="476748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285480" y="1600200"/>
            <a:ext cx="7786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писать в рабочую тетрадь новые слов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инести носители информации которыми вы пользуйтес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4:47:43Z</dcterms:created>
  <dc:creator>Наталья</dc:creator>
  <dc:description/>
  <dc:language>en-US</dc:language>
  <cp:lastModifiedBy>1</cp:lastModifiedBy>
  <dcterms:modified xsi:type="dcterms:W3CDTF">2012-11-06T17:56:54Z</dcterms:modified>
  <cp:revision>21</cp:revision>
  <dc:subject/>
  <dc:title>Хранение информации </dc:title>
</cp:coreProperties>
</file>