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1.gif" ContentType="image/gif"/>
  <Override PartName="/ppt/media/image10.png" ContentType="image/png"/>
  <Override PartName="/ppt/media/image6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CD2-9CE5-4161-940D-0FC0AC49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90D-4FBC-4858-9186-B348C022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C31-8EF4-46C7-958D-47B03C2F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B3C-5195-4CFF-A688-C5C03C7A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9E8-CADB-4B1D-A6E6-F7B1950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EC2D-F7AB-40B1-8841-0589B154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9779-3602-433B-954B-2389978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0564-0201-44BA-8974-797CA48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B3C3-8EC1-40C5-8A69-18D8205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10A-7F42-4104-94F5-A6065EA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2A43-3F75-4A1E-A6BB-FFB8A43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493-86BB-47B6-AF44-CCDADB3E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86E5-EAD1-4985-A9E0-8F350890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D12E-E1C1-4428-B06D-4DD5FF0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DC22-F90C-40AA-B34A-AC3507F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E5DF-2381-4A02-AEF5-F904A5B1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B1BB-FD2A-4138-ABA0-C8FECD44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4999-691B-432B-B16B-A92A8D3D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4751-AA10-4D0B-A0E7-CDE06D82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CAC7-05FE-4AC2-8185-E439910A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163B-F3D3-4990-843B-F1693B2E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AA8E-A0D2-4D66-BE3D-B2100958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5CE-7A0B-46E4-B40F-D12961D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D627-73A2-4093-8371-4F5225E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3707D-EBDC-4E29-9C69-EF19293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3649-745E-43A2-8D58-7BB0C41A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DA7F-1B50-4B5F-B7CD-26B7179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1A21-68AA-4788-A810-03E2BF4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31238-2616-447F-9BE9-FD2366E5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9C8D-95BB-461E-A8A3-F6614EC5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8C22-2F1E-42F1-85C7-96F6B6B1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F5A4-7BC2-4BF0-B851-9D359A2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EA47-747D-4A20-BEAE-9A5C1BCE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D5A-68F7-4461-9E0D-7C66604F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C9CC7-B758-4F4E-B5CC-A34230C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00AD-69BC-41E1-9D5D-B4687E28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87DE-EAFB-405D-BC94-C44D058B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CA9A-0DC2-44CC-8532-4AB953C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96CA2-5FC8-4957-867F-BD9E1AE8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37CB-9085-4601-9062-2BE2CA01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4AE9-A7C0-470D-BC1C-A3483FBF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8264-DE38-429E-9660-BF6C4BE3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8E8AB-A7DD-44B7-86DA-7B045A43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559F-9BD0-4E2E-B692-B490637C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B03-6B48-43A0-8E9B-20086E6A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C1A1-83A6-459D-A99A-26A69452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467D-E6DB-4765-B49F-D4CA1B9C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A18F7-8A39-4D48-A486-CEE07305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28735-ED15-406C-AB01-4C4DC227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34C3-3420-4E1E-95ED-F2AF0673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A674-8AA0-4396-90F2-F534209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FCC1-CC7A-475D-9C0F-951B6CF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8BED-2826-484A-952D-9FF1FAA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3289B-46C2-4D04-8407-74F2646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0AE3-329D-42A9-B994-AAD0B5F3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63F-CBE4-4708-90E3-1FE23069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0E644-1EAC-4AE6-A7DD-A3EE5BBD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288-D14B-43A7-8627-05F85B9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255-44A7-4145-B0A9-C096207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DEA-D310-42FC-85B8-6AD6942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DE83-A7BA-4EFD-9DA0-565864C6956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F35-F20D-4ACC-8AC7-A7025F5FC81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BF13-97EB-4553-9735-0BE29EC2A1C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0A0-D0F0-46B4-8081-D03EF168EEE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A8E-3AE9-4495-BB1D-D659B7DB35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547640" y="475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№13                         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Рисунок 5" descr="1265024397311.jpg"/>
          <p:cNvPicPr/>
          <p:nvPr/>
        </p:nvPicPr>
        <p:blipFill>
          <a:blip r:embed="rId2"/>
          <a:stretch/>
        </p:blipFill>
        <p:spPr>
          <a:xfrm>
            <a:off x="142920" y="450072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комп2.jpg"/>
          <p:cNvPicPr/>
          <p:nvPr/>
        </p:nvPicPr>
        <p:blipFill>
          <a:blip r:embed="rId3"/>
          <a:srcRect l="7316" t="9756" r="9756" b="19513"/>
          <a:stretch/>
        </p:blipFill>
        <p:spPr>
          <a:xfrm>
            <a:off x="142920" y="23572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85840" y="1357200"/>
            <a:ext cx="3571920" cy="2857680"/>
          </a:xfrm>
          <a:prstGeom prst="rect">
            <a:avLst/>
          </a:prstGeom>
          <a:solidFill>
            <a:srgbClr val="f4e7ed"/>
          </a:soli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бор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ставл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5" descr="800px-Obrabotka.jpg"/>
          <p:cNvPicPr/>
          <p:nvPr/>
        </p:nvPicPr>
        <p:blipFill>
          <a:blip r:embed="rId2"/>
          <a:stretch/>
        </p:blipFill>
        <p:spPr>
          <a:xfrm>
            <a:off x="3929040" y="1285920"/>
            <a:ext cx="405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7961400" cy="585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571680" y="1142640"/>
            <a:ext cx="7473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мять человека обеспечивает ему способность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читься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аботать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еспечивать свою жизне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40120" indent="-240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зопас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7" descr="wpid-d0bcd0bed0b7d0b3.jpg"/>
          <p:cNvPicPr/>
          <p:nvPr/>
        </p:nvPicPr>
        <p:blipFill>
          <a:blip r:embed="rId2"/>
          <a:stretch/>
        </p:blipFill>
        <p:spPr>
          <a:xfrm>
            <a:off x="2786040" y="2643120"/>
            <a:ext cx="41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3" descr="02_sm.jpg"/>
          <p:cNvPicPr/>
          <p:nvPr/>
        </p:nvPicPr>
        <p:blipFill>
          <a:blip r:embed="rId1"/>
          <a:stretch/>
        </p:blipFill>
        <p:spPr>
          <a:xfrm>
            <a:off x="-25884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928520" y="1213920"/>
            <a:ext cx="4714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ниги – для длительного хранения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мпьютер – инструмент для хранения закодированной информаци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лектронны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5" descr="comp_4.jpg"/>
          <p:cNvPicPr/>
          <p:nvPr/>
        </p:nvPicPr>
        <p:blipFill>
          <a:blip r:embed="rId2"/>
          <a:stretch/>
        </p:blipFill>
        <p:spPr>
          <a:xfrm>
            <a:off x="214200" y="2786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i.jpg"/>
          <p:cNvPicPr/>
          <p:nvPr/>
        </p:nvPicPr>
        <p:blipFill>
          <a:blip r:embed="rId3"/>
          <a:stretch/>
        </p:blipFill>
        <p:spPr>
          <a:xfrm>
            <a:off x="428760" y="1357200"/>
            <a:ext cx="1006200" cy="100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7" descr="1284970462_cd-dvd.jpg"/>
          <p:cNvPicPr/>
          <p:nvPr/>
        </p:nvPicPr>
        <p:blipFill>
          <a:blip r:embed="rId4"/>
          <a:stretch/>
        </p:blipFill>
        <p:spPr>
          <a:xfrm>
            <a:off x="214200" y="492912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8" descr="mediatheque_NZ.gif"/>
          <p:cNvPicPr/>
          <p:nvPr/>
        </p:nvPicPr>
        <p:blipFill>
          <a:blip r:embed="rId5"/>
          <a:stretch/>
        </p:blipFill>
        <p:spPr>
          <a:xfrm>
            <a:off x="6500880" y="2643120"/>
            <a:ext cx="1466640" cy="1838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1l.gif"/>
          <p:cNvPicPr/>
          <p:nvPr/>
        </p:nvPicPr>
        <p:blipFill>
          <a:blip r:embed="rId6"/>
          <a:stretch/>
        </p:blipFill>
        <p:spPr>
          <a:xfrm>
            <a:off x="6357960" y="4929120"/>
            <a:ext cx="1628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7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Действия с информацией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омин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да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мениваться;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рани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бир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обира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люд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мотре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едставлять информацию — это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ы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исовать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1\Desktop\ТИО 07.11.12\2.gif"/>
          <p:cNvPicPr/>
          <p:nvPr/>
        </p:nvPicPr>
        <p:blipFill>
          <a:blip r:embed="rId2"/>
          <a:stretch/>
        </p:blipFill>
        <p:spPr>
          <a:xfrm>
            <a:off x="1857240" y="1428840"/>
            <a:ext cx="4767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85480" y="1600200"/>
            <a:ext cx="7786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писать в рабочую тетрадь новые сло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нести носители информации которыми вы пользуйтес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4:47:43Z</dcterms:created>
  <dc:creator>Наталья</dc:creator>
  <dc:description/>
  <dc:language>en-US</dc:language>
  <cp:lastModifiedBy>1</cp:lastModifiedBy>
  <dcterms:modified xsi:type="dcterms:W3CDTF">2012-11-06T17:56:54Z</dcterms:modified>
  <cp:revision>21</cp:revision>
  <dc:subject/>
  <dc:title>Хранение информации </dc:title>
</cp:coreProperties>
</file>