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FEE-48A7-46CF-A022-72BD620A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A24-892F-42C2-B752-D475A00C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79D-F4DC-4272-90C4-96D99028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754-4F44-4EA0-8F96-F90729B3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9343-A22C-4B66-93DC-CE5AA192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F8CA-811D-49CC-8402-19197CD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23C6-8C20-421A-BB93-633A8A80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77F0-74B6-4AA9-A291-C73381E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6A34-46F3-42C4-AE57-67027A4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47D3-F53C-432C-B39E-78062C8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EFD9-EAEF-4AFF-B141-485AFC0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6D1-16E5-44B8-9DBF-D0D1CD07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71D5-D14C-46F8-9AB5-0A54101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27F4-2786-4548-8F44-C307536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BE0A-E448-4BF2-9649-3C51520D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8073-3821-4702-9BA1-59D01D93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EFC7-48AB-4CD6-A70D-F89E8DD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7A9-5703-4C66-957D-E707BE80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B03-ACA9-49CB-951F-01991F8E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16D-F18C-4128-9B25-868EC117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4DD-E7C8-41F2-8157-75661113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977-9E92-4F37-BBE6-AD876C8B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908-A832-42E0-90B6-EED7AF8B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11C-B070-4590-BC5B-3AA66433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7FD-D268-4693-92E6-1E4BCD50EA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0FF-6524-47A5-8D4B-B4C7F1CE6745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еометрия, 8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Найди ошибки на рисунках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1 – 3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4"/>
          <p:cNvSpPr/>
          <p:nvPr/>
        </p:nvSpPr>
        <p:spPr>
          <a:xfrm>
            <a:off x="3419640" y="98100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3419640" y="350028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859280" y="98100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2987640" y="32130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8"/>
          <p:cNvSpPr txBox="1"/>
          <p:nvPr/>
        </p:nvSpPr>
        <p:spPr>
          <a:xfrm>
            <a:off x="4500720" y="549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9"/>
          <p:cNvSpPr txBox="1"/>
          <p:nvPr/>
        </p:nvSpPr>
        <p:spPr>
          <a:xfrm>
            <a:off x="6443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0"/>
          <p:cNvSpPr txBox="1"/>
          <p:nvPr/>
        </p:nvSpPr>
        <p:spPr>
          <a:xfrm>
            <a:off x="5003640" y="5877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0" name="WordArt 12"/>
          <p:cNvSpPr txBox="1"/>
          <p:nvPr/>
        </p:nvSpPr>
        <p:spPr>
          <a:xfrm>
            <a:off x="4356000" y="278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3924360" y="2276640"/>
            <a:ext cx="28728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 flipV="1">
            <a:off x="5580000" y="2276280"/>
            <a:ext cx="21600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3995640" y="4581000"/>
            <a:ext cx="21600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508720" y="4581360"/>
            <a:ext cx="21564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Arc 18"/>
          <p:cNvSpPr/>
          <p:nvPr/>
        </p:nvSpPr>
        <p:spPr>
          <a:xfrm>
            <a:off x="4859280" y="5300640"/>
            <a:ext cx="289080" cy="730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rc 19"/>
          <p:cNvSpPr/>
          <p:nvPr/>
        </p:nvSpPr>
        <p:spPr>
          <a:xfrm flipH="1">
            <a:off x="5867280" y="3141720"/>
            <a:ext cx="217440" cy="3585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4859280" y="47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364000" y="2997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4"/>
          <p:cNvSpPr/>
          <p:nvPr/>
        </p:nvSpPr>
        <p:spPr>
          <a:xfrm>
            <a:off x="2268360" y="2205000"/>
            <a:ext cx="4535640" cy="2448000"/>
          </a:xfrm>
          <a:prstGeom prst="parallelogram">
            <a:avLst>
              <a:gd name="adj" fmla="val 46320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Arc 5"/>
          <p:cNvSpPr/>
          <p:nvPr/>
        </p:nvSpPr>
        <p:spPr>
          <a:xfrm rot="16200000">
            <a:off x="5342040" y="4176720"/>
            <a:ext cx="3268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789440" y="40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WordArt 7"/>
          <p:cNvSpPr txBox="1"/>
          <p:nvPr/>
        </p:nvSpPr>
        <p:spPr>
          <a:xfrm>
            <a:off x="1908000" y="472428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291636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694836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653080" y="47242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Arc 15"/>
          <p:cNvSpPr/>
          <p:nvPr/>
        </p:nvSpPr>
        <p:spPr>
          <a:xfrm>
            <a:off x="2413080" y="4292640"/>
            <a:ext cx="287280" cy="3603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700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2340000" y="4379760"/>
            <a:ext cx="280800" cy="3477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861080" y="2060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997440" y="4508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2844720" y="3068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773440" y="321300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6229440" y="313992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6156360" y="3284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2916360" y="2492280"/>
            <a:ext cx="4537080" cy="2160720"/>
          </a:xfrm>
          <a:prstGeom prst="rect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08360" y="3139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</a:rPr>
              <a:t>(3 + 4)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573440" y="1987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52720" y="32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5076720" y="2349360"/>
            <a:ext cx="0" cy="287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5148360" y="4508640"/>
            <a:ext cx="0" cy="2872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2771640" y="357336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308720" y="335772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308720" y="350028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AutoShape 20">
            <a:hlinkClick r:id="rId1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4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1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rc 7"/>
          <p:cNvSpPr/>
          <p:nvPr/>
        </p:nvSpPr>
        <p:spPr>
          <a:xfrm rot="4991400">
            <a:off x="2118240" y="1921680"/>
            <a:ext cx="2872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2400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0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132000" y="155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10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82692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580000" y="227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Проведём высоту ВК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5580000" y="3357720"/>
            <a:ext cx="3313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∟А = 18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- 15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=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Катет ВК лежит    против угла в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, поэтом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ВК = АВ : 2 = 3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BK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AD = 3 · 10 = 30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7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8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124000" y="1989000"/>
            <a:ext cx="2879640" cy="1079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076720" y="306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24000" y="4292640"/>
            <a:ext cx="144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268360" y="4292640"/>
            <a:ext cx="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4859280" y="2852640"/>
            <a:ext cx="73080" cy="1447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932360" y="2852640"/>
            <a:ext cx="144360" cy="7164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rc 19"/>
          <p:cNvSpPr/>
          <p:nvPr/>
        </p:nvSpPr>
        <p:spPr>
          <a:xfrm>
            <a:off x="1116000" y="4149720"/>
            <a:ext cx="142920" cy="2872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18728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2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3564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12000" y="2276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АВ = 2 ВМ = 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5940360" y="357336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АВ =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6 см (по свойству параллелограмм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BE = 6 · 4 = 24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28">
            <a:hlinkClick r:id="rId1" action="ppaction://hlinksldjump"/>
          </p:cNvPr>
          <p:cNvSpPr/>
          <p:nvPr/>
        </p:nvSpPr>
        <p:spPr>
          <a:xfrm>
            <a:off x="32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47f2"/>
                </a:solidFill>
                <a:latin typeface="Times New Roman"/>
              </a:rPr>
              <a:t>Найдите площадь ромба, диагонали которого равны 8 см и 6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8" name="WordArt 12"/>
          <p:cNvSpPr txBox="1"/>
          <p:nvPr/>
        </p:nvSpPr>
        <p:spPr>
          <a:xfrm>
            <a:off x="2484360" y="2997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4284720" y="69228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e47f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BO = OD = 8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: 2 = 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АО = ОС = 6 : 2 = 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(по свойству ромб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4932360" y="227664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Достроим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∆ АОВ до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WordArt 2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4716360" y="3357720"/>
            <a:ext cx="3816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FAOB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АО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ОВ = 3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4 =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12 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3708360" y="4437000"/>
            <a:ext cx="504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FAOB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(по свойств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лощадей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334800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2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= 12 · 2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24 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WordArt 12"/>
          <p:cNvSpPr txBox="1"/>
          <p:nvPr/>
        </p:nvSpPr>
        <p:spPr>
          <a:xfrm>
            <a:off x="2556000" y="292428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WordArt 1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3995640" y="981000"/>
            <a:ext cx="4753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FBDM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, так к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FBDM = AO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Значит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 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    АС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8"/>
              <p:cNvSpPr txBox="1"/>
              <p:nvPr/>
            </p:nvSpPr>
            <p:spPr>
              <a:xfrm>
                <a:off x="7020000" y="4653000"/>
                <a:ext cx="258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Line 20"/>
          <p:cNvSpPr/>
          <p:nvPr/>
        </p:nvSpPr>
        <p:spPr>
          <a:xfrm flipV="1">
            <a:off x="971640" y="3716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21"/>
          <p:cNvSpPr/>
          <p:nvPr/>
        </p:nvSpPr>
        <p:spPr>
          <a:xfrm flipH="1">
            <a:off x="971280" y="616572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WordArt 22"/>
          <p:cNvSpPr txBox="1"/>
          <p:nvPr/>
        </p:nvSpPr>
        <p:spPr>
          <a:xfrm>
            <a:off x="53964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AutoShape 23">
            <a:hlinkClick r:id="rId1" action="ppaction://hlinksldjump"/>
          </p:cNvPr>
          <p:cNvSpPr/>
          <p:nvPr/>
        </p:nvSpPr>
        <p:spPr>
          <a:xfrm>
            <a:off x="766764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6156360" y="3860640"/>
            <a:ext cx="1871640" cy="1729080"/>
          </a:xfrm>
          <a:prstGeom prst="ellipse">
            <a:avLst/>
          </a:prstGeom>
          <a:solidFill>
            <a:srgbClr val="f4ed5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 rot="16200000">
            <a:off x="6893640" y="4634280"/>
            <a:ext cx="4316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96555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 rot="5400000">
            <a:off x="664128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 rot="5400000">
            <a:off x="736056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877080" y="501336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709308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23600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«Геометрия является самым могущественным средством для изощрения наших умственных способностей и дает нам возможность правильно мыслить и рассуждать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Г.Гали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атематический диктан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1071720"/>
            <a:ext cx="84297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383ad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мног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ражается_______________________ чис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2)  Равные многоугольники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меют _____________площад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)   Если многоугольник составлен из нескольких многоугольников, то ег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равн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4)   Площадь квадрат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равна:____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5)   Площадь прям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вна: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6. Найти площадь фигуры: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"/>
          <p:cNvPicPr/>
          <p:nvPr/>
        </p:nvPicPr>
        <p:blipFill>
          <a:blip r:embed="rId2"/>
          <a:srcRect l="0" t="0" r="0" b="13666"/>
          <a:stretch/>
        </p:blipFill>
        <p:spPr>
          <a:xfrm>
            <a:off x="1643040" y="1785960"/>
            <a:ext cx="6072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7. Найдите площадь дачного участка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такой формы:</a:t>
            </a:r>
            <a:br>
              <a:rPr sz="32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Picture 2" descr="img1"/>
          <p:cNvPicPr/>
          <p:nvPr/>
        </p:nvPicPr>
        <p:blipFill>
          <a:blip r:embed="rId1"/>
          <a:stretch/>
        </p:blipFill>
        <p:spPr>
          <a:xfrm>
            <a:off x="2357280" y="1714680"/>
            <a:ext cx="452772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) …положительны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)  рав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) …сумме площадей этих многоуг-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•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6) 26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7) 14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се правильно – «5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ошибка – «4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2-3 ошибки – «3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 остальных случаях – «2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383ad"/>
                </a:solidFill>
                <a:latin typeface="Times New Roman"/>
              </a:rPr>
              <a:t>Работа с учебником:</a:t>
            </a:r>
            <a:br>
              <a:rPr sz="6000"/>
            </a:b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Что такое параллелограм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Начертите параллелограмм, обозначьте его вершины. Из вершины тупого угла проведите высоту, обозначьте ее.                                          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Чему равна площадь параллелограмма?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Формула________________________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В каких единицах измеряется площадь параллелограмм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числите площадь данной фигур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47:41Z</dcterms:created>
  <dc:creator>User</dc:creator>
  <dc:description/>
  <dc:language>en-US</dc:language>
  <cp:lastModifiedBy>iLvit</cp:lastModifiedBy>
  <dcterms:modified xsi:type="dcterms:W3CDTF">2012-11-08T15:05:58Z</dcterms:modified>
  <cp:revision>26</cp:revision>
  <dc:subject/>
  <dc:title>Слайд 1</dc:title>
</cp:coreProperties>
</file>