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9B7-8117-4CA4-96F0-D2D8BA33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687-C521-4CFF-B234-036FDD1F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225-503F-472E-AD62-19C583F8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F8A-DA02-4FF7-8177-A06AB787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8999-A600-45B1-8776-AEF3EDD4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0086-E4B3-4E7E-8344-1A649ABE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72B1-DB29-41BE-85AD-B9BE39F4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1D60-5DD8-4B72-A083-5F313F02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F8E-BF66-4EDD-93CE-665CE9A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10FA-6879-489D-9F3F-CF03AEE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73A-80ED-4BCF-87E2-3B360416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1A2-B514-45C0-A27D-A5DF9A69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0978-98D9-4CCA-BAB2-5EF0A7A5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903C-71DB-4998-8AD2-AD0B84D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0776-FBB5-40BE-8AE4-8897747E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BAC8-38D5-41E0-AC0A-795374B4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9B7C-0693-4445-9A63-90D61575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19E-94D8-434E-B076-7ED8C3E3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D66-525E-4C71-AA13-5E45B3D4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1C6-0A11-4406-94C3-108C2624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FD8-D92F-4C1E-B007-91BC554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E42-2F9C-4E05-8FDF-F25AFD52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9C3-3C9B-48AB-8475-10A2FBD6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3EA-3AB2-4AB7-A4F5-504FC0F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421D-A951-4BBF-A69F-83C00DF151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EF0-7410-4F32-A09A-F332A01F112D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и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еометрия, 8 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стные упражн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Найди ошибки на рисунках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1 – 3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4"/>
          <p:cNvSpPr/>
          <p:nvPr/>
        </p:nvSpPr>
        <p:spPr>
          <a:xfrm>
            <a:off x="3419640" y="98100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Line 5"/>
          <p:cNvSpPr/>
          <p:nvPr/>
        </p:nvSpPr>
        <p:spPr>
          <a:xfrm>
            <a:off x="3419640" y="350028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4859280" y="98100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2987640" y="32130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8"/>
          <p:cNvSpPr txBox="1"/>
          <p:nvPr/>
        </p:nvSpPr>
        <p:spPr>
          <a:xfrm>
            <a:off x="4500720" y="549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9"/>
          <p:cNvSpPr txBox="1"/>
          <p:nvPr/>
        </p:nvSpPr>
        <p:spPr>
          <a:xfrm>
            <a:off x="6443640" y="321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10"/>
          <p:cNvSpPr txBox="1"/>
          <p:nvPr/>
        </p:nvSpPr>
        <p:spPr>
          <a:xfrm>
            <a:off x="5003640" y="5877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0" name="WordArt 12"/>
          <p:cNvSpPr txBox="1"/>
          <p:nvPr/>
        </p:nvSpPr>
        <p:spPr>
          <a:xfrm>
            <a:off x="4356000" y="278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3924360" y="2276640"/>
            <a:ext cx="28728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 flipV="1">
            <a:off x="5580000" y="2276280"/>
            <a:ext cx="21600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 flipV="1">
            <a:off x="3995640" y="4581000"/>
            <a:ext cx="21600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508720" y="4581360"/>
            <a:ext cx="21564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Arc 18"/>
          <p:cNvSpPr/>
          <p:nvPr/>
        </p:nvSpPr>
        <p:spPr>
          <a:xfrm>
            <a:off x="4859280" y="5300640"/>
            <a:ext cx="289080" cy="730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rc 19"/>
          <p:cNvSpPr/>
          <p:nvPr/>
        </p:nvSpPr>
        <p:spPr>
          <a:xfrm flipH="1">
            <a:off x="5867280" y="3141720"/>
            <a:ext cx="217440" cy="3585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4859280" y="47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5364000" y="2997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4"/>
          <p:cNvSpPr/>
          <p:nvPr/>
        </p:nvSpPr>
        <p:spPr>
          <a:xfrm>
            <a:off x="2268360" y="2205000"/>
            <a:ext cx="4535640" cy="2448000"/>
          </a:xfrm>
          <a:prstGeom prst="parallelogram">
            <a:avLst>
              <a:gd name="adj" fmla="val 46320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Arc 5"/>
          <p:cNvSpPr/>
          <p:nvPr/>
        </p:nvSpPr>
        <p:spPr>
          <a:xfrm rot="16200000">
            <a:off x="5342040" y="4176720"/>
            <a:ext cx="3268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4789440" y="400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WordArt 7"/>
          <p:cNvSpPr txBox="1"/>
          <p:nvPr/>
        </p:nvSpPr>
        <p:spPr>
          <a:xfrm>
            <a:off x="1908000" y="472428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291636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6948360" y="184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653080" y="47242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Arc 15"/>
          <p:cNvSpPr/>
          <p:nvPr/>
        </p:nvSpPr>
        <p:spPr>
          <a:xfrm>
            <a:off x="2413080" y="4292640"/>
            <a:ext cx="287280" cy="3603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700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2340000" y="4379760"/>
            <a:ext cx="280800" cy="3477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4861080" y="2060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3997440" y="4508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2844720" y="3068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773440" y="321300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Line 22"/>
          <p:cNvSpPr/>
          <p:nvPr/>
        </p:nvSpPr>
        <p:spPr>
          <a:xfrm>
            <a:off x="6229440" y="313992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6156360" y="3284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2916360" y="2492280"/>
            <a:ext cx="4537080" cy="2160720"/>
          </a:xfrm>
          <a:prstGeom prst="rect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08360" y="3139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</a:rPr>
              <a:t>(3 + 4)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573440" y="1987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52720" y="32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5076720" y="2349360"/>
            <a:ext cx="0" cy="287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5148360" y="4508640"/>
            <a:ext cx="0" cy="2872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2771640" y="357336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7308720" y="335772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7308720" y="350028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AutoShape 20">
            <a:hlinkClick r:id="rId1" action="ppaction://hlinksldjump"/>
          </p:cNvPr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4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1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Arc 7"/>
          <p:cNvSpPr/>
          <p:nvPr/>
        </p:nvSpPr>
        <p:spPr>
          <a:xfrm rot="4991400">
            <a:off x="2118240" y="1921680"/>
            <a:ext cx="2872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24000" y="23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WordArt 9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10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132000" y="155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10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82692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580000" y="2276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Проведём высоту ВК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WordArt 17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5580000" y="3357720"/>
            <a:ext cx="3313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∟А = 18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- 15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=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Катет ВК лежит    против угла в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, поэтом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ВК = АВ : 2 = 3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BK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AD = 3 · 10 = 30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7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8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124000" y="1989000"/>
            <a:ext cx="2879640" cy="1079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076720" y="306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24000" y="4292640"/>
            <a:ext cx="144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268360" y="4292640"/>
            <a:ext cx="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 flipV="1">
            <a:off x="4859280" y="2852640"/>
            <a:ext cx="73080" cy="1447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4932360" y="2852640"/>
            <a:ext cx="144360" cy="7164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rc 19"/>
          <p:cNvSpPr/>
          <p:nvPr/>
        </p:nvSpPr>
        <p:spPr>
          <a:xfrm>
            <a:off x="1116000" y="4149720"/>
            <a:ext cx="142920" cy="2872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18728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2400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3564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12000" y="2276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АВ = 2 ВМ = 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5940360" y="357336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АВ =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6 см (по свойству параллелограмм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BE = 6 · 4 = 24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28">
            <a:hlinkClick r:id="rId1" action="ppaction://hlinksldjump"/>
          </p:cNvPr>
          <p:cNvSpPr/>
          <p:nvPr/>
        </p:nvSpPr>
        <p:spPr>
          <a:xfrm>
            <a:off x="32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47f2"/>
                </a:solidFill>
                <a:latin typeface="Times New Roman"/>
              </a:rPr>
              <a:t>Найдите площадь ромба, диагонали которого равны 8 см и 6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8" name="WordArt 12"/>
          <p:cNvSpPr txBox="1"/>
          <p:nvPr/>
        </p:nvSpPr>
        <p:spPr>
          <a:xfrm>
            <a:off x="2484360" y="2997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4284720" y="692280"/>
            <a:ext cx="424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e47f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BO = OD = 8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: 2 = 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АО = ОС = 6 : 2 = 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(по свойству ромб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4932360" y="227664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Достроим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∆ АОВ до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WordArt 2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4716360" y="3357720"/>
            <a:ext cx="3816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FAOB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АО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ОВ = 3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4 =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12 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3708360" y="4437000"/>
            <a:ext cx="504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FAOB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(по свойств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лощадей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3348000" y="566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2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= 12 · 2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24 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2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6" name="WordArt 12"/>
          <p:cNvSpPr txBox="1"/>
          <p:nvPr/>
        </p:nvSpPr>
        <p:spPr>
          <a:xfrm>
            <a:off x="2556000" y="292428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WordArt 1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3995640" y="981000"/>
            <a:ext cx="47530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FBDM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, так ка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FBDM = AO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Значит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 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    АС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8"/>
              <p:cNvSpPr txBox="1"/>
              <p:nvPr/>
            </p:nvSpPr>
            <p:spPr>
              <a:xfrm>
                <a:off x="7020000" y="4653000"/>
                <a:ext cx="258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Line 20"/>
          <p:cNvSpPr/>
          <p:nvPr/>
        </p:nvSpPr>
        <p:spPr>
          <a:xfrm flipV="1">
            <a:off x="971640" y="3716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21"/>
          <p:cNvSpPr/>
          <p:nvPr/>
        </p:nvSpPr>
        <p:spPr>
          <a:xfrm flipH="1">
            <a:off x="971280" y="616572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WordArt 22"/>
          <p:cNvSpPr txBox="1"/>
          <p:nvPr/>
        </p:nvSpPr>
        <p:spPr>
          <a:xfrm>
            <a:off x="53964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AutoShape 23">
            <a:hlinkClick r:id="rId1" action="ppaction://hlinksldjump"/>
          </p:cNvPr>
          <p:cNvSpPr/>
          <p:nvPr/>
        </p:nvSpPr>
        <p:spPr>
          <a:xfrm>
            <a:off x="766764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6156360" y="3860640"/>
            <a:ext cx="1871640" cy="1729080"/>
          </a:xfrm>
          <a:prstGeom prst="ellipse">
            <a:avLst/>
          </a:prstGeom>
          <a:solidFill>
            <a:srgbClr val="f4ed5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 rot="16200000">
            <a:off x="6893640" y="4634280"/>
            <a:ext cx="43164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96555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 rot="5400000">
            <a:off x="664128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 rot="5400000">
            <a:off x="736056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877080" y="501336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709308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723600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«Геометрия является самым могущественным средством для изощрения наших умственных способностей и дает нам возможность правильно мыслить и рассуждать»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Г.Гали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Математический диктан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7120" y="1071720"/>
            <a:ext cx="84297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383ad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мног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ыражается_______________________ чис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2)  Равные многоугольники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меют _____________площад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)   Если многоугольник составлен из нескольких многоугольников, то ег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равн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4)   Площадь квадрат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равна:____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5)   Площадь прям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вна: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6. Найти площадь фигуры: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"/>
          <p:cNvPicPr/>
          <p:nvPr/>
        </p:nvPicPr>
        <p:blipFill>
          <a:blip r:embed="rId2"/>
          <a:srcRect l="0" t="0" r="0" b="13666"/>
          <a:stretch/>
        </p:blipFill>
        <p:spPr>
          <a:xfrm>
            <a:off x="1643040" y="1785960"/>
            <a:ext cx="6072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7. Найдите площадь дачного участка</a:t>
            </a:r>
            <a:br>
              <a:rPr sz="36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такой формы:</a:t>
            </a:r>
            <a:br>
              <a:rPr sz="3200"/>
            </a:b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2" name="Picture 2" descr="img1"/>
          <p:cNvPicPr/>
          <p:nvPr/>
        </p:nvPicPr>
        <p:blipFill>
          <a:blip r:embed="rId1"/>
          <a:stretch/>
        </p:blipFill>
        <p:spPr>
          <a:xfrm>
            <a:off x="2357280" y="1714680"/>
            <a:ext cx="452772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) …положительны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)  рав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) …сумме площадей этих многоуг-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 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•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6) 26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7) 14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се правильно – «5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ошибка – «4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2-3 ошибки – «3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 остальных случаях – «2»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383ad"/>
                </a:solidFill>
                <a:latin typeface="Times New Roman"/>
              </a:rPr>
              <a:t>Работа с учебником:</a:t>
            </a:r>
            <a:br>
              <a:rPr sz="6000"/>
            </a:b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Что такое параллелограм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Начертите параллелограмм, обозначьте его вершины. Из вершины тупого угла проведите высоту, обозначьте ее.                                          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Чему равна площадь параллелограмма?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Формула________________________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В каких единицах измеряется площадь параллелограмм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числите площадь данной фигур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47:41Z</dcterms:created>
  <dc:creator>User</dc:creator>
  <dc:description/>
  <dc:language>en-US</dc:language>
  <cp:lastModifiedBy>iLvit</cp:lastModifiedBy>
  <dcterms:modified xsi:type="dcterms:W3CDTF">2012-11-08T15:05:58Z</dcterms:modified>
  <cp:revision>26</cp:revision>
  <dc:subject/>
  <dc:title>Слайд 1</dc:title>
</cp:coreProperties>
</file>