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476-B4F1-4E51-9236-FB96CF2D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059-07D0-4A10-AF93-FA8FC4B1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6B7-70B2-4985-9B53-5B463360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C7B-9EFC-4607-B5CC-E3808DFF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F07C-4281-443F-A23C-BFB512A5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6D2-A188-4C93-80FF-CE1C3539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825-C587-4288-AB9F-5FCE49C5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132-73FC-430D-AE59-FFA20BB5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D7C-BD9C-4533-B8EA-D9202855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EA5A-04CF-4D41-A71D-CAC69464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A84-9DEA-47DE-BE65-6BCEA91E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A48-41FD-429C-B935-7B12EC00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4A92-3C98-4D8D-B65B-4F063B6D3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3645000"/>
            <a:ext cx="8280360" cy="17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нктуация как система правил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осклицательный знак [!] отмечается для выражения восклицания (удивления) также в грамматиках М. Смотрицкого и В. Е. Адодурова. Правила постановки „удивительного знака“ определяются в „Российской грамматике“ М. В. Ломоносова (1755)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опросительный знак [?] встречается в печатных книгах с XVI века, однако для выражения вопроса он закрепляется значительно позже, лишь в XVIII веке. Первоначально в значении [?] встречалась [;] 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К более поздним знакам относится  многоточие […]. 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Знак многоточие […] под названием „знак пресекательный“ отмечается в 1831 году в грамматике А. Х. Востокова, хотя его употребление встречается в практике письма значительно раньше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506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КАВЫЧКИ </a:t>
            </a:r>
            <a:br>
              <a:rPr sz="2000"/>
            </a:b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    Не менее интересна история появления знака, который впоследствии получил название кавычки [" » ]. </a:t>
            </a:r>
            <a:br>
              <a:rPr sz="2000"/>
            </a:b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Слово "кавычки" в значении нотного (крюкового) знака встречается в XVI веке, но в значении знака препинания оно стало употребляться только в конце XVIII века. Предполагают, что инициатива введения этого знака препинания в практику русской письменной речи (как и тире) принадлежит Н. М. Карамзину. Учёные считают, что происхождение этого слова не до конца понятно. Сопоставление с украинским названием "лапки" даёт возможность предположить, что оно образовано от глагола кавыкать — „ковылять“, „прихрамывать“. В русских диалектах кавыш — „утёнок“, „гусёнок“; кавка — „лягушка“. Таким образом, 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кавычки — „следы от утиных или лягушачьих лапок“, „крючок“, „закорючка“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ЗАКЛЮЧЕНИЕ . Как видим, названия большинства знаков препинания в русском языке являются исконно русскими, да и сам термин "знаки препинания" восходит к глаголу препинать -"остановить" , "задержать в движении".  Заимствованы были названия только двух знаков: дефис (чёрточка) — из нем. Divis (от лат. divisio — раздельно) и тире (черта) — из французского tiret, tїrer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Начало научному изучению пунктуации было положено М. В. Ломоносовым в «Российской грамматике»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   Сегодня мы с вами пользуемся «Правилами орфографии и пунктуации», принятыми в 1956 году, то есть почти полвека назад.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324000" y="1920960"/>
            <a:ext cx="8740800" cy="3370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2840" y="-1341360"/>
            <a:ext cx="8547120" cy="1609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24000" y="981000"/>
            <a:ext cx="85010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2 Диктант-загадка.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Times New Roman"/>
              </a:rPr>
              <a:t>Угадайте, о каких знаках препинания идёт речь.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1)Для неё главное конец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2)Она за равноправие –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3) Он всегда спрашивает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4)Он очень не любит скуку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5)Минус в математике, но знак другой в грамматике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6)Стоят три кумушки рядком. Ведут беседу, но – тайком, какими-то далёкими, туманными намёками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7)Словам раскрывают объятья: “Ждём в гости вас, милые братья!”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2"/>
          <a:srcRect l="18315" t="48829" r="75728" b="45315"/>
          <a:stretch/>
        </p:blipFill>
        <p:spPr>
          <a:xfrm>
            <a:off x="8604360" y="404640"/>
            <a:ext cx="360360" cy="576360"/>
          </a:xfrm>
          <a:prstGeom prst="rect">
            <a:avLst/>
          </a:prstGeom>
          <a:ln w="0">
            <a:noFill/>
          </a:ln>
        </p:spPr>
      </p:pic>
      <p:pic>
        <p:nvPicPr>
          <p:cNvPr id="67" name="Заголовок 1" descr=""/>
          <p:cNvPicPr/>
          <p:nvPr/>
        </p:nvPicPr>
        <p:blipFill>
          <a:blip r:embed="rId3"/>
          <a:stretch/>
        </p:blipFill>
        <p:spPr>
          <a:xfrm>
            <a:off x="-252360" y="-603360"/>
            <a:ext cx="85899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469800" y="-334800"/>
            <a:ext cx="8240760" cy="1620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8360" y="52056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10253f"/>
                </a:solidFill>
                <a:uFillTx/>
                <a:latin typeface="Times New Roman"/>
              </a:rPr>
              <a:t>-  </a:t>
            </a:r>
            <a:r>
              <a:rPr b="0" lang="ru-RU" sz="8000" spc="-1" strike="noStrike" u="sng">
                <a:solidFill>
                  <a:srgbClr val="10253f"/>
                </a:solidFill>
                <a:uFillTx/>
                <a:latin typeface="Times New Roman"/>
              </a:rPr>
              <a:t>Какой раздел науки о языке мы называем пунктуацией?</a:t>
            </a:r>
            <a:endParaRPr b="1" lang="en-US" sz="8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2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0253f"/>
                </a:solidFill>
                <a:latin typeface="Times New Roman"/>
              </a:rPr>
              <a:t>Пунктуация - раздел науки о языке, в котором изучается система знаков препинания и правила их постановки.</a:t>
            </a: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14839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468360" y="14842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468360" y="14842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одержимое 2"/>
          <p:cNvSpPr/>
          <p:nvPr/>
        </p:nvSpPr>
        <p:spPr>
          <a:xfrm>
            <a:off x="468360" y="155736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 конце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нутри простого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между частями сложного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 предложениях с прямой реч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при диалог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506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С какой темой мы сегодня познаком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Чему мы с вами науч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Что понравилось, запомнилось на уроке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Какие трудности возникли? Что получилось? Что не получило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оценки за урок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карточки успеха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8920" y="306864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1) дать понятие о пунктуации;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2)развивать орфографическую и пунктуационную зоркость;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3)воспитывать самостоятельность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615960" y="2127240"/>
            <a:ext cx="8242200" cy="181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Домашнее задание (на выбор)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А) 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2" name="Содержимое 2"/>
          <p:cNvSpPr/>
          <p:nvPr/>
        </p:nvSpPr>
        <p:spPr>
          <a:xfrm>
            <a:off x="468360" y="1628640"/>
            <a:ext cx="8229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А) Напишите сказку «В гостях у пунктуаци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Б)  Напишите небольшой рассказ, включив в него предложения с прямой речью (диалого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СПАСИБО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   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ЗА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           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УРОК!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0253f"/>
                </a:solidFill>
                <a:latin typeface="Times New Roman"/>
              </a:rPr>
              <a:t>Пунктуация - раздел науки о языке, в котором изучается система знаков препинания и правила их постановки.</a:t>
            </a: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0" y="328680"/>
            <a:ext cx="8736120" cy="147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</a:rPr>
              <a:t> 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нкту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оявилась намного позже, чем запись слов с помощью алфавита. До конца XV века текст писался или вообще без промежутков между словами, или делился на нерасчлененные отрезки. Из знаков препинания в летописях монахов употребляется только точка, которая однако ж редко стоит на своем месте.  В русском языке большинство известных нам сегодня знаков препинания появляется в XVI-XVIII веках. 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71720" y="1582560"/>
            <a:ext cx="764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вестно, в системе современной русской пунктуации 10 ЗНАКОВ ПРЕПИНАНИЯ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ка [.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ятая [,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ка с запятой [;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точие […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еточие [: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ительный знак [?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клицательный знак [!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ре [-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бки [()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вычки [" «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642960" y="285840"/>
            <a:ext cx="85010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ЧКА</a:t>
            </a: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нейшим знаком является точка. Она была введена точка (с 80-х годов XV века) и встречается уже в памятниках древнерусской письменности. Однако её употребление в тот период отличалось от современного: точка ставилась не внизу на строке, а выше — посреди неё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  Вот какое объяснение слову точка даёт В. И. Даль: „ТОЧКА (ткнуть) ж., значок от укола, от приткнутия к чему острием, кончиком пера, карандаша; мелкая крапина“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Точку по праву можно считать родоначальницей русской пунктуации. Не случайно это слово (или его корень) вошло в название таких знаков, как точка с запятой, двоеточие, многоточи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А в русском языке XVI-XVIII веков вопросительный знак назывался точка вопросительная, восклицательный — точка удивления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755640" y="404640"/>
            <a:ext cx="7848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ЯТАЯ 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Наиболее распространённым знаком препинания в русском языке считается запятая. Это слово встречается в XV веке. По мнению П. Я. Черных, слово "запятая" — это результат субстантивации (перехода в существительное) страдательного причастия прошедшего времени от глагола запяти (ся) — „зацепить(ся)“, „задеть“, „заколоться“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В. И. Даль связывает это слово с глаголами запясть, запять, запинать — „останавливать“, „задерживать“. Такое объяснение, на наш взгляд, представляется правомерным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   Потребность в знаках препинания начала остро ощущаться в связи с появлением и развитием книгопечатания (XV-XVI вв.). В середине XV века итальянские типографы Мануции изобрели пунктуацию для европейской письменности, которая была принята в основных чертах большинством стран Европы и существует до сих п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Двоеточие [:] как разделительный знак начинает употребляться с конца XVI века.     Двоеточие может ставиться и в простом, и в сложном предложении.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В простом предложении: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- после обобщающих слов перед однородными членами: </a:t>
            </a: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Times New Roman"/>
              </a:rPr>
              <a:t>Нас было двое: брат и я.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- перед перечислением при отсутствии обобщающего слова, если надо сигнализировать о нижеследующем перечне: </a:t>
            </a: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Times New Roman"/>
              </a:rPr>
              <a:t>Из-под сена виднелись: самовар, кадка, коробочки, узелки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ТИРЕ  относится к наиболее «молодым» знакам препинания. Существует мнение, что его изобрёл писатель и историк Н.М.Карамзин. Но некоторые учёные-языковеды опровергают данное мнение: этот знак встречается уже во второй половине XVIII в. Карамзин лишь способствовал его популяризации. В «Российской грамматике» А.А.Барсова 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(1797 г.) этот знак описан под названием «молчанка».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Тире употребляется в следующих случаях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 простом предложении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после однородных членов перед обобщающим словом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перед сказуемым или между сказуемыми для выражения быстроты действия или неожиданности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для обособления некоторых приложений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для выделения некоторых вставных и вводных конструкций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dc:language>en-US</dc:language>
  <cp:lastModifiedBy>Макаров</cp:lastModifiedBy>
  <dcterms:modified xsi:type="dcterms:W3CDTF">2012-11-12T01:57:36Z</dcterms:modified>
  <cp:revision>41</cp:revision>
  <dc:subject/>
  <dc:title>Слайд 1</dc:title>
</cp:coreProperties>
</file>