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778-D098-4748-957A-63CAEA07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F5B-D4D2-4FE3-B056-A1D4591E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55F-07CD-4109-8C68-B04EDFB6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54E-8E7F-4ED9-8B15-36367FD3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4F5-766D-4A7D-856E-F1198B3D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DF0-6375-4474-A229-69397A43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37A-2D43-4323-A13E-2CB95B48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08F-2CED-45A0-B838-BED5A6A6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451-8AA5-4DC3-97A8-9C339C88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829-A130-4FF2-8D59-CDF7E660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4B1-284C-47AC-B3D6-3E83B98B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F6A-AB8D-44B1-9333-13402475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E815-B2C8-4D57-A3D3-143D6AB562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3645000"/>
            <a:ext cx="82803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нктуация как система прави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склицательный знак [!] отмечается для выражения восклицания (удивления) также в грамматиках М. Смотрицкого и В. Е. Адодурова. Правила постановки „удивительного знака“ определяются в „Российской грамматике“ М. В. Ломоносова (1755)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просительный знак [?] встречается в печатных книгах с XVI века, однако для выражения вопроса он закрепляется значительно позже, лишь в XVIII веке. Первоначально в значении [?] встречалась [;] 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К более поздним знакам относится  многоточие […]. 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Знак многоточие […] под названием „знак пресекательный“ отмечается в 1831 году в грамматике А. Х. Востокова, хотя его употребление встречается в практике письма значительно раньш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АВЫЧКИ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    Не менее интересна история появления знака, который впоследствии получил название кавычки [" » ].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лово "кавычки" в значении нотного (крюкового) знака встречается в XVI веке, но в значении знака препинания оно стало употребляться только в конце XVIII века. Предполагают, что инициатива введения этого знака препинания в практику русской письменной речи (как и тире) принадлежит Н. М. Карамзину. Учёные считают, что происхождение этого слова не до конца понятно. Сопоставление с украинским названием "лапки" даёт возможность предположить, что оно образовано от глагола кавыкать — „ковылять“, „прихрамывать“. В русских диалектах кавыш — „утёнок“, „гусёнок“; кавка — „лягушка“. Таким образом,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кавычки — „следы от утиных или лягушачьих лапок“, „крючок“, „закорючка“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ЗАКЛЮЧЕНИЕ . Как видим, названия большинства знаков препинания в русском языке являются исконно русскими, да и сам термин "знаки препинания" восходит к глаголу препинать -"остановить" , "задержать в движении".  Заимствованы были названия только двух знаков: дефис (чёрточка) — из нем. Divis (от лат. divisio — раздельно) и тире (черта) — из французского tiret, tїrer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Начало научному изучению пунктуации было положено М. В. Ломоносовым в «Российской грамматике»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   Сегодня мы с вами пользуемся «Правилами орфографии и пунктуации», принятыми в 1956 году, то есть почти полвека назад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2 Диктант-загадка.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Times New Roman"/>
              </a:rPr>
              <a:t>Угадайте, о каких знаках препинания идёт речь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1)Для неё главное конец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2)Она за равноправие –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3) Он всегда спрашивает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4)Он очень не любит скуку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5)Минус в математике, но знак другой в грамматике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6)Стоят три кумушки рядком. Ведут беседу, но – тайком, какими-то далёкими, туманными намёками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7)Словам раскрывают объятья: “Ждём в гости вас, милые братья!”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3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8360" y="520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10253f"/>
                </a:solidFill>
                <a:uFillTx/>
                <a:latin typeface="Times New Roman"/>
              </a:rPr>
              <a:t>-  </a:t>
            </a:r>
            <a:r>
              <a:rPr b="0" lang="ru-RU" sz="8000" spc="-1" strike="noStrike" u="sng">
                <a:solidFill>
                  <a:srgbClr val="10253f"/>
                </a:solidFill>
                <a:uFillTx/>
                <a:latin typeface="Times New Roman"/>
              </a:rPr>
              <a:t>Какой раздел науки о языке мы называем пунктуацией?</a:t>
            </a:r>
            <a:endParaRPr b="1" lang="en-US" sz="8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468360" y="155736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конце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нутри прост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между частями сложн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предложениях с прямой реч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при диало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8920" y="306864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1) дать понятие о пунктуации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2)развивать орфографическую и пунктуационную зоркость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3)воспитывать самостоятельность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15960" y="2127240"/>
            <a:ext cx="8242200" cy="18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А)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Содержимое 2"/>
          <p:cNvSpPr/>
          <p:nvPr/>
        </p:nvSpPr>
        <p:spPr>
          <a:xfrm>
            <a:off x="468360" y="162864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 Напишите сказку «В гостях у пунктуа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)  Напишите небольшой рассказ, включив в него предложения с прямой речью (диалог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0" y="328680"/>
            <a:ext cx="873612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 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нкту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явилась намного позже, чем запись слов с помощью алфавита. До конца XV века текст писался или вообще без промежутков между словами, или делился на нерасчлененные отрезки. Из знаков препинания в летописях монахов употребляется только точка, которая однако ж редко стоит на своем месте.  В русском языке большинство известных нам сегодня знаков препинания появляется в XVI-XVIII веках.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71720" y="1582560"/>
            <a:ext cx="76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вестно, в системе современной русской пунктуации 10 ЗНАКОВ ПРЕПИНАНИ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[.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[,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с запятой [;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точие […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еточие [: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ительный знак [?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клицательный знак [!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ре [-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бки [()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вычки [" «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42960" y="285840"/>
            <a:ext cx="8501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КА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м знаком является точка. Она была введена точка (с 80-х годов XV века) и встречается уже в памятниках древнерусской письменности. Однако её употребление в тот период отличалось от современного: точка ставилась не внизу на строке, а выше — посреди неё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 Вот какое объяснение слову точка даёт В. И. Даль: „ТОЧКА (ткнуть) ж., значок от укола, от приткнутия к чему острием, кончиком пера, карандаша; мелкая крапина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Точку по праву можно считать родоначальницей русской пунктуации. Не случайно это слово (или его корень) вошло в название таких знаков, как точка с запятой, двоеточие, многоточи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А в русском языке XVI-XVIII веков вопросительный знак назывался точка вопросительная, восклицательный — точка удивлени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404640"/>
            <a:ext cx="7848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Наиболее распространённым знаком препинания в русском языке считается запятая. Это слово встречается в XV веке. По мнению П. Я. Черных, слово "запятая" — это результат субстантивации (перехода в существительное) страдательного причастия прошедшего времени от глагола запяти (ся) — „зацепить(ся)“, „задеть“, „заколоться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В. И. Даль связывает это слово с глаголами запясть, запять, запинать — „останавливать“, „задерживать“. Такое объяснение, на наш взгляд, представляется правомерны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  Потребность в знаках препинания начала остро ощущаться в связи с появлением и развитием книгопечатания (XV-XVI вв.). В середине XV века итальянские типографы Мануции изобрели пунктуацию для европейской письменности, которая была принята в основных чертах большинством стран Европы и существует до сих п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Двоеточие [:] как разделительный знак начинает употребляться с конца XVI века.     Двоеточие может ставиться и в простом, и в сложном предложении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осле обобщающих слов перед однородными членами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Нас было двое: брат и я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еред перечислением при отсутствии обобщающего слова, если надо сигнализировать о нижеследующем перечне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Из-под сена виднелись: самовар, кадка, коробочки, узелки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  относится к наиболее «молодым» знакам препинания. Существует мнение, что его изобрёл писатель и историк Н.М.Карамзин. Но некоторые учёные-языковеды опровергают данное мнение: этот знак встречается уже во второй половине XVIII в. Карамзин лишь способствовал его популяризации. В «Российской грамматике» А.А.Барсова 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(1797 г.) этот знак описан под названием «молчанка»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 употребляется в следующих случаях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осле однородных членов перед обобщающим словом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еред сказуемым или между сказуемыми для выражения быстроты действия или неожиданности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обособления некоторых приложений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выделения некоторых вставных и вводных конструкций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dc:language>en-US</dc:language>
  <cp:lastModifiedBy>Макаров</cp:lastModifiedBy>
  <dcterms:modified xsi:type="dcterms:W3CDTF">2012-11-12T01:57:36Z</dcterms:modified>
  <cp:revision>41</cp:revision>
  <dc:subject/>
  <dc:title>Слайд 1</dc:title>
</cp:coreProperties>
</file>