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643B-2C2C-43D3-B15B-284CFEB8D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6EEB-71BC-4919-AFE0-FE8E7269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DC25-A30D-4C63-9D62-CB958BF53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C55A-9A21-4ECA-8409-1D35548C8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9C22-2212-40FB-9C98-F330EB81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0F87-C10E-45FC-ACF9-09889664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1A85-FBF7-4721-A240-F29324D5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2572-A034-4F2D-B45C-1DB3E444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D349-45DA-4476-9B2F-823A5068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BF29-BBA8-451A-AA54-D7EFD32F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5D76-C3FF-4FCE-92B0-BF329786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12EB-B5B0-4A95-8A0E-7A9142E4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Calibri"/>
              </a:rPr>
              <a:t>Click to edit the title text format</a:t>
            </a: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8A49-5123-47E9-8AE9-CBD891DA9D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539640" y="3645000"/>
            <a:ext cx="8280360" cy="172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унктуация как система правил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Rectangle 2" descr=""/>
          <p:cNvPicPr/>
          <p:nvPr/>
        </p:nvPicPr>
        <p:blipFill>
          <a:blip r:embed="rId1"/>
          <a:stretch/>
        </p:blipFill>
        <p:spPr>
          <a:xfrm>
            <a:off x="450720" y="201600"/>
            <a:ext cx="8242560" cy="12254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Восклицательный знак [!] отмечается для выражения восклицания (удивления) также в грамматиках М. Смотрицкого и В. Е. Адодурова. Правила постановки „удивительного знака“ определяются в „Российской грамматике“ М. В. Ломоносова (1755).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Вопросительный знак [?] встречается в печатных книгах с XVI века, однако для выражения вопроса он закрепляется значительно позже, лишь в XVIII веке. Первоначально в значении [?] встречалась [;] .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    К более поздним знакам относится  многоточие […]. 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    Знак многоточие […] под названием „знак пресекательный“ отмечается в 1831 году в грамматике А. Х. Востокова, хотя его употребление встречается в практике письма значительно раньше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Rectangle 2" descr=""/>
          <p:cNvPicPr/>
          <p:nvPr/>
        </p:nvPicPr>
        <p:blipFill>
          <a:blip r:embed="rId1"/>
          <a:stretch/>
        </p:blipFill>
        <p:spPr>
          <a:xfrm>
            <a:off x="450720" y="-79200"/>
            <a:ext cx="8242560" cy="1506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КАВЫЧКИ </a:t>
            </a:r>
            <a:br>
              <a:rPr sz="2000"/>
            </a:b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    Не менее интересна история появления знака, который впоследствии получил название кавычки [" » ]. </a:t>
            </a:r>
            <a:br>
              <a:rPr sz="2000"/>
            </a:br>
            <a:r>
              <a:rPr b="1" lang="ru-RU" sz="2000" spc="-1" strike="noStrike">
                <a:solidFill>
                  <a:srgbClr val="10253f"/>
                </a:solidFill>
                <a:latin typeface="Times New Roman"/>
              </a:rPr>
              <a:t>Слово "кавычки" в значении нотного (крюкового) знака встречается в XVI веке, но в значении знака препинания оно стало употребляться только в конце XVIII века. Предполагают, что инициатива введения этого знака препинания в практику русской письменной речи (как и тире) принадлежит Н. М. Карамзину. Учёные считают, что происхождение этого слова не до конца понятно. Сопоставление с украинским названием "лапки" даёт возможность предположить, что оно образовано от глагола кавыкать — „ковылять“, „прихрамывать“. В русских диалектах кавыш — „утёнок“, „гусёнок“; кавка — „лягушка“. Таким образом, </a:t>
            </a: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кавычки — „следы от утиных или лягушачьих лапок“, „крючок“, „закорючка“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Rectangle 2" descr=""/>
          <p:cNvPicPr/>
          <p:nvPr/>
        </p:nvPicPr>
        <p:blipFill>
          <a:blip r:embed="rId1"/>
          <a:stretch/>
        </p:blipFill>
        <p:spPr>
          <a:xfrm>
            <a:off x="450720" y="201600"/>
            <a:ext cx="8242560" cy="12254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ЗАКЛЮЧЕНИЕ . Как видим, названия большинства знаков препинания в русском языке являются исконно русскими, да и сам термин "знаки препинания" восходит к глаголу препинать -"остановить" , "задержать в движении".  Заимствованы были названия только двух знаков: дефис (чёрточка) — из нем. Divis (от лат. divisio — раздельно) и тире (черта) — из французского tiret, tїrer.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    Начало научному изучению пунктуации было положено М. В. Ломоносовым в «Российской грамматике».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     Сегодня мы с вами пользуемся «Правилами орфографии и пунктуации», принятыми в 1956 году, то есть почти полвека назад.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головок 1" descr=""/>
          <p:cNvPicPr/>
          <p:nvPr/>
        </p:nvPicPr>
        <p:blipFill>
          <a:blip r:embed="rId1"/>
          <a:stretch/>
        </p:blipFill>
        <p:spPr>
          <a:xfrm>
            <a:off x="324000" y="1920960"/>
            <a:ext cx="8740800" cy="3370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571680" y="3857760"/>
            <a:ext cx="82296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42840" y="-1341360"/>
            <a:ext cx="8547120" cy="1609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324000" y="981000"/>
            <a:ext cx="850104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Times New Roman"/>
              </a:rPr>
              <a:t>2 Диктант-загадка.</a:t>
            </a:r>
            <a:endParaRPr b="1" lang="en-US" sz="2800" spc="-1" strike="noStrike">
              <a:solidFill>
                <a:srgbClr val="10253f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0253f"/>
                </a:solidFill>
                <a:latin typeface="Times New Roman"/>
              </a:rPr>
              <a:t>Угадайте, о каких знаках препинания идёт речь.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1)Для неё главное конец –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2)Она за равноправие –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3) Он всегда спрашивает –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4)Он очень не любит скуку –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5)Минус в математике, но знак другой в грамматике –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6)Стоят три кумушки рядком. Ведут беседу, но – тайком, какими-то далёкими, туманными намёками –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7)Словам раскрывают объятья: “Ждём в гости вас, милые братья!”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</p:txBody>
      </p:sp>
      <p:pic>
        <p:nvPicPr>
          <p:cNvPr id="66" name="Рисунок 3" descr=""/>
          <p:cNvPicPr/>
          <p:nvPr/>
        </p:nvPicPr>
        <p:blipFill>
          <a:blip r:embed="rId2"/>
          <a:srcRect l="18315" t="48829" r="75728" b="45315"/>
          <a:stretch/>
        </p:blipFill>
        <p:spPr>
          <a:xfrm>
            <a:off x="8604360" y="404640"/>
            <a:ext cx="360360" cy="576360"/>
          </a:xfrm>
          <a:prstGeom prst="rect">
            <a:avLst/>
          </a:prstGeom>
          <a:ln w="0">
            <a:noFill/>
          </a:ln>
        </p:spPr>
      </p:pic>
      <p:pic>
        <p:nvPicPr>
          <p:cNvPr id="67" name="Заголовок 1" descr=""/>
          <p:cNvPicPr/>
          <p:nvPr/>
        </p:nvPicPr>
        <p:blipFill>
          <a:blip r:embed="rId3"/>
          <a:stretch/>
        </p:blipFill>
        <p:spPr>
          <a:xfrm>
            <a:off x="-252360" y="-603360"/>
            <a:ext cx="858996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Заголовок 1" descr=""/>
          <p:cNvPicPr/>
          <p:nvPr/>
        </p:nvPicPr>
        <p:blipFill>
          <a:blip r:embed="rId1"/>
          <a:stretch/>
        </p:blipFill>
        <p:spPr>
          <a:xfrm>
            <a:off x="469800" y="-334800"/>
            <a:ext cx="8240760" cy="1620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68360" y="52056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10253f"/>
                </a:solidFill>
                <a:uFillTx/>
                <a:latin typeface="Times New Roman"/>
              </a:rPr>
              <a:t>-  </a:t>
            </a:r>
            <a:r>
              <a:rPr b="0" lang="ru-RU" sz="8000" spc="-1" strike="noStrike" u="sng">
                <a:solidFill>
                  <a:srgbClr val="10253f"/>
                </a:solidFill>
                <a:uFillTx/>
                <a:latin typeface="Times New Roman"/>
              </a:rPr>
              <a:t>Какой раздел науки о языке мы называем пунктуацией?</a:t>
            </a:r>
            <a:endParaRPr b="1" lang="en-US" sz="80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Rectangle 2" descr=""/>
          <p:cNvPicPr/>
          <p:nvPr/>
        </p:nvPicPr>
        <p:blipFill>
          <a:blip r:embed="rId1"/>
          <a:stretch/>
        </p:blipFill>
        <p:spPr>
          <a:xfrm>
            <a:off x="450720" y="0"/>
            <a:ext cx="8242560" cy="14270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10253f"/>
                </a:solidFill>
                <a:latin typeface="Times New Roman"/>
              </a:rPr>
              <a:t>Пунктуация - раздел науки о языке, в котором изучается система знаков препинания и правила их постановки.</a:t>
            </a:r>
            <a:endParaRPr b="1" lang="en-US" sz="48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68360" y="148392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73" name="Содержимое 2"/>
          <p:cNvSpPr/>
          <p:nvPr/>
        </p:nvSpPr>
        <p:spPr>
          <a:xfrm>
            <a:off x="468360" y="1484280"/>
            <a:ext cx="8229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одержимое 2"/>
          <p:cNvSpPr/>
          <p:nvPr/>
        </p:nvSpPr>
        <p:spPr>
          <a:xfrm>
            <a:off x="468360" y="1484280"/>
            <a:ext cx="8229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одержимое 2"/>
          <p:cNvSpPr/>
          <p:nvPr/>
        </p:nvSpPr>
        <p:spPr>
          <a:xfrm>
            <a:off x="468360" y="1557360"/>
            <a:ext cx="8229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- Какие знаки препинания мы ставим в конце предлож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- Какие знаки препинания мы ставим внутри простого предлож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- Какие знаки препинания мы ставим между частями сложного предлож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- Какие знаки препинания мы ставим в предложениях с прямой речью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- Какие знаки препинания мы ставим при диалог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Заголовок 1" descr=""/>
          <p:cNvPicPr/>
          <p:nvPr/>
        </p:nvPicPr>
        <p:blipFill>
          <a:blip r:embed="rId1"/>
          <a:stretch/>
        </p:blipFill>
        <p:spPr>
          <a:xfrm>
            <a:off x="450720" y="-79200"/>
            <a:ext cx="8242560" cy="1506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- С какой темой мы сегодня познакомились?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- Чему мы с вами научились?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- Что понравилось, запомнилось на уроке?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- Какие трудности возникли? Что получилось? Что не получилось?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10253f"/>
                </a:solidFill>
                <a:latin typeface="Times New Roman"/>
              </a:rPr>
              <a:t>оценки за урок</a:t>
            </a:r>
            <a:endParaRPr b="1" lang="en-US" sz="88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22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ru-RU" sz="8800" spc="-1" strike="noStrike">
                <a:solidFill>
                  <a:srgbClr val="10253f"/>
                </a:solidFill>
                <a:latin typeface="Times New Roman"/>
              </a:rPr>
              <a:t>карточки успеха</a:t>
            </a:r>
            <a:endParaRPr b="1" lang="en-US" sz="88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78920" y="3068640"/>
            <a:ext cx="8572680" cy="35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Times New Roman"/>
              </a:rPr>
              <a:t>       </a:t>
            </a:r>
            <a:endParaRPr b="1" lang="en-US" sz="18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0253f"/>
                </a:solidFill>
                <a:latin typeface="Times New Roman"/>
              </a:rPr>
              <a:t>1) дать понятие о пунктуации;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0253f"/>
                </a:solidFill>
                <a:latin typeface="Times New Roman"/>
              </a:rPr>
              <a:t>2)развивать орфографическую и пунктуационную зоркость;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0253f"/>
                </a:solidFill>
                <a:latin typeface="Times New Roman"/>
              </a:rPr>
              <a:t>3)воспитывать самостоятельность.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571760" y="5072040"/>
            <a:ext cx="46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Заголовок 1" descr=""/>
          <p:cNvPicPr/>
          <p:nvPr/>
        </p:nvPicPr>
        <p:blipFill>
          <a:blip r:embed="rId1"/>
          <a:stretch/>
        </p:blipFill>
        <p:spPr>
          <a:xfrm>
            <a:off x="615960" y="2127240"/>
            <a:ext cx="8242200" cy="1811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5368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Домашнее задание (на выбор)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Times New Roman"/>
              </a:rPr>
              <a:t>А) 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82" name="Содержимое 2"/>
          <p:cNvSpPr/>
          <p:nvPr/>
        </p:nvSpPr>
        <p:spPr>
          <a:xfrm>
            <a:off x="468360" y="1628640"/>
            <a:ext cx="82296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А) Напишите сказку «В гостях у пунктуации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Б)  Напишите небольшой рассказ, включив в него предложения с прямой речью (диалогом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      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        </a:t>
            </a:r>
            <a:r>
              <a:rPr b="1" lang="ru-RU" sz="4400" spc="-1" strike="noStrike">
                <a:solidFill>
                  <a:srgbClr val="10253f"/>
                </a:solidFill>
                <a:latin typeface="Times New Roman"/>
              </a:rPr>
              <a:t>СПАСИБО </a:t>
            </a:r>
            <a:endParaRPr b="1" lang="en-US" sz="4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Times New Roman"/>
              </a:rPr>
              <a:t>                              </a:t>
            </a:r>
            <a:r>
              <a:rPr b="1" lang="ru-RU" sz="4400" spc="-1" strike="noStrike">
                <a:solidFill>
                  <a:srgbClr val="10253f"/>
                </a:solidFill>
                <a:latin typeface="Times New Roman"/>
              </a:rPr>
              <a:t>ЗА</a:t>
            </a:r>
            <a:endParaRPr b="1" lang="en-US" sz="4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Times New Roman"/>
              </a:rPr>
              <a:t>                                      </a:t>
            </a:r>
            <a:r>
              <a:rPr b="1" lang="ru-RU" sz="4400" spc="-1" strike="noStrike">
                <a:solidFill>
                  <a:srgbClr val="10253f"/>
                </a:solidFill>
                <a:latin typeface="Times New Roman"/>
              </a:rPr>
              <a:t>УРОК!</a:t>
            </a:r>
            <a:endParaRPr b="1" lang="en-US" sz="4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Times New Roman"/>
              </a:rPr>
              <a:t>                   </a:t>
            </a:r>
            <a:endParaRPr b="1" lang="en-US" sz="44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10253f"/>
                </a:solidFill>
                <a:latin typeface="Times New Roman"/>
              </a:rPr>
              <a:t>Пунктуация - раздел науки о языке, в котором изучается система знаков препинания и правила их постановки.</a:t>
            </a:r>
            <a:endParaRPr b="1" lang="en-US" sz="48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1" descr=""/>
          <p:cNvPicPr/>
          <p:nvPr/>
        </p:nvPicPr>
        <p:blipFill>
          <a:blip r:embed="rId1"/>
          <a:stretch/>
        </p:blipFill>
        <p:spPr>
          <a:xfrm>
            <a:off x="0" y="328680"/>
            <a:ext cx="8736120" cy="1476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Times New Roman"/>
              </a:rPr>
              <a:t>  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унктуац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появилась намного позже, чем запись слов с помощью алфавита. До конца XV века текст писался или вообще без промежутков между словами, или делился на нерасчлененные отрезки. Из знаков препинания в летописях монахов употребляется только точка, которая однако ж редко стоит на своем месте.  В русском языке большинство известных нам сегодня знаков препинания появляется в XVI-XVIII веках. 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1071720" y="1582560"/>
            <a:ext cx="7643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известно, в системе современной русской пунктуации 10 ЗНАКОВ ПРЕПИНАНИЯ: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чка [.]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ятая [,]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чка с запятой [;]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оготочие […]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оеточие [:]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ительный знак [?]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клицательный знак [!]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ире [-]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бки [()]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вычки [" «]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642960" y="285840"/>
            <a:ext cx="8501040" cy="57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ЧКА</a:t>
            </a:r>
            <a:br>
              <a:rPr sz="18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ревнейшим знаком является точка. Она была введена точка (с 80-х годов XV века) и встречается уже в памятниках древнерусской письменности. Однако её употребление в тот период отличалось от современного: точка ставилась не внизу на строке, а выше — посреди неё;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 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   Вот какое объяснение слову точка даёт В. И. Даль: „ТОЧКА (ткнуть) ж., значок от укола, от приткнутия к чему острием, кончиком пера, карандаша; мелкая крапина“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  Точку по праву можно считать родоначальницей русской пунктуации. Не случайно это слово (или его корень) вошло в название таких знаков, как точка с запятой, двоеточие, многоточие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  А в русском языке XVI-XVIII веков вопросительный знак назывался точка вопросительная, восклицательный — точка удивления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755640" y="404640"/>
            <a:ext cx="784872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ЯТАЯ </a:t>
            </a: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  Наиболее распространённым знаком препинания в русском языке считается запятая. Это слово встречается в XV веке. По мнению П. Я. Черных, слово "запятая" — это результат субстантивации (перехода в существительное) страдательного причастия прошедшего времени от глагола запяти (ся) — „зацепить(ся)“, „задеть“, „заколоться“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  В. И. Даль связывает это слово с глаголами запясть, запять, запинать — „останавливать“, „задерживать“. Такое объяснение, на наш взгляд, представляется правомерным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   Потребность в знаках препинания начала остро ощущаться в связи с появлением и развитием книгопечатания (XV-XVI вв.). В середине XV века итальянские типографы Мануции изобрели пунктуацию для европейской письменности, которая была принята в основных чертах большинством стран Европы и существует до сих по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Rectang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80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Times New Roman"/>
              </a:rPr>
              <a:t>Двоеточие [:] как разделительный знак начинает употребляться с конца XVI века.     Двоеточие может ставиться и в простом, и в сложном предложении. </a:t>
            </a:r>
            <a:br>
              <a:rPr sz="2800"/>
            </a:br>
            <a:r>
              <a:rPr b="1" lang="ru-RU" sz="2800" spc="-1" strike="noStrike">
                <a:solidFill>
                  <a:srgbClr val="10253f"/>
                </a:solidFill>
                <a:latin typeface="Times New Roman"/>
              </a:rPr>
              <a:t>В простом предложении: </a:t>
            </a:r>
            <a:br>
              <a:rPr sz="2800"/>
            </a:br>
            <a:r>
              <a:rPr b="1" lang="ru-RU" sz="2800" spc="-1" strike="noStrike">
                <a:solidFill>
                  <a:srgbClr val="10253f"/>
                </a:solidFill>
                <a:latin typeface="Times New Roman"/>
              </a:rPr>
              <a:t>- после обобщающих слов перед однородными членами: </a:t>
            </a:r>
            <a:br>
              <a:rPr sz="2800"/>
            </a:br>
            <a:r>
              <a:rPr b="1" i="1" lang="ru-RU" sz="2800" spc="-1" strike="noStrike">
                <a:solidFill>
                  <a:srgbClr val="10253f"/>
                </a:solidFill>
                <a:latin typeface="Times New Roman"/>
              </a:rPr>
              <a:t>Нас было двое: брат и я. </a:t>
            </a:r>
            <a:br>
              <a:rPr sz="2800"/>
            </a:br>
            <a:r>
              <a:rPr b="1" lang="ru-RU" sz="2800" spc="-1" strike="noStrike">
                <a:solidFill>
                  <a:srgbClr val="10253f"/>
                </a:solidFill>
                <a:latin typeface="Times New Roman"/>
              </a:rPr>
              <a:t>- перед перечислением при отсутствии обобщающего слова, если надо сигнализировать о нижеследующем перечне: </a:t>
            </a:r>
            <a:br>
              <a:rPr sz="2800"/>
            </a:br>
            <a:r>
              <a:rPr b="1" i="1" lang="ru-RU" sz="2800" spc="-1" strike="noStrike">
                <a:solidFill>
                  <a:srgbClr val="10253f"/>
                </a:solidFill>
                <a:latin typeface="Times New Roman"/>
              </a:rPr>
              <a:t>Из-под сена виднелись: самовар, кадка, коробочки, узелки</a:t>
            </a:r>
            <a:endParaRPr b="1" lang="en-US" sz="28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Rectangle 2" descr=""/>
          <p:cNvPicPr/>
          <p:nvPr/>
        </p:nvPicPr>
        <p:blipFill>
          <a:blip r:embed="rId1"/>
          <a:stretch/>
        </p:blipFill>
        <p:spPr>
          <a:xfrm>
            <a:off x="450720" y="0"/>
            <a:ext cx="8242560" cy="14270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ТИРЕ  относится к наиболее «молодым» знакам препинания. Существует мнение, что его изобрёл писатель и историк Н.М.Карамзин. Но некоторые учёные-языковеды опровергают данное мнение: этот знак встречается уже во второй половине XVIII в. Карамзин лишь способствовал его популяризации. В «Российской грамматике» А.А.Барсова 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(1797 г.) этот знак описан под названием «молчанка».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    </a:t>
            </a: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Тире употребляется в следующих случаях.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В простом предложении: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- после однородных членов перед обобщающим словом: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- перед сказуемым или между сказуемыми для выражения быстроты действия или неожиданности: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- для обособления некоторых приложений: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- для выделения некоторых вставных и вводных конструкций: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14:06:07Z</dcterms:created>
  <dc:creator>Admin</dc:creator>
  <dc:description/>
  <dc:language>en-US</dc:language>
  <cp:lastModifiedBy>Макаров</cp:lastModifiedBy>
  <dcterms:modified xsi:type="dcterms:W3CDTF">2012-11-12T01:57:36Z</dcterms:modified>
  <cp:revision>41</cp:revision>
  <dc:subject/>
  <dc:title>Слайд 1</dc:title>
</cp:coreProperties>
</file>