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8DC-6135-43DA-9F04-E6E233FF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9E0-56C8-4C3D-8998-1D14FBE2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B21-E410-4B58-8919-5BC637AC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626-00FD-49B3-8606-107A57DB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9BD-5264-40BE-8BEE-1FDCE17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52F-510D-43AC-A7B2-1DDEB8F6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1863-2A16-477E-BECB-653B54A5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DC4-10DC-45A5-AD1C-3D67D40D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7F7-AEE8-4C86-A116-030056C5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CC4-8BC2-4E87-8917-FBCBF801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4FA-666C-46A5-98A2-63CDB13D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337-B26F-436A-B93A-7EA385D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6711-F67B-4C9F-8BB5-CCE7CF181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7.xml"/><Relationship Id="rId9" Type="http://schemas.openxmlformats.org/officeDocument/2006/relationships/image" Target="../media/image1.png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9.xml"/><Relationship Id="rId13" Type="http://schemas.openxmlformats.org/officeDocument/2006/relationships/image" Target="../media/image1.png"/><Relationship Id="rId14" Type="http://schemas.openxmlformats.org/officeDocument/2006/relationships/slide" Target="slide10.xml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 смежных  углов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им  прямую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отметим  точк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лежащую  между  точкам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м  луч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ись два угл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B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угла, у которых  одна  сторона  общая,  а  две  другие  являются  продолжениями  одна  другой,  называются сме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905120" y="35812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60020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657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234480" y="354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V="1">
            <a:off x="4114800" y="22096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167440" y="201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10520" y="3068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1960" y="2273400"/>
            <a:ext cx="5770440" cy="2165400"/>
          </a:xfrm>
          <a:custGeom>
            <a:avLst/>
            <a:gdLst/>
            <a:ahLst/>
            <a:rect l="l" t="t" r="r" b="b"/>
            <a:pathLst>
              <a:path w="3635" h="1364">
                <a:moveTo>
                  <a:pt x="0" y="1364"/>
                </a:moveTo>
                <a:lnTo>
                  <a:pt x="3635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38680" y="4973760"/>
                <a:ext cx="31240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84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00360" y="260280"/>
                <a:ext cx="43894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rPr>
                        <m:lit/>
                        <m:nor/>
                      </m:rPr>
                      <m:t xml:space="preserve"> на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DB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F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6108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15160" y="177336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8520" y="3933720"/>
            <a:ext cx="282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+х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+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=180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519800">
            <a:off x="7164000" y="249192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908000">
            <a:off x="5508720" y="242064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4938000">
            <a:off x="5452560" y="204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980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0520" y="31417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780000" y="4435560"/>
                <a:ext cx="5040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NMO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LM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LMN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RMO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70520" y="1989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6920" y="189000"/>
            <a:ext cx="7953480" cy="1325520"/>
            <a:chOff x="826920" y="189000"/>
            <a:chExt cx="7953480" cy="1325520"/>
          </a:xfrm>
        </p:grpSpPr>
        <p:sp>
          <p:nvSpPr>
            <p:cNvPr id="207" name=""/>
            <p:cNvSpPr/>
            <p:nvPr/>
          </p:nvSpPr>
          <p:spPr>
            <a:xfrm>
              <a:off x="826920" y="18900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336760" y="220680"/>
                  <a:ext cx="4464000" cy="56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2263680" y="860400"/>
                  <a:ext cx="619272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N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N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RMO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LM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96360" y="1341360"/>
            <a:ext cx="1547640" cy="1511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02144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7080" y="184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443600">
            <a:off x="6726960" y="2784240"/>
            <a:ext cx="22068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 rot="5273400">
            <a:off x="5578920" y="2492280"/>
            <a:ext cx="28908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230800">
            <a:off x="5525640" y="204264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440" y="328464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65640" y="1854360"/>
            <a:ext cx="1358640" cy="2374920"/>
          </a:xfrm>
          <a:custGeom>
            <a:avLst/>
            <a:gdLst/>
            <a:ahLst/>
            <a:rect l="l" t="t" r="r" b="b"/>
            <a:pathLst>
              <a:path w="856" h="1496">
                <a:moveTo>
                  <a:pt x="0" y="0"/>
                </a:moveTo>
                <a:lnTo>
                  <a:pt x="856" y="1496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05080" y="31417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140360" y="5349960"/>
                <a:ext cx="4608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1042920" y="260280"/>
            <a:ext cx="7958160" cy="2232000"/>
            <a:chOff x="1042920" y="260280"/>
            <a:chExt cx="7958160" cy="2232000"/>
          </a:xfrm>
        </p:grpSpPr>
        <p:sp>
          <p:nvSpPr>
            <p:cNvPr id="227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524720" y="981000"/>
              <a:ext cx="1476360" cy="1511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771640" y="333360"/>
                  <a:ext cx="220500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−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771640" y="907920"/>
                  <a:ext cx="111924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7492200">
            <a:off x="4741560" y="345276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86000">
            <a:off x="3784320" y="3409560"/>
            <a:ext cx="3744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86000">
            <a:off x="4086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000"/>
                            </p:stCondLst>
                            <p:childTnLst>
                              <p:par>
                                <p:cTn id="31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635280" y="5229360"/>
                <a:ext cx="550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"/>
          <p:cNvGrpSpPr/>
          <p:nvPr/>
        </p:nvGrpSpPr>
        <p:grpSpPr>
          <a:xfrm>
            <a:off x="1042920" y="260280"/>
            <a:ext cx="7953480" cy="1328760"/>
            <a:chOff x="1042920" y="260280"/>
            <a:chExt cx="7953480" cy="1328760"/>
          </a:xfrm>
        </p:grpSpPr>
        <p:sp>
          <p:nvSpPr>
            <p:cNvPr id="243" name=""/>
            <p:cNvSpPr/>
            <p:nvPr/>
          </p:nvSpPr>
          <p:spPr>
            <a:xfrm>
              <a:off x="1042920" y="260280"/>
              <a:ext cx="79534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771640" y="399960"/>
                  <a:ext cx="41054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: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: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771640" y="922320"/>
                  <a:ext cx="30956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6773400">
            <a:off x="4627080" y="3516120"/>
            <a:ext cx="39060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86000">
            <a:off x="3708000" y="3716280"/>
            <a:ext cx="28728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2160" y="20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1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6686400">
            <a:off x="4656600" y="3128040"/>
            <a:ext cx="505080" cy="124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91" y="1073"/>
                  <a:pt x="5981" y="5080"/>
                  <a:pt x="5981" y="10800"/>
                </a:cubicBezTo>
                <a:cubicBezTo>
                  <a:pt x="5981" y="16520"/>
                  <a:pt x="13791" y="205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508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416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&amp;Kcy;&amp;acy;&amp;rcy;&amp;tcy;&amp;icy;&amp;ncy;&amp;kcy;&amp;acy; 125 &amp;icy;&amp;zcy; 65344"/>
          <p:cNvPicPr/>
          <p:nvPr/>
        </p:nvPicPr>
        <p:blipFill>
          <a:blip r:embed="rId5"/>
          <a:stretch/>
        </p:blipFill>
        <p:spPr>
          <a:xfrm>
            <a:off x="7524720" y="765000"/>
            <a:ext cx="14763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29280"/>
            <a:ext cx="6756120" cy="12600"/>
          </a:xfrm>
          <a:custGeom>
            <a:avLst/>
            <a:gdLst/>
            <a:ahLst/>
            <a:rect l="l" t="t" r="r" b="b"/>
            <a:pathLst>
              <a:path w="4256" h="8">
                <a:moveTo>
                  <a:pt x="0" y="8"/>
                </a:moveTo>
                <a:lnTo>
                  <a:pt x="4256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3380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0" y="2463840"/>
            <a:ext cx="2438280" cy="1765440"/>
          </a:xfrm>
          <a:custGeom>
            <a:avLst/>
            <a:gdLst/>
            <a:ahLst/>
            <a:rect l="l" t="t" r="r" b="b"/>
            <a:pathLst>
              <a:path w="1536" h="1112">
                <a:moveTo>
                  <a:pt x="0" y="0"/>
                </a:moveTo>
                <a:lnTo>
                  <a:pt x="1536" y="11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742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27640" y="4797360"/>
                <a:ext cx="324000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042920" y="260280"/>
            <a:ext cx="7953480" cy="132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484360" y="333360"/>
                <a:ext cx="4222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771640" y="928800"/>
                <a:ext cx="3095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O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9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692280"/>
            <a:ext cx="147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30320" y="3048120"/>
            <a:ext cx="3810240" cy="2031840"/>
          </a:xfrm>
          <a:custGeom>
            <a:avLst/>
            <a:gdLst/>
            <a:ahLst/>
            <a:rect l="l" t="t" r="r" b="b"/>
            <a:pathLst>
              <a:path w="2400" h="1280">
                <a:moveTo>
                  <a:pt x="0" y="248"/>
                </a:moveTo>
                <a:lnTo>
                  <a:pt x="1392" y="1280"/>
                </a:lnTo>
                <a:lnTo>
                  <a:pt x="24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50160" y="5157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33800" y="50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71640" y="260280"/>
            <a:ext cx="8028000" cy="2160720"/>
            <a:chOff x="971640" y="260280"/>
            <a:chExt cx="8028000" cy="2160720"/>
          </a:xfrm>
        </p:grpSpPr>
        <p:sp>
          <p:nvSpPr>
            <p:cNvPr id="278" name=""/>
            <p:cNvSpPr/>
            <p:nvPr/>
          </p:nvSpPr>
          <p:spPr>
            <a:xfrm>
              <a:off x="971640" y="260280"/>
              <a:ext cx="8028000" cy="216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2556000" y="1341360"/>
                  <a:ext cx="48848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2411640" y="1844640"/>
                  <a:ext cx="16095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MO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2340000" y="333360"/>
                  <a:ext cx="520380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С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OВ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смежные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411640" y="836640"/>
                  <a:ext cx="53402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М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АОС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3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667640" y="109872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3880" y="5054760"/>
            <a:ext cx="5702400" cy="50760"/>
          </a:xfrm>
          <a:custGeom>
            <a:avLst/>
            <a:gdLst/>
            <a:ahLst/>
            <a:rect l="l" t="t" r="r" b="b"/>
            <a:pathLst>
              <a:path w="3592" h="32">
                <a:moveTo>
                  <a:pt x="0" y="0"/>
                </a:moveTo>
                <a:lnTo>
                  <a:pt x="3592" y="3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27480" y="2654280"/>
            <a:ext cx="812880" cy="2413080"/>
          </a:xfrm>
          <a:custGeom>
            <a:avLst/>
            <a:gdLst/>
            <a:ahLst/>
            <a:rect l="l" t="t" r="r" b="b"/>
            <a:pathLst>
              <a:path w="512" h="1520">
                <a:moveTo>
                  <a:pt x="512" y="15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5380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3440" y="501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3498600">
            <a:off x="3383280" y="3896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315800">
            <a:off x="2914200" y="4437000"/>
            <a:ext cx="28728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5998800">
            <a:off x="4070520" y="400248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9000600">
            <a:off x="4716000" y="4436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998800">
            <a:off x="4113000" y="424800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8704800">
            <a:off x="4571280" y="458136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21170400">
            <a:off x="2123640" y="263664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1520" y="5829480"/>
                <a:ext cx="32335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4444E-006 L 0.20069 0.2125 E">
                                      <p:cBhvr>
                                        <p:cTn id="3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125 L 0.35833 -0.05 E">
                                      <p:cBhvr>
                                        <p:cTn id="39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500"/>
                            </p:stCondLst>
                            <p:childTnLst>
                              <p:par>
                                <p:cTn id="4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500"/>
                            </p:stCondLst>
                            <p:childTnLst>
                              <p:par>
                                <p:cTn id="4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8906000">
            <a:off x="2627280" y="184464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02880" y="4149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416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1800" y="2492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287280"/>
            <a:ext cx="8028000" cy="2160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556000" y="1370160"/>
                <a:ext cx="4884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871640"/>
                <a:ext cx="1609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340000" y="404640"/>
                <a:ext cx="604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СOD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вертикальны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432160" y="863640"/>
                <a:ext cx="52988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М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ОВ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41300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176560" y="289548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997360"/>
            <a:ext cx="552276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21080" y="357336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61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82520" y="35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0616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421200">
            <a:off x="3203640" y="342900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20047800">
            <a:off x="3276360" y="4149360"/>
            <a:ext cx="28728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2163200">
            <a:off x="6372000" y="4149000"/>
            <a:ext cx="3538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9871800">
            <a:off x="6443640" y="342828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1990400">
            <a:off x="6227640" y="414936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9747600">
            <a:off x="6300000" y="3499920"/>
            <a:ext cx="2682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762360" y="5829480"/>
                <a:ext cx="34718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МO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rot="21170400">
            <a:off x="2123640" y="2997000"/>
            <a:ext cx="217440" cy="976320"/>
          </a:xfrm>
          <a:prstGeom prst="downArrow">
            <a:avLst>
              <a:gd name="adj1" fmla="val 50000"/>
              <a:gd name="adj2" fmla="val 11225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28732 0.00232 E">
                                      <p:cBhvr>
                                        <p:cTn id="446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732 0.00232 L 0.57083 0.00232 E">
                                      <p:cBhvr>
                                        <p:cTn id="449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0"/>
                            </p:stCondLst>
                            <p:childTnLst>
                              <p:par>
                                <p:cTn id="4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500"/>
                            </p:stCondLst>
                            <p:childTnLst>
                              <p:par>
                                <p:cTn id="4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500"/>
                            </p:stCondLst>
                            <p:childTnLst>
                              <p:par>
                                <p:cTn id="4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500"/>
                            </p:stCondLst>
                            <p:childTnLst>
                              <p:par>
                                <p:cTn id="4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8906000">
            <a:off x="2554200" y="1555920"/>
            <a:ext cx="4464000" cy="4464000"/>
          </a:xfrm>
          <a:custGeom>
            <a:avLst/>
            <a:gdLst/>
            <a:ahLst/>
            <a:rect l="l" t="t" r="r" b="b"/>
            <a:pathLst>
              <a:path w="1483" h="1499">
                <a:moveTo>
                  <a:pt x="0" y="0"/>
                </a:moveTo>
                <a:lnTo>
                  <a:pt x="1483" y="1499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900000" y="189000"/>
            <a:ext cx="8028000" cy="1826640"/>
            <a:chOff x="900000" y="189000"/>
            <a:chExt cx="8028000" cy="1826640"/>
          </a:xfrm>
        </p:grpSpPr>
        <p:sp>
          <p:nvSpPr>
            <p:cNvPr id="332" name=""/>
            <p:cNvSpPr/>
            <p:nvPr/>
          </p:nvSpPr>
          <p:spPr>
            <a:xfrm>
              <a:off x="900000" y="25992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2052360" y="763200"/>
                  <a:ext cx="48438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E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биссектриса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484360" y="1325160"/>
                  <a:ext cx="280836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124000" y="189000"/>
                  <a:ext cx="24685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DOE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36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52472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4800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09080" y="328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2163200">
            <a:off x="6298560" y="3860640"/>
            <a:ext cx="35388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9871800">
            <a:off x="6370560" y="3139200"/>
            <a:ext cx="32544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1990400">
            <a:off x="6154560" y="3860280"/>
            <a:ext cx="292320" cy="4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9747600">
            <a:off x="6227280" y="3211200"/>
            <a:ext cx="2685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90" y="1216"/>
                  <a:pt x="6779" y="5080"/>
                  <a:pt x="6779" y="10800"/>
                </a:cubicBezTo>
                <a:cubicBezTo>
                  <a:pt x="6779" y="16520"/>
                  <a:pt x="14190" y="2038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6671160" y="3860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ru-RU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9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7440" y="22035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1080" y="4579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56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68360" y="260280"/>
                  <a:ext cx="6480360" cy="107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BOC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COD</m:t>
                          </m:r>
                          <m:r>
                            <m:rPr>
                              <m:lit/>
                              <m:nor/>
                            </m:rPr>
                            <m:t xml:space="preserve">+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DO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503440" y="1325520"/>
                  <a:ext cx="276876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9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26828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05800" y="22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38160" y="4363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780000" y="4869000"/>
                <a:ext cx="332892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O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41520" y="3292560"/>
            <a:ext cx="6350040" cy="38160"/>
          </a:xfrm>
          <a:custGeom>
            <a:avLst/>
            <a:gdLst/>
            <a:ahLst/>
            <a:rect l="l" t="t" r="r" b="b"/>
            <a:pathLst>
              <a:path w="4000" h="24">
                <a:moveTo>
                  <a:pt x="0" y="24"/>
                </a:moveTo>
                <a:lnTo>
                  <a:pt x="4000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02160" y="241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816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372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556000" y="1268280"/>
                  <a:ext cx="3292200" cy="71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268360" y="260280"/>
                  <a:ext cx="374364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3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75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12536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052720" y="2131920"/>
            <a:ext cx="5557680" cy="240048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90560" y="2203560"/>
            <a:ext cx="5523120" cy="247788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6520" y="2779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70160" y="2681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4880" y="3355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3080" y="350028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708360" y="4243320"/>
                <a:ext cx="3471840" cy="26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ение смежных угл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в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9480" y="175608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м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95280" y="46483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 построения  смежного  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м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, являющийся одной  из его  сторон, дополняется  до  пря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4574880" y="1752480"/>
            <a:ext cx="2283840" cy="1923120"/>
            <a:chOff x="4574880" y="1752480"/>
            <a:chExt cx="2283840" cy="1923120"/>
          </a:xfrm>
        </p:grpSpPr>
        <p:sp>
          <p:nvSpPr>
            <p:cNvPr id="56" name="Прямая соединительная линия 6"/>
            <p:cNvSpPr/>
            <p:nvPr/>
          </p:nvSpPr>
          <p:spPr>
            <a:xfrm>
              <a:off x="5029200" y="2057040"/>
              <a:ext cx="15242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7"/>
            <p:cNvSpPr/>
            <p:nvPr/>
          </p:nvSpPr>
          <p:spPr>
            <a:xfrm flipV="1">
              <a:off x="5105160" y="2742840"/>
              <a:ext cx="14479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36"/>
            <p:cNvSpPr/>
            <p:nvPr/>
          </p:nvSpPr>
          <p:spPr>
            <a:xfrm>
              <a:off x="4647960" y="327672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6"/>
            <p:cNvSpPr/>
            <p:nvPr/>
          </p:nvSpPr>
          <p:spPr>
            <a:xfrm>
              <a:off x="6480000" y="28195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6"/>
            <p:cNvSpPr/>
            <p:nvPr/>
          </p:nvSpPr>
          <p:spPr>
            <a:xfrm>
              <a:off x="457488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Прямая соединительная линия 18"/>
          <p:cNvSpPr/>
          <p:nvPr/>
        </p:nvSpPr>
        <p:spPr>
          <a:xfrm flipV="1">
            <a:off x="6553080" y="2209680"/>
            <a:ext cx="12193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6"/>
          <p:cNvSpPr/>
          <p:nvPr/>
        </p:nvSpPr>
        <p:spPr>
          <a:xfrm>
            <a:off x="8003160" y="2133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4720" y="400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4720" y="3141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8144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8028000" cy="175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йти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268360" y="260280"/>
                <a:ext cx="46800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84360" y="1268280"/>
                <a:ext cx="3724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2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981000"/>
            <a:ext cx="1476360" cy="1401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103480" y="2606760"/>
            <a:ext cx="5557680" cy="2400120"/>
          </a:xfrm>
          <a:custGeom>
            <a:avLst/>
            <a:gdLst/>
            <a:ahLst/>
            <a:rect l="l" t="t" r="r" b="b"/>
            <a:pathLst>
              <a:path w="3501" h="1512">
                <a:moveTo>
                  <a:pt x="0" y="0"/>
                </a:moveTo>
                <a:lnTo>
                  <a:pt x="3501" y="151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62200" y="2708280"/>
            <a:ext cx="5522760" cy="2478240"/>
          </a:xfrm>
          <a:custGeom>
            <a:avLst/>
            <a:gdLst/>
            <a:ahLst/>
            <a:rect l="l" t="t" r="r" b="b"/>
            <a:pathLst>
              <a:path w="3479" h="1561">
                <a:moveTo>
                  <a:pt x="0" y="1561"/>
                </a:moveTo>
                <a:lnTo>
                  <a:pt x="3479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10160" y="35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637080" y="4869000"/>
                <a:ext cx="3614760" cy="17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4944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24000" y="35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900000" y="260280"/>
            <a:ext cx="8028000" cy="1755720"/>
            <a:chOff x="900000" y="260280"/>
            <a:chExt cx="8028000" cy="1755720"/>
          </a:xfrm>
        </p:grpSpPr>
        <p:sp>
          <p:nvSpPr>
            <p:cNvPr id="404" name=""/>
            <p:cNvSpPr/>
            <p:nvPr/>
          </p:nvSpPr>
          <p:spPr>
            <a:xfrm>
              <a:off x="900000" y="260280"/>
              <a:ext cx="8028000" cy="1755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2268360" y="262080"/>
                  <a:ext cx="561672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BOC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2411280" y="1125360"/>
                  <a:ext cx="105264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07" name="" descr="&amp;Kcy;&amp;acy;&amp;rcy;&amp;tcy;&amp;icy;&amp;ncy;&amp;kcy;&amp;acy; 125 &amp;icy;&amp;zcy; 65344"/>
          <p:cNvPicPr/>
          <p:nvPr/>
        </p:nvPicPr>
        <p:blipFill>
          <a:blip r:embed="rId4"/>
          <a:stretch/>
        </p:blipFill>
        <p:spPr>
          <a:xfrm>
            <a:off x="7451640" y="1052640"/>
            <a:ext cx="1476360" cy="1401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539720" y="4106880"/>
            <a:ext cx="6578640" cy="1440"/>
          </a:xfrm>
          <a:custGeom>
            <a:avLst/>
            <a:gdLst/>
            <a:ahLst/>
            <a:rect l="l" t="t" r="r" b="b"/>
            <a:pathLst>
              <a:path w="4144" h="1">
                <a:moveTo>
                  <a:pt x="0" y="0"/>
                </a:moveTo>
                <a:lnTo>
                  <a:pt x="4144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11600" y="2087640"/>
            <a:ext cx="4000320" cy="2019240"/>
          </a:xfrm>
          <a:custGeom>
            <a:avLst/>
            <a:gdLst/>
            <a:ahLst/>
            <a:rect l="l" t="t" r="r" b="b"/>
            <a:pathLst>
              <a:path w="2520" h="1272">
                <a:moveTo>
                  <a:pt x="0" y="0"/>
                </a:moveTo>
                <a:lnTo>
                  <a:pt x="496" y="1272"/>
                </a:lnTo>
                <a:lnTo>
                  <a:pt x="2520" y="624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284720" y="5805360"/>
                <a:ext cx="21398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7669800" y="40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48000" y="21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616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68960" y="3543480"/>
            <a:ext cx="546120" cy="393480"/>
          </a:xfrm>
          <a:custGeom>
            <a:avLst/>
            <a:gdLst/>
            <a:ahLst/>
            <a:rect l="l" t="t" r="r" b="b"/>
            <a:pathLst>
              <a:path w="344" h="248">
                <a:moveTo>
                  <a:pt x="0" y="104"/>
                </a:moveTo>
                <a:lnTo>
                  <a:pt x="256" y="0"/>
                </a:lnTo>
                <a:lnTo>
                  <a:pt x="344" y="248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ойство  смежных 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лько  углов изображено  на  рисунке ?  Какие  это  углы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 3  угла,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и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-  смежные,  а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– развернуты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уществует  ли  какая  либо взаимосвязь между этими  углам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а,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ак  по –другому можно  записать  данное  равенство ? Почему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В  +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ОС =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, т.к.  </a:t>
            </a:r>
            <a:r>
              <a:rPr b="1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ОС  -  развернутый  и  его  градусная  мера  равн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80  </a:t>
            </a:r>
            <a:r>
              <a:rPr b="1" lang="ru-RU" sz="2000" spc="-1" strike="noStrike" baseline="30000">
                <a:solidFill>
                  <a:srgbClr val="c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3"/>
          <p:cNvGrpSpPr/>
          <p:nvPr/>
        </p:nvGrpSpPr>
        <p:grpSpPr>
          <a:xfrm>
            <a:off x="4879800" y="1752480"/>
            <a:ext cx="3869280" cy="1923120"/>
            <a:chOff x="4879800" y="1752480"/>
            <a:chExt cx="3869280" cy="1923120"/>
          </a:xfrm>
        </p:grpSpPr>
        <p:sp>
          <p:nvSpPr>
            <p:cNvPr id="66" name="Прямая соединительная линия 4"/>
            <p:cNvSpPr/>
            <p:nvPr/>
          </p:nvSpPr>
          <p:spPr>
            <a:xfrm>
              <a:off x="5334120" y="2057040"/>
              <a:ext cx="137160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5"/>
            <p:cNvSpPr/>
            <p:nvPr/>
          </p:nvSpPr>
          <p:spPr>
            <a:xfrm flipV="1">
              <a:off x="5410080" y="2209320"/>
              <a:ext cx="2743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6"/>
            <p:cNvSpPr/>
            <p:nvPr/>
          </p:nvSpPr>
          <p:spPr>
            <a:xfrm>
              <a:off x="4952880" y="327672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6"/>
            <p:cNvSpPr/>
            <p:nvPr/>
          </p:nvSpPr>
          <p:spPr>
            <a:xfrm>
              <a:off x="6555240" y="29718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6"/>
            <p:cNvSpPr/>
            <p:nvPr/>
          </p:nvSpPr>
          <p:spPr>
            <a:xfrm>
              <a:off x="4879800" y="1752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8384040" y="1828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е 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чертите  неразвернутый  уго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ите  луч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ющиеся  продолжением сторон  угла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75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Текст 25"/>
          <p:cNvSpPr/>
          <p:nvPr/>
        </p:nvSpPr>
        <p:spPr>
          <a:xfrm>
            <a:off x="990720" y="38862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 неразвернутых углов получилось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Четыре -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С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овите  углы,  которые  не  являются  смежным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COD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c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c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Два  угла называются вертикальными, если стороны одного являются продолжениями сторон друг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е вертикальных  уг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ертикальные;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ертика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Найдите  взаимосвязь  между вертикальными  уг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30"/>
          <p:cNvGrpSpPr/>
          <p:nvPr/>
        </p:nvGrpSpPr>
        <p:grpSpPr>
          <a:xfrm>
            <a:off x="6172200" y="1981080"/>
            <a:ext cx="2161080" cy="1237320"/>
            <a:chOff x="6172200" y="1981080"/>
            <a:chExt cx="2161080" cy="1237320"/>
          </a:xfrm>
        </p:grpSpPr>
        <p:sp>
          <p:nvSpPr>
            <p:cNvPr id="88" name="Прямая соединительная линия 14"/>
            <p:cNvSpPr/>
            <p:nvPr/>
          </p:nvSpPr>
          <p:spPr>
            <a:xfrm flipH="1">
              <a:off x="6324480" y="1981080"/>
              <a:ext cx="144792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6"/>
            <p:cNvSpPr/>
            <p:nvPr/>
          </p:nvSpPr>
          <p:spPr>
            <a:xfrm>
              <a:off x="6324480" y="2590920"/>
              <a:ext cx="15238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6172200" y="2666880"/>
              <a:ext cx="37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6"/>
            <p:cNvSpPr/>
            <p:nvPr/>
          </p:nvSpPr>
          <p:spPr>
            <a:xfrm>
              <a:off x="8003160" y="28195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6"/>
          <p:cNvSpPr/>
          <p:nvPr/>
        </p:nvSpPr>
        <p:spPr>
          <a:xfrm>
            <a:off x="7927560" y="1676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650480" y="3200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3"/>
          <p:cNvSpPr/>
          <p:nvPr/>
        </p:nvSpPr>
        <p:spPr>
          <a:xfrm flipH="1" flipV="1">
            <a:off x="4572000" y="2209320"/>
            <a:ext cx="18288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26"/>
          <p:cNvSpPr/>
          <p:nvPr/>
        </p:nvSpPr>
        <p:spPr>
          <a:xfrm flipH="1">
            <a:off x="4876560" y="2513880"/>
            <a:ext cx="16002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4422240" y="182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25"/>
          <p:cNvSpPr/>
          <p:nvPr/>
        </p:nvSpPr>
        <p:spPr>
          <a:xfrm>
            <a:off x="755640" y="4221000"/>
            <a:ext cx="792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войство   вертикальных  углов : вертикальные углы  равны.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9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708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5600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708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8" action="ppaction://hlinksldjump"/>
          </p:cNvPr>
          <p:cNvSpPr/>
          <p:nvPr/>
        </p:nvSpPr>
        <p:spPr>
          <a:xfrm>
            <a:off x="111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255600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2" action="ppaction://hlinksldjump"/>
          </p:cNvPr>
          <p:cNvSpPr/>
          <p:nvPr/>
        </p:nvSpPr>
        <p:spPr>
          <a:xfrm>
            <a:off x="399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4" action="ppaction://hlinksldjump"/>
          </p:cNvPr>
          <p:cNvSpPr/>
          <p:nvPr/>
        </p:nvSpPr>
        <p:spPr>
          <a:xfrm>
            <a:off x="543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5640" y="2421000"/>
            <a:ext cx="1042920" cy="79200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8440" h="21600">
                <a:moveTo>
                  <a:pt x="0" y="0"/>
                </a:moveTo>
                <a:lnTo>
                  <a:pt x="28440" y="0"/>
                </a:lnTo>
                <a:lnTo>
                  <a:pt x="28440" y="21600"/>
                </a:lnTo>
                <a:lnTo>
                  <a:pt x="0" y="21600"/>
                </a:lnTo>
                <a:close/>
              </a:path>
              <a:path fill="lightenLess" w="28440" h="21600">
                <a:moveTo>
                  <a:pt x="0" y="0"/>
                </a:moveTo>
                <a:lnTo>
                  <a:pt x="28440" y="0"/>
                </a:lnTo>
                <a:lnTo>
                  <a:pt x="27040" y="1400"/>
                </a:lnTo>
                <a:lnTo>
                  <a:pt x="1400" y="1400"/>
                </a:lnTo>
                <a:close/>
              </a:path>
              <a:path fill="darken" w="28440" h="21600">
                <a:moveTo>
                  <a:pt x="28440" y="0"/>
                </a:moveTo>
                <a:lnTo>
                  <a:pt x="28440" y="21600"/>
                </a:lnTo>
                <a:lnTo>
                  <a:pt x="27040" y="20200"/>
                </a:lnTo>
                <a:lnTo>
                  <a:pt x="27040" y="1400"/>
                </a:lnTo>
                <a:close/>
              </a:path>
              <a:path fill="darkenLess" w="28440" h="21600">
                <a:moveTo>
                  <a:pt x="2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40" y="20200"/>
                </a:lnTo>
                <a:close/>
              </a:path>
              <a:path fill="lighten" w="2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7440" y="458136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57440" y="3500280"/>
            <a:ext cx="1042920" cy="792360"/>
          </a:xfrm>
          <a:custGeom>
            <a:avLst/>
            <a:gdLst>
              <a:gd name="textAreaLeft" fmla="*/ 51120 w 1042920"/>
              <a:gd name="textAreaRight" fmla="*/ 991800 w 1042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8427" h="21600">
                <a:moveTo>
                  <a:pt x="0" y="0"/>
                </a:moveTo>
                <a:lnTo>
                  <a:pt x="28427" y="0"/>
                </a:lnTo>
                <a:lnTo>
                  <a:pt x="28427" y="21600"/>
                </a:lnTo>
                <a:lnTo>
                  <a:pt x="0" y="21600"/>
                </a:lnTo>
                <a:close/>
              </a:path>
              <a:path fill="lightenLess" w="28427" h="21600">
                <a:moveTo>
                  <a:pt x="0" y="0"/>
                </a:moveTo>
                <a:lnTo>
                  <a:pt x="28427" y="0"/>
                </a:lnTo>
                <a:lnTo>
                  <a:pt x="27027" y="1400"/>
                </a:lnTo>
                <a:lnTo>
                  <a:pt x="1400" y="1400"/>
                </a:lnTo>
                <a:close/>
              </a:path>
              <a:path fill="darken" w="28427" h="21600">
                <a:moveTo>
                  <a:pt x="28427" y="0"/>
                </a:moveTo>
                <a:lnTo>
                  <a:pt x="28427" y="21600"/>
                </a:lnTo>
                <a:lnTo>
                  <a:pt x="27027" y="20200"/>
                </a:lnTo>
                <a:lnTo>
                  <a:pt x="27027" y="1400"/>
                </a:lnTo>
                <a:close/>
              </a:path>
              <a:path fill="darkenLess" w="28427" h="21600">
                <a:moveTo>
                  <a:pt x="2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27" y="20200"/>
                </a:lnTo>
                <a:close/>
              </a:path>
              <a:path fill="lighten" w="2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971640" y="1052640"/>
            <a:ext cx="7200720" cy="863640"/>
          </a:xfrm>
          <a:custGeom>
            <a:avLst/>
            <a:gdLst>
              <a:gd name="textAreaLeft" fmla="*/ 55800 w 7200720"/>
              <a:gd name="textAreaRight" fmla="*/ 7144920 w 720072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0027" h="21600">
                <a:moveTo>
                  <a:pt x="0" y="0"/>
                </a:moveTo>
                <a:lnTo>
                  <a:pt x="180027" y="0"/>
                </a:lnTo>
                <a:lnTo>
                  <a:pt x="180027" y="21600"/>
                </a:lnTo>
                <a:lnTo>
                  <a:pt x="0" y="21600"/>
                </a:lnTo>
                <a:close/>
              </a:path>
              <a:path fill="lightenLess" w="180027" h="21600">
                <a:moveTo>
                  <a:pt x="0" y="0"/>
                </a:moveTo>
                <a:lnTo>
                  <a:pt x="180027" y="0"/>
                </a:lnTo>
                <a:lnTo>
                  <a:pt x="178627" y="1400"/>
                </a:lnTo>
                <a:lnTo>
                  <a:pt x="1400" y="1400"/>
                </a:lnTo>
                <a:close/>
              </a:path>
              <a:path fill="darken" w="180027" h="21600">
                <a:moveTo>
                  <a:pt x="180027" y="0"/>
                </a:moveTo>
                <a:lnTo>
                  <a:pt x="180027" y="21600"/>
                </a:lnTo>
                <a:lnTo>
                  <a:pt x="178627" y="20200"/>
                </a:lnTo>
                <a:lnTo>
                  <a:pt x="178627" y="1400"/>
                </a:lnTo>
                <a:close/>
              </a:path>
              <a:path fill="darkenLess" w="180027" h="21600">
                <a:moveTo>
                  <a:pt x="180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627" y="20200"/>
                </a:lnTo>
                <a:close/>
              </a:path>
              <a:path fill="lighten" w="180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ежные и вертикальные уг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7956720" y="6308640"/>
            <a:ext cx="792000" cy="316080"/>
          </a:xfrm>
          <a:custGeom>
            <a:avLst/>
            <a:gdLst>
              <a:gd name="textAreaLeft" fmla="*/ 20160 w 792000"/>
              <a:gd name="textAreaRight" fmla="*/ 771840 w 792000"/>
              <a:gd name="textAreaTop" fmla="*/ 20160 h 316080"/>
              <a:gd name="textAreaBottom" fmla="*/ 295920 h 316080"/>
            </a:gdLst>
            <a:ahLst/>
            <a:rect l="textAreaLeft" t="textAreaTop" r="textAreaRight" b="textAreaBottom"/>
            <a:pathLst>
              <a:path w="54086" h="21600">
                <a:moveTo>
                  <a:pt x="0" y="0"/>
                </a:moveTo>
                <a:lnTo>
                  <a:pt x="54086" y="0"/>
                </a:lnTo>
                <a:lnTo>
                  <a:pt x="54086" y="21600"/>
                </a:lnTo>
                <a:lnTo>
                  <a:pt x="0" y="21600"/>
                </a:lnTo>
                <a:close/>
              </a:path>
              <a:path fill="lightenLess" w="54086" h="21600">
                <a:moveTo>
                  <a:pt x="0" y="0"/>
                </a:moveTo>
                <a:lnTo>
                  <a:pt x="54086" y="0"/>
                </a:lnTo>
                <a:lnTo>
                  <a:pt x="52686" y="1400"/>
                </a:lnTo>
                <a:lnTo>
                  <a:pt x="1400" y="1400"/>
                </a:lnTo>
                <a:close/>
              </a:path>
              <a:path fill="darken" w="54086" h="21600">
                <a:moveTo>
                  <a:pt x="54086" y="0"/>
                </a:moveTo>
                <a:lnTo>
                  <a:pt x="54086" y="21600"/>
                </a:lnTo>
                <a:lnTo>
                  <a:pt x="52686" y="20200"/>
                </a:lnTo>
                <a:lnTo>
                  <a:pt x="52686" y="1400"/>
                </a:lnTo>
                <a:close/>
              </a:path>
              <a:path fill="darkenLess" w="54086" h="21600">
                <a:moveTo>
                  <a:pt x="54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6" y="20200"/>
                </a:lnTo>
                <a:close/>
              </a:path>
              <a:path fill="lighten" w="54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6" h="21600">
                <a:moveTo>
                  <a:pt x="30542" y="10800"/>
                </a:moveTo>
                <a:lnTo>
                  <a:pt x="20037" y="17806"/>
                </a:lnTo>
                <a:lnTo>
                  <a:pt x="20037" y="3794"/>
                </a:lnTo>
                <a:close/>
              </a:path>
              <a:path fill="darken" w="54086" h="21600">
                <a:moveTo>
                  <a:pt x="32387" y="3794"/>
                </a:moveTo>
                <a:lnTo>
                  <a:pt x="32387" y="17806"/>
                </a:lnTo>
                <a:lnTo>
                  <a:pt x="34049" y="17806"/>
                </a:lnTo>
                <a:lnTo>
                  <a:pt x="3404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440" y="25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800" y="3860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140360" y="5661000"/>
                <a:ext cx="2952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C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260280"/>
            <a:ext cx="8100360" cy="2304720"/>
            <a:chOff x="1042920" y="260280"/>
            <a:chExt cx="8100360" cy="2304720"/>
          </a:xfrm>
        </p:grpSpPr>
        <p:sp>
          <p:nvSpPr>
            <p:cNvPr id="124" name=""/>
            <p:cNvSpPr/>
            <p:nvPr/>
          </p:nvSpPr>
          <p:spPr>
            <a:xfrm>
              <a:off x="2297880" y="1989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042920" y="260280"/>
              <a:ext cx="8100360" cy="2304720"/>
              <a:chOff x="1042920" y="260280"/>
              <a:chExt cx="8100360" cy="2304720"/>
            </a:xfrm>
          </p:grpSpPr>
          <p:sp>
            <p:nvSpPr>
              <p:cNvPr id="126" name=""/>
              <p:cNvSpPr/>
              <p:nvPr/>
            </p:nvSpPr>
            <p:spPr>
              <a:xfrm>
                <a:off x="1042920" y="260280"/>
                <a:ext cx="7952400" cy="13255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Дано:  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Найти: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&amp;Kcy;&amp;acy;&amp;rcy;&amp;tcy;&amp;icy;&amp;ncy;&amp;kcy;&amp;acy; 125 &amp;icy;&amp;zcy; 65344"/>
              <p:cNvPicPr/>
              <p:nvPr/>
            </p:nvPicPr>
            <p:blipFill>
              <a:blip r:embed="rId3"/>
              <a:stretch/>
            </p:blipFill>
            <p:spPr>
              <a:xfrm>
                <a:off x="7817040" y="1054440"/>
                <a:ext cx="1326240" cy="151056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737800" y="333360"/>
                  <a:ext cx="2503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D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883960" y="907920"/>
                  <a:ext cx="145908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С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421200">
            <a:off x="4140360" y="285264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88240" y="29242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10520" y="31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01960" y="2425680"/>
            <a:ext cx="5605200" cy="2013120"/>
          </a:xfrm>
          <a:custGeom>
            <a:avLst/>
            <a:gdLst/>
            <a:ahLst/>
            <a:rect l="l" t="t" r="r" b="b"/>
            <a:pathLst>
              <a:path w="3531" h="1268">
                <a:moveTo>
                  <a:pt x="0" y="1268"/>
                </a:moveTo>
                <a:lnTo>
                  <a:pt x="3531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44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00720" y="4149720"/>
                <a:ext cx="3095640" cy="24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C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716436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042920" y="260280"/>
            <a:ext cx="8100720" cy="2304720"/>
            <a:chOff x="1042920" y="260280"/>
            <a:chExt cx="8100720" cy="2304720"/>
          </a:xfrm>
        </p:grpSpPr>
        <p:sp>
          <p:nvSpPr>
            <p:cNvPr id="143" name=""/>
            <p:cNvSpPr/>
            <p:nvPr/>
          </p:nvSpPr>
          <p:spPr>
            <a:xfrm>
              <a:off x="1042920" y="260280"/>
              <a:ext cx="795276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817400" y="1054440"/>
              <a:ext cx="132624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2627280" y="355680"/>
            <a:ext cx="4105440" cy="1147680"/>
            <a:chOff x="2627280" y="355680"/>
            <a:chExt cx="4105440" cy="114768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2700360" y="355680"/>
                  <a:ext cx="2448000" cy="56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С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42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627280" y="907920"/>
                  <a:ext cx="410544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FBD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ABF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CB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4810800">
            <a:off x="5615280" y="2528280"/>
            <a:ext cx="28728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04240" y="2060640"/>
            <a:ext cx="9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142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88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50000">
              <a:srgbClr val="fefefe"/>
            </a:gs>
            <a:gs pos="100000">
              <a:srgbClr val="9696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24000" y="2565360"/>
            <a:ext cx="6224760" cy="860400"/>
          </a:xfrm>
          <a:custGeom>
            <a:avLst/>
            <a:gdLst/>
            <a:ahLst/>
            <a:rect l="l" t="t" r="r" b="b"/>
            <a:pathLst>
              <a:path w="3921" h="542">
                <a:moveTo>
                  <a:pt x="0" y="0"/>
                </a:moveTo>
                <a:lnTo>
                  <a:pt x="3921" y="542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580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587700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960" y="3060720"/>
            <a:ext cx="3725640" cy="1378080"/>
          </a:xfrm>
          <a:custGeom>
            <a:avLst/>
            <a:gdLst/>
            <a:ahLst/>
            <a:rect l="l" t="t" r="r" b="b"/>
            <a:pathLst>
              <a:path w="2347" h="868">
                <a:moveTo>
                  <a:pt x="0" y="868"/>
                </a:moveTo>
                <a:lnTo>
                  <a:pt x="2347" y="0"/>
                </a:lnTo>
              </a:path>
            </a:pathLst>
          </a:custGeom>
          <a:noFill/>
          <a:ln w="572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0880" y="249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716360" y="4973760"/>
                <a:ext cx="316872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DB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D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7885080" y="2852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0160" y="19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42920" y="260280"/>
            <a:ext cx="7921800" cy="2304720"/>
            <a:chOff x="1042920" y="260280"/>
            <a:chExt cx="7921800" cy="2304720"/>
          </a:xfrm>
        </p:grpSpPr>
        <p:sp>
          <p:nvSpPr>
            <p:cNvPr id="162" name=""/>
            <p:cNvSpPr/>
            <p:nvPr/>
          </p:nvSpPr>
          <p:spPr>
            <a:xfrm>
              <a:off x="1042920" y="260280"/>
              <a:ext cx="7777080" cy="1325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Дано: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Найти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&amp;Kcy;&amp;acy;&amp;rcy;&amp;tcy;&amp;icy;&amp;ncy;&amp;kcy;&amp;acy; 125 &amp;icy;&amp;zcy; 65344"/>
            <p:cNvPicPr/>
            <p:nvPr/>
          </p:nvPicPr>
          <p:blipFill>
            <a:blip r:embed="rId3"/>
            <a:stretch/>
          </p:blipFill>
          <p:spPr>
            <a:xfrm>
              <a:off x="7667640" y="1054440"/>
              <a:ext cx="1297080" cy="15105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399960"/>
                <a:ext cx="44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rPr>
                        <m:lit/>
                        <m:nor/>
                      </m:rPr>
                      <m:t xml:space="preserve">&lt;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rPr>
                        <m:lit/>
                        <m:nor/>
                      </m:rPr>
                      <m:t xml:space="preserve"> в 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ра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0360" y="907920"/>
                <a:ext cx="2736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B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101080" y="616572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10800"/>
                </a:moveTo>
                <a:lnTo>
                  <a:pt x="23998" y="3794"/>
                </a:lnTo>
                <a:lnTo>
                  <a:pt x="23998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3095640" cy="720720"/>
          </a:xfrm>
          <a:custGeom>
            <a:avLst/>
            <a:gdLst>
              <a:gd name="textAreaLeft" fmla="*/ 46440 w 3095640"/>
              <a:gd name="textAreaRight" fmla="*/ 3049200 w 3095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92741" h="21600">
                <a:moveTo>
                  <a:pt x="0" y="0"/>
                </a:moveTo>
                <a:lnTo>
                  <a:pt x="92741" y="0"/>
                </a:lnTo>
                <a:lnTo>
                  <a:pt x="92741" y="21600"/>
                </a:lnTo>
                <a:lnTo>
                  <a:pt x="0" y="21600"/>
                </a:lnTo>
                <a:close/>
              </a:path>
              <a:path fill="lightenLess" w="92741" h="21600">
                <a:moveTo>
                  <a:pt x="0" y="0"/>
                </a:moveTo>
                <a:lnTo>
                  <a:pt x="92741" y="0"/>
                </a:lnTo>
                <a:lnTo>
                  <a:pt x="91341" y="1400"/>
                </a:lnTo>
                <a:lnTo>
                  <a:pt x="1400" y="1400"/>
                </a:lnTo>
                <a:close/>
              </a:path>
              <a:path fill="darken" w="92741" h="21600">
                <a:moveTo>
                  <a:pt x="92741" y="0"/>
                </a:moveTo>
                <a:lnTo>
                  <a:pt x="92741" y="21600"/>
                </a:lnTo>
                <a:lnTo>
                  <a:pt x="91341" y="20200"/>
                </a:lnTo>
                <a:lnTo>
                  <a:pt x="91341" y="1400"/>
                </a:lnTo>
                <a:close/>
              </a:path>
              <a:path fill="darkenLess" w="92741" h="21600">
                <a:moveTo>
                  <a:pt x="92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341" y="20200"/>
                </a:lnTo>
                <a:close/>
              </a:path>
              <a:path fill="lighten" w="92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дсказ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101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1800" y="3573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59520" y="4221000"/>
            <a:ext cx="22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5х+х=180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1228600">
            <a:off x="4062240" y="2852640"/>
            <a:ext cx="28764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5738000">
            <a:off x="5579640" y="2925360"/>
            <a:ext cx="28728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228" y="1230"/>
                  <a:pt x="6855" y="5080"/>
                  <a:pt x="6855" y="10800"/>
                </a:cubicBezTo>
                <a:cubicBezTo>
                  <a:pt x="6855" y="16520"/>
                  <a:pt x="14228" y="2037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5738000">
            <a:off x="5525640" y="2763000"/>
            <a:ext cx="3970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2" y="873"/>
                  <a:pt x="4864" y="5080"/>
                  <a:pt x="4864" y="10800"/>
                </a:cubicBezTo>
                <a:cubicBezTo>
                  <a:pt x="4864" y="16520"/>
                  <a:pt x="13232" y="2072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8:30:05Z</dcterms:created>
  <dc:creator>КарМаН</dc:creator>
  <dc:description/>
  <dc:language>en-US</dc:language>
  <cp:lastModifiedBy>User</cp:lastModifiedBy>
  <dcterms:modified xsi:type="dcterms:W3CDTF">2012-11-14T09:21:54Z</dcterms:modified>
  <cp:revision>27</cp:revision>
  <dc:subject/>
  <dc:title>Слайд 1</dc:title>
</cp:coreProperties>
</file>