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5B1-60A7-4516-8B3A-B56408C3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4CA-4B4F-46A6-AFD7-57F6C6B1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211-81D8-45A3-BB8F-19AA1E5D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627-995B-4D8B-8B00-3D0C6EF8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5AC-961B-4719-9A74-A9450FAF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C1F-2395-4744-A400-1E38E4B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0D0-A1E7-4D9B-A953-2ED52ECB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C4F-9D4F-40B6-B724-BE921978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BAD-6B95-42C8-85A4-9C5C58E8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6FE-45AC-40B7-8755-FC886EA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978-4B3D-4C58-816F-552099BD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4F5-5E54-4D4B-8B2F-D7BF8A23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E531-8F8F-471D-A448-0DD7D1196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7.xml"/><Relationship Id="rId9" Type="http://schemas.openxmlformats.org/officeDocument/2006/relationships/image" Target="../media/image1.png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9.xml"/><Relationship Id="rId13" Type="http://schemas.openxmlformats.org/officeDocument/2006/relationships/image" Target="../media/image1.png"/><Relationship Id="rId14" Type="http://schemas.openxmlformats.org/officeDocument/2006/relationships/slide" Target="slide10.xml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 смежных  угл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м 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отметим 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лежащую  между  точкам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м  луч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ись два угл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B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угла, у которых  одна  сторона  общая,  а  две  другие  являются  продолжениями  одна  другой,  называются сме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905120" y="35812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002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234480" y="354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V="1">
            <a:off x="4114800" y="22096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167440" y="201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05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01960" y="2273400"/>
            <a:ext cx="5770440" cy="2165400"/>
          </a:xfrm>
          <a:custGeom>
            <a:avLst/>
            <a:gdLst/>
            <a:ahLst/>
            <a:rect l="l" t="t" r="r" b="b"/>
            <a:pathLst>
              <a:path w="3635" h="1364">
                <a:moveTo>
                  <a:pt x="0" y="1364"/>
                </a:moveTo>
                <a:lnTo>
                  <a:pt x="36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16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38680" y="4973760"/>
                <a:ext cx="31240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B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84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00360" y="260280"/>
                <a:ext cx="4389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rPr>
                        <m:lit/>
                        <m:nor/>
                      </m:rPr>
                      <m:t xml:space="preserve"> на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F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6108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15160" y="1773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8520" y="393372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+х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=180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519800">
            <a:off x="7164000" y="249192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908000">
            <a:off x="5508720" y="242064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4938000">
            <a:off x="5452560" y="204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980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0520" y="3141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780000" y="4435560"/>
                <a:ext cx="504000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NMO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LM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LMN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RMO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70520" y="1989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6920" y="189000"/>
            <a:ext cx="7953480" cy="1325520"/>
            <a:chOff x="826920" y="189000"/>
            <a:chExt cx="7953480" cy="1325520"/>
          </a:xfrm>
        </p:grpSpPr>
        <p:sp>
          <p:nvSpPr>
            <p:cNvPr id="207" name=""/>
            <p:cNvSpPr/>
            <p:nvPr/>
          </p:nvSpPr>
          <p:spPr>
            <a:xfrm>
              <a:off x="826920" y="18900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336760" y="220680"/>
                  <a:ext cx="44640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263680" y="860400"/>
                  <a:ext cx="619272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R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341360"/>
            <a:ext cx="1547640" cy="1511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2144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708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443600">
            <a:off x="6726960" y="2784240"/>
            <a:ext cx="2206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5273400">
            <a:off x="5578920" y="2492280"/>
            <a:ext cx="289080" cy="71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230800">
            <a:off x="5525640" y="204264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440" y="328464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5640" y="1854360"/>
            <a:ext cx="1358640" cy="2374920"/>
          </a:xfrm>
          <a:custGeom>
            <a:avLst/>
            <a:gdLst/>
            <a:ahLst/>
            <a:rect l="l" t="t" r="r" b="b"/>
            <a:pathLst>
              <a:path w="856" h="1496">
                <a:moveTo>
                  <a:pt x="0" y="0"/>
                </a:moveTo>
                <a:lnTo>
                  <a:pt x="856" y="149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5080" y="314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5349960"/>
                <a:ext cx="460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1042920" y="260280"/>
            <a:ext cx="7958160" cy="2232000"/>
            <a:chOff x="1042920" y="260280"/>
            <a:chExt cx="7958160" cy="2232000"/>
          </a:xfrm>
        </p:grpSpPr>
        <p:sp>
          <p:nvSpPr>
            <p:cNvPr id="227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524720" y="981000"/>
              <a:ext cx="1476360" cy="1511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771640" y="333360"/>
                  <a:ext cx="220500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771640" y="907920"/>
                  <a:ext cx="111924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7492200">
            <a:off x="4741560" y="345276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86000">
            <a:off x="3784320" y="3409560"/>
            <a:ext cx="3744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86000">
            <a:off x="4086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35280" y="5229360"/>
                <a:ext cx="550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1042920" y="260280"/>
            <a:ext cx="7953480" cy="1328760"/>
            <a:chOff x="1042920" y="260280"/>
            <a:chExt cx="7953480" cy="1328760"/>
          </a:xfrm>
        </p:grpSpPr>
        <p:sp>
          <p:nvSpPr>
            <p:cNvPr id="243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771640" y="399960"/>
                  <a:ext cx="41054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771640" y="922320"/>
                  <a:ext cx="30956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6773400">
            <a:off x="4627080" y="351612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86000">
            <a:off x="3708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216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1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6686400">
            <a:off x="4656600" y="3128040"/>
            <a:ext cx="505080" cy="124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1" y="1073"/>
                  <a:pt x="5981" y="5080"/>
                  <a:pt x="5981" y="10800"/>
                </a:cubicBezTo>
                <a:cubicBezTo>
                  <a:pt x="5981" y="16520"/>
                  <a:pt x="13791" y="205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508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4160" y="292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&amp;Kcy;&amp;acy;&amp;rcy;&amp;tcy;&amp;icy;&amp;ncy;&amp;kcy;&amp;acy; 125 &amp;icy;&amp;zcy; 65344"/>
          <p:cNvPicPr/>
          <p:nvPr/>
        </p:nvPicPr>
        <p:blipFill>
          <a:blip r:embed="rId5"/>
          <a:stretch/>
        </p:blipFill>
        <p:spPr>
          <a:xfrm>
            <a:off x="7524720" y="765000"/>
            <a:ext cx="147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4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427640" y="4797360"/>
                <a:ext cx="3240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042920" y="260280"/>
            <a:ext cx="7953480" cy="132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84360" y="333360"/>
                <a:ext cx="4222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771640" y="928800"/>
                <a:ext cx="3095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9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692280"/>
            <a:ext cx="147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30320" y="3048120"/>
            <a:ext cx="3810240" cy="2031840"/>
          </a:xfrm>
          <a:custGeom>
            <a:avLst/>
            <a:gdLst/>
            <a:ahLst/>
            <a:rect l="l" t="t" r="r" b="b"/>
            <a:pathLst>
              <a:path w="2400" h="1280">
                <a:moveTo>
                  <a:pt x="0" y="248"/>
                </a:moveTo>
                <a:lnTo>
                  <a:pt x="1392" y="1280"/>
                </a:lnTo>
                <a:lnTo>
                  <a:pt x="24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5016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3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260280"/>
            <a:ext cx="8028000" cy="2160720"/>
            <a:chOff x="971640" y="260280"/>
            <a:chExt cx="8028000" cy="2160720"/>
          </a:xfrm>
        </p:grpSpPr>
        <p:sp>
          <p:nvSpPr>
            <p:cNvPr id="278" name=""/>
            <p:cNvSpPr/>
            <p:nvPr/>
          </p:nvSpPr>
          <p:spPr>
            <a:xfrm>
              <a:off x="971640" y="260280"/>
              <a:ext cx="8028000" cy="216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556000" y="1341360"/>
                  <a:ext cx="488484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2411640" y="1844640"/>
                  <a:ext cx="16095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MO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340000" y="333360"/>
                  <a:ext cx="52038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смежные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411640" y="836640"/>
                  <a:ext cx="53402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М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С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3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09872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23880" y="5054760"/>
            <a:ext cx="5702400" cy="50760"/>
          </a:xfrm>
          <a:custGeom>
            <a:avLst/>
            <a:gdLst/>
            <a:ahLst/>
            <a:rect l="l" t="t" r="r" b="b"/>
            <a:pathLst>
              <a:path w="3592" h="32">
                <a:moveTo>
                  <a:pt x="0" y="0"/>
                </a:moveTo>
                <a:lnTo>
                  <a:pt x="3592" y="3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27480" y="2654280"/>
            <a:ext cx="812880" cy="2413080"/>
          </a:xfrm>
          <a:custGeom>
            <a:avLst/>
            <a:gdLst/>
            <a:ahLst/>
            <a:rect l="l" t="t" r="r" b="b"/>
            <a:pathLst>
              <a:path w="512" h="1520">
                <a:moveTo>
                  <a:pt x="512" y="15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3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344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3498600">
            <a:off x="3383280" y="3896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315800">
            <a:off x="2914200" y="4437000"/>
            <a:ext cx="287280" cy="6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998800">
            <a:off x="4070520" y="400248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9000600">
            <a:off x="4716000" y="4436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998800">
            <a:off x="4113000" y="424800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8704800">
            <a:off x="4571280" y="458136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21170400">
            <a:off x="2123640" y="263664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1520" y="5829480"/>
                <a:ext cx="3233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4444E-006 L 0.20069 0.2125 E">
                                      <p:cBhvr>
                                        <p:cTn id="3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125 L 0.35833 -0.05 E">
                                      <p:cBhvr>
                                        <p:cTn id="39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500"/>
                            </p:stCondLst>
                            <p:childTnLst>
                              <p:par>
                                <p:cTn id="4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8906000">
            <a:off x="2627280" y="184464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41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1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87280"/>
            <a:ext cx="8028000" cy="216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556000" y="1370160"/>
                <a:ext cx="4884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871640"/>
                <a:ext cx="1609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340000" y="404640"/>
                <a:ext cx="604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O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32160" y="863640"/>
                <a:ext cx="5298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41300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76560" y="289548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2997360"/>
            <a:ext cx="552276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6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8252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0616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421200">
            <a:off x="3203640" y="342900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20047800">
            <a:off x="3276360" y="4149360"/>
            <a:ext cx="28728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2163200">
            <a:off x="6372000" y="414900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9871800">
            <a:off x="6443640" y="3428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1990400">
            <a:off x="6227640" y="414936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9747600">
            <a:off x="6300000" y="349992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762360" y="5829480"/>
                <a:ext cx="3471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rot="21170400">
            <a:off x="2123640" y="299700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28732 0.00232 E">
                                      <p:cBhvr>
                                        <p:cTn id="44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32 0.00232 L 0.57083 0.00232 E">
                                      <p:cBhvr>
                                        <p:cTn id="449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500"/>
                            </p:stCondLst>
                            <p:childTnLst>
                              <p:par>
                                <p:cTn id="4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8906000">
            <a:off x="2554200" y="1555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00000" y="189000"/>
            <a:ext cx="8028000" cy="1826640"/>
            <a:chOff x="900000" y="189000"/>
            <a:chExt cx="8028000" cy="1826640"/>
          </a:xfrm>
        </p:grpSpPr>
        <p:sp>
          <p:nvSpPr>
            <p:cNvPr id="332" name=""/>
            <p:cNvSpPr/>
            <p:nvPr/>
          </p:nvSpPr>
          <p:spPr>
            <a:xfrm>
              <a:off x="900000" y="25992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052360" y="763200"/>
                  <a:ext cx="48438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E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484360" y="1325160"/>
                  <a:ext cx="280836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124000" y="189000"/>
                  <a:ext cx="24685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OE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36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800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0908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2163200">
            <a:off x="6298560" y="3860640"/>
            <a:ext cx="35388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9871800">
            <a:off x="6370560" y="313920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1990400">
            <a:off x="6154560" y="386028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9747600">
            <a:off x="6227280" y="3211200"/>
            <a:ext cx="2685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6671160" y="3860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56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68360" y="260280"/>
                  <a:ext cx="648036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COD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DO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503440" y="1325520"/>
                  <a:ext cx="276876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26828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41520" y="3292560"/>
            <a:ext cx="6350040" cy="38160"/>
          </a:xfrm>
          <a:custGeom>
            <a:avLst/>
            <a:gdLst/>
            <a:ahLst/>
            <a:rect l="l" t="t" r="r" b="b"/>
            <a:pathLst>
              <a:path w="4000" h="24">
                <a:moveTo>
                  <a:pt x="0" y="24"/>
                </a:moveTo>
                <a:lnTo>
                  <a:pt x="40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0216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816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72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556000" y="1268280"/>
                  <a:ext cx="329220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268360" y="260280"/>
                  <a:ext cx="374364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75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052720" y="213192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90560" y="2203560"/>
            <a:ext cx="552312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6520" y="277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70160" y="2681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488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3080" y="35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708360" y="4243320"/>
                <a:ext cx="3471840" cy="26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е смежных угл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в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9480" y="17560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м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9528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 построения  смежного 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ом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, являющийся одной  из его  сторон, дополняется  до  пря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4574880" y="1752480"/>
            <a:ext cx="2283840" cy="1923120"/>
            <a:chOff x="4574880" y="1752480"/>
            <a:chExt cx="2283840" cy="1923120"/>
          </a:xfrm>
        </p:grpSpPr>
        <p:sp>
          <p:nvSpPr>
            <p:cNvPr id="56" name="Прямая соединительная линия 6"/>
            <p:cNvSpPr/>
            <p:nvPr/>
          </p:nvSpPr>
          <p:spPr>
            <a:xfrm>
              <a:off x="5029200" y="2057040"/>
              <a:ext cx="1524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7"/>
            <p:cNvSpPr/>
            <p:nvPr/>
          </p:nvSpPr>
          <p:spPr>
            <a:xfrm flipV="1">
              <a:off x="5105160" y="274284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6"/>
            <p:cNvSpPr/>
            <p:nvPr/>
          </p:nvSpPr>
          <p:spPr>
            <a:xfrm>
              <a:off x="4647960" y="327672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36"/>
            <p:cNvSpPr/>
            <p:nvPr/>
          </p:nvSpPr>
          <p:spPr>
            <a:xfrm>
              <a:off x="6480000" y="2819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6"/>
            <p:cNvSpPr/>
            <p:nvPr/>
          </p:nvSpPr>
          <p:spPr>
            <a:xfrm>
              <a:off x="457488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ая соединительная линия 18"/>
          <p:cNvSpPr/>
          <p:nvPr/>
        </p:nvSpPr>
        <p:spPr>
          <a:xfrm flipV="1">
            <a:off x="6553080" y="2209680"/>
            <a:ext cx="1219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8003160" y="21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472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4720" y="31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8144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8028000" cy="175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268360" y="260280"/>
                <a:ext cx="46800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84360" y="1268280"/>
                <a:ext cx="3724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98100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1016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37080" y="4869000"/>
                <a:ext cx="36147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49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240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404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2268360" y="262080"/>
                  <a:ext cx="5616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2411280" y="1125360"/>
                  <a:ext cx="105264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0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05264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539720" y="4106880"/>
            <a:ext cx="6578640" cy="1440"/>
          </a:xfrm>
          <a:custGeom>
            <a:avLst/>
            <a:gdLst/>
            <a:ahLst/>
            <a:rect l="l" t="t" r="r" b="b"/>
            <a:pathLst>
              <a:path w="4144" h="1">
                <a:moveTo>
                  <a:pt x="0" y="0"/>
                </a:moveTo>
                <a:lnTo>
                  <a:pt x="4144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11600" y="2087640"/>
            <a:ext cx="4000320" cy="2019240"/>
          </a:xfrm>
          <a:custGeom>
            <a:avLst/>
            <a:gdLst/>
            <a:ahLst/>
            <a:rect l="l" t="t" r="r" b="b"/>
            <a:pathLst>
              <a:path w="2520" h="1272">
                <a:moveTo>
                  <a:pt x="0" y="0"/>
                </a:moveTo>
                <a:lnTo>
                  <a:pt x="496" y="1272"/>
                </a:lnTo>
                <a:lnTo>
                  <a:pt x="2520" y="624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84720" y="5805360"/>
                <a:ext cx="21398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6980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616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68960" y="3543480"/>
            <a:ext cx="546120" cy="393480"/>
          </a:xfrm>
          <a:custGeom>
            <a:avLst/>
            <a:gdLst/>
            <a:ahLst/>
            <a:rect l="l" t="t" r="r" b="b"/>
            <a:pathLst>
              <a:path w="344" h="248">
                <a:moveTo>
                  <a:pt x="0" y="104"/>
                </a:moveTo>
                <a:lnTo>
                  <a:pt x="256" y="0"/>
                </a:lnTo>
                <a:lnTo>
                  <a:pt x="344" y="248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о  смежных 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колько  углов изображено  на  рисунке ?  Какие  это  углы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 3  угла,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и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-  смежные,  а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– развернуты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уществует  ли  какая  либо взаимосвязь между этими  углам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а,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  по –другому можно  записать  данное  равенство ? Почему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, т.к.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 -  развернутый  и  его  градусная  мера  рав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3"/>
          <p:cNvGrpSpPr/>
          <p:nvPr/>
        </p:nvGrpSpPr>
        <p:grpSpPr>
          <a:xfrm>
            <a:off x="4879800" y="1752480"/>
            <a:ext cx="3869280" cy="1923120"/>
            <a:chOff x="4879800" y="1752480"/>
            <a:chExt cx="3869280" cy="1923120"/>
          </a:xfrm>
        </p:grpSpPr>
        <p:sp>
          <p:nvSpPr>
            <p:cNvPr id="66" name="Прямая соединительная линия 4"/>
            <p:cNvSpPr/>
            <p:nvPr/>
          </p:nvSpPr>
          <p:spPr>
            <a:xfrm>
              <a:off x="5334120" y="2057040"/>
              <a:ext cx="13716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5"/>
            <p:cNvSpPr/>
            <p:nvPr/>
          </p:nvSpPr>
          <p:spPr>
            <a:xfrm flipV="1">
              <a:off x="5410080" y="2209320"/>
              <a:ext cx="2743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6"/>
            <p:cNvSpPr/>
            <p:nvPr/>
          </p:nvSpPr>
          <p:spPr>
            <a:xfrm>
              <a:off x="4952880" y="327672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6"/>
            <p:cNvSpPr/>
            <p:nvPr/>
          </p:nvSpPr>
          <p:spPr>
            <a:xfrm>
              <a:off x="6555240" y="29718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6"/>
            <p:cNvSpPr/>
            <p:nvPr/>
          </p:nvSpPr>
          <p:spPr>
            <a:xfrm>
              <a:off x="487980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6"/>
            <p:cNvSpPr/>
            <p:nvPr/>
          </p:nvSpPr>
          <p:spPr>
            <a:xfrm>
              <a:off x="8384040" y="1828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чертите  неразвернутый  уго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ите  луч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щиеся  продолжением сторон  угла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75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Текст 25"/>
          <p:cNvSpPr/>
          <p:nvPr/>
        </p:nvSpPr>
        <p:spPr>
          <a:xfrm>
            <a:off x="990720" y="38862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 неразвернутых углов получилось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Четыре -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С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 углы,  которые  не  являются  смеж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ва  угла называются вертикальными, если стороны одного являются продолжениями сторон друг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ертикальные;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ртика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Найдите  взаимосвязь  между вертикальными 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88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25"/>
          <p:cNvSpPr/>
          <p:nvPr/>
        </p:nvSpPr>
        <p:spPr>
          <a:xfrm>
            <a:off x="755640" y="42210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йство   вертикальных  углов : вертикальные углы  равны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9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111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255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2" action="ppaction://hlinksldjump"/>
          </p:cNvPr>
          <p:cNvSpPr/>
          <p:nvPr/>
        </p:nvSpPr>
        <p:spPr>
          <a:xfrm>
            <a:off x="399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4" action="ppaction://hlinksldjump"/>
          </p:cNvPr>
          <p:cNvSpPr/>
          <p:nvPr/>
        </p:nvSpPr>
        <p:spPr>
          <a:xfrm>
            <a:off x="543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744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0" action="ppaction://hlinksldjump"/>
          </p:cNvPr>
          <p:cNvSpPr/>
          <p:nvPr/>
        </p:nvSpPr>
        <p:spPr>
          <a:xfrm>
            <a:off x="971640" y="1052640"/>
            <a:ext cx="7200720" cy="863640"/>
          </a:xfrm>
          <a:custGeom>
            <a:avLst/>
            <a:gdLst>
              <a:gd name="textAreaLeft" fmla="*/ 55800 w 7200720"/>
              <a:gd name="textAreaRight" fmla="*/ 7144920 w 7200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80027" h="21600">
                <a:moveTo>
                  <a:pt x="0" y="0"/>
                </a:moveTo>
                <a:lnTo>
                  <a:pt x="180027" y="0"/>
                </a:lnTo>
                <a:lnTo>
                  <a:pt x="180027" y="21600"/>
                </a:lnTo>
                <a:lnTo>
                  <a:pt x="0" y="21600"/>
                </a:lnTo>
                <a:close/>
              </a:path>
              <a:path fill="lightenLess" w="180027" h="21600">
                <a:moveTo>
                  <a:pt x="0" y="0"/>
                </a:moveTo>
                <a:lnTo>
                  <a:pt x="180027" y="0"/>
                </a:lnTo>
                <a:lnTo>
                  <a:pt x="178627" y="1400"/>
                </a:lnTo>
                <a:lnTo>
                  <a:pt x="1400" y="1400"/>
                </a:lnTo>
                <a:close/>
              </a:path>
              <a:path fill="darken" w="180027" h="21600">
                <a:moveTo>
                  <a:pt x="180027" y="0"/>
                </a:moveTo>
                <a:lnTo>
                  <a:pt x="180027" y="21600"/>
                </a:lnTo>
                <a:lnTo>
                  <a:pt x="178627" y="20200"/>
                </a:lnTo>
                <a:lnTo>
                  <a:pt x="178627" y="1400"/>
                </a:lnTo>
                <a:close/>
              </a:path>
              <a:path fill="darkenLess" w="180027" h="21600">
                <a:moveTo>
                  <a:pt x="180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27" y="20200"/>
                </a:lnTo>
                <a:close/>
              </a:path>
              <a:path fill="lighten" w="180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межные и вертикаль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7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40360" y="5661000"/>
                <a:ext cx="29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60280"/>
            <a:ext cx="8100360" cy="2304720"/>
            <a:chOff x="1042920" y="260280"/>
            <a:chExt cx="8100360" cy="2304720"/>
          </a:xfrm>
        </p:grpSpPr>
        <p:sp>
          <p:nvSpPr>
            <p:cNvPr id="124" name=""/>
            <p:cNvSpPr/>
            <p:nvPr/>
          </p:nvSpPr>
          <p:spPr>
            <a:xfrm>
              <a:off x="2297880" y="198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042920" y="260280"/>
              <a:ext cx="8100360" cy="2304720"/>
              <a:chOff x="1042920" y="260280"/>
              <a:chExt cx="8100360" cy="2304720"/>
            </a:xfrm>
          </p:grpSpPr>
          <p:sp>
            <p:nvSpPr>
              <p:cNvPr id="126" name=""/>
              <p:cNvSpPr/>
              <p:nvPr/>
            </p:nvSpPr>
            <p:spPr>
              <a:xfrm>
                <a:off x="1042920" y="260280"/>
                <a:ext cx="7952400" cy="1325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Дано: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Найти: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&amp;Kcy;&amp;acy;&amp;rcy;&amp;tcy;&amp;icy;&amp;ncy;&amp;kcy;&amp;acy; 125 &amp;icy;&amp;zcy; 65344"/>
              <p:cNvPicPr/>
              <p:nvPr/>
            </p:nvPicPr>
            <p:blipFill>
              <a:blip r:embed="rId3"/>
              <a:stretch/>
            </p:blipFill>
            <p:spPr>
              <a:xfrm>
                <a:off x="7817040" y="1054440"/>
                <a:ext cx="1326240" cy="151056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737800" y="333360"/>
                  <a:ext cx="25030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883960" y="907920"/>
                  <a:ext cx="145908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421200">
            <a:off x="4140360" y="285264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8240" y="29242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052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00720" y="4149720"/>
                <a:ext cx="309564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42920" y="260280"/>
            <a:ext cx="8100720" cy="2304720"/>
            <a:chOff x="1042920" y="260280"/>
            <a:chExt cx="8100720" cy="2304720"/>
          </a:xfrm>
        </p:grpSpPr>
        <p:sp>
          <p:nvSpPr>
            <p:cNvPr id="143" name=""/>
            <p:cNvSpPr/>
            <p:nvPr/>
          </p:nvSpPr>
          <p:spPr>
            <a:xfrm>
              <a:off x="1042920" y="260280"/>
              <a:ext cx="795276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817400" y="1054440"/>
              <a:ext cx="132624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2627280" y="355680"/>
            <a:ext cx="4105440" cy="1147680"/>
            <a:chOff x="2627280" y="355680"/>
            <a:chExt cx="4105440" cy="114768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700360" y="355680"/>
                  <a:ext cx="2448000" cy="56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4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627280" y="907920"/>
                  <a:ext cx="410544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F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F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4810800">
            <a:off x="5615280" y="2528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04240" y="206064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42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580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1088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6360" y="4973760"/>
                <a:ext cx="316872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D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D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62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399960"/>
                <a:ext cx="4464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  <m:r>
                      <m:rPr>
                        <m:lit/>
                        <m:nor/>
                      </m:rPr>
                      <m:t xml:space="preserve"> в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ра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0160" y="292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357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59520" y="4221000"/>
            <a:ext cx="22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+х=1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228600">
            <a:off x="4062240" y="2852640"/>
            <a:ext cx="28764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5738000">
            <a:off x="5579640" y="292536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5738000">
            <a:off x="5525640" y="276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User</cp:lastModifiedBy>
  <dcterms:modified xsi:type="dcterms:W3CDTF">2012-11-14T09:21:54Z</dcterms:modified>
  <cp:revision>27</cp:revision>
  <dc:subject/>
  <dc:title>Слайд 1</dc:title>
</cp:coreProperties>
</file>