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AC6-3B89-4EE6-98AD-0479B910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51A-D767-4ED3-855A-3491839F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1DB-9454-42B1-BFFB-19B4EBB8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C8A-74E0-4813-9F27-A8B42FF2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40E-3775-48DD-BB2E-56B94B75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8C24-C425-49D4-8034-099518DF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E3D-10C6-419B-B698-02240768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D3AB-23DD-410C-93FC-ED4A5BEF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40E2-7C88-41E9-BE49-F4FBF8C0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949-2B67-496D-AC29-3C57C126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C1B-B5CA-4EF1-B66E-A442D41F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F88-DF34-480E-B750-20AEC4DB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553B-43D3-4D40-A1C2-36DDB6F88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" Target="slide7.xml"/><Relationship Id="rId9" Type="http://schemas.openxmlformats.org/officeDocument/2006/relationships/image" Target="../media/image1.png"/><Relationship Id="rId10" Type="http://schemas.openxmlformats.org/officeDocument/2006/relationships/slide" Target="slide8.xml"/><Relationship Id="rId11" Type="http://schemas.openxmlformats.org/officeDocument/2006/relationships/image" Target="../media/image1.png"/><Relationship Id="rId12" Type="http://schemas.openxmlformats.org/officeDocument/2006/relationships/slide" Target="slide9.xml"/><Relationship Id="rId13" Type="http://schemas.openxmlformats.org/officeDocument/2006/relationships/image" Target="../media/image1.png"/><Relationship Id="rId14" Type="http://schemas.openxmlformats.org/officeDocument/2006/relationships/slide" Target="slide10.xml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slide" Target="slide15.xml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 смежных  углов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2189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м  прямую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отметим 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лежащую  между  точкам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м  луч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В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лись два угла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B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а угла, у которых  одна  сторона  общая,  а  две  другие  являются  продолжениями  одна  другой,  называются смеж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905120" y="35812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600200" y="3733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6234480" y="3541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 flipV="1">
            <a:off x="4114800" y="2209680"/>
            <a:ext cx="9144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167440" y="201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3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1052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01960" y="2273400"/>
            <a:ext cx="5770440" cy="2165400"/>
          </a:xfrm>
          <a:custGeom>
            <a:avLst/>
            <a:gdLst/>
            <a:ahLst/>
            <a:rect l="l" t="t" r="r" b="b"/>
            <a:pathLst>
              <a:path w="3635" h="1364">
                <a:moveTo>
                  <a:pt x="0" y="1364"/>
                </a:moveTo>
                <a:lnTo>
                  <a:pt x="3635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160" y="17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738680" y="4973760"/>
                <a:ext cx="312408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DB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F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7885080" y="285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7016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042920" y="260280"/>
            <a:ext cx="7921800" cy="2304720"/>
            <a:chOff x="1042920" y="260280"/>
            <a:chExt cx="7921800" cy="2304720"/>
          </a:xfrm>
        </p:grpSpPr>
        <p:sp>
          <p:nvSpPr>
            <p:cNvPr id="184" name=""/>
            <p:cNvSpPr/>
            <p:nvPr/>
          </p:nvSpPr>
          <p:spPr>
            <a:xfrm>
              <a:off x="1042920" y="260280"/>
              <a:ext cx="77770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054440"/>
              <a:ext cx="1297080" cy="15105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00360" y="260280"/>
                <a:ext cx="43894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BC</m:t>
                    </m:r>
                    <m:r>
                      <m:rPr>
                        <m:lit/>
                        <m:nor/>
                      </m:rPr>
                      <m:t xml:space="preserve">&lt;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rPr>
                        <m:lit/>
                        <m:nor/>
                      </m:rPr>
                      <m:t xml:space="preserve"> на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700360" y="907920"/>
                <a:ext cx="2736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BC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F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6108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15160" y="177336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+80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48520" y="3933720"/>
            <a:ext cx="282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х+х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+80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=180</a:t>
            </a:r>
            <a:r>
              <a:rPr b="1" i="1" lang="ru-RU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0519800">
            <a:off x="7164000" y="2491920"/>
            <a:ext cx="28728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4908000">
            <a:off x="5508720" y="2420640"/>
            <a:ext cx="28728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4938000">
            <a:off x="5452560" y="2043000"/>
            <a:ext cx="3970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2" y="873"/>
                  <a:pt x="4864" y="5080"/>
                  <a:pt x="4864" y="10800"/>
                </a:cubicBezTo>
                <a:cubicBezTo>
                  <a:pt x="4864" y="16520"/>
                  <a:pt x="13232" y="207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980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10520" y="3141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01960" y="2425680"/>
            <a:ext cx="5605200" cy="2013120"/>
          </a:xfrm>
          <a:custGeom>
            <a:avLst/>
            <a:gdLst/>
            <a:ahLst/>
            <a:rect l="l" t="t" r="r" b="b"/>
            <a:pathLst>
              <a:path w="3531" h="1268">
                <a:moveTo>
                  <a:pt x="0" y="1268"/>
                </a:moveTo>
                <a:lnTo>
                  <a:pt x="3531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44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780000" y="4435560"/>
                <a:ext cx="504000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NMO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LMR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LMN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RMO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7164360" y="1844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70520" y="1989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6920" y="189000"/>
            <a:ext cx="7953480" cy="1325520"/>
            <a:chOff x="826920" y="189000"/>
            <a:chExt cx="7953480" cy="1325520"/>
          </a:xfrm>
        </p:grpSpPr>
        <p:sp>
          <p:nvSpPr>
            <p:cNvPr id="207" name=""/>
            <p:cNvSpPr/>
            <p:nvPr/>
          </p:nvSpPr>
          <p:spPr>
            <a:xfrm>
              <a:off x="826920" y="189000"/>
              <a:ext cx="79534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2336760" y="220680"/>
                  <a:ext cx="446400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NMO</m:t>
                      </m:r>
                      <m:r>
                        <m:t xml:space="preserve">: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LMN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: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2263680" y="860400"/>
                  <a:ext cx="619272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NMO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LMN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RMO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LM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5888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96360" y="1341360"/>
            <a:ext cx="1547640" cy="1511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02144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7080" y="1844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0443600">
            <a:off x="6726960" y="2784240"/>
            <a:ext cx="22068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 rot="5273400">
            <a:off x="5578920" y="2492280"/>
            <a:ext cx="289080" cy="71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230800">
            <a:off x="5525640" y="2042640"/>
            <a:ext cx="3970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2" y="873"/>
                  <a:pt x="4864" y="5080"/>
                  <a:pt x="4864" y="10800"/>
                </a:cubicBezTo>
                <a:cubicBezTo>
                  <a:pt x="4864" y="16520"/>
                  <a:pt x="13232" y="207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4229280"/>
            <a:ext cx="6756120" cy="12600"/>
          </a:xfrm>
          <a:custGeom>
            <a:avLst/>
            <a:gdLst/>
            <a:ahLst/>
            <a:rect l="l" t="t" r="r" b="b"/>
            <a:pathLst>
              <a:path w="4256" h="8">
                <a:moveTo>
                  <a:pt x="0" y="8"/>
                </a:moveTo>
                <a:lnTo>
                  <a:pt x="4256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1440" y="328464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65640" y="1854360"/>
            <a:ext cx="1358640" cy="2374920"/>
          </a:xfrm>
          <a:custGeom>
            <a:avLst/>
            <a:gdLst/>
            <a:ahLst/>
            <a:rect l="l" t="t" r="r" b="b"/>
            <a:pathLst>
              <a:path w="856" h="1496">
                <a:moveTo>
                  <a:pt x="0" y="0"/>
                </a:moveTo>
                <a:lnTo>
                  <a:pt x="856" y="1496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05080" y="314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140360" y="5349960"/>
                <a:ext cx="4608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26" name=""/>
          <p:cNvGrpSpPr/>
          <p:nvPr/>
        </p:nvGrpSpPr>
        <p:grpSpPr>
          <a:xfrm>
            <a:off x="1042920" y="260280"/>
            <a:ext cx="7958160" cy="2232000"/>
            <a:chOff x="1042920" y="260280"/>
            <a:chExt cx="7958160" cy="2232000"/>
          </a:xfrm>
        </p:grpSpPr>
        <p:sp>
          <p:nvSpPr>
            <p:cNvPr id="227" name=""/>
            <p:cNvSpPr/>
            <p:nvPr/>
          </p:nvSpPr>
          <p:spPr>
            <a:xfrm>
              <a:off x="1042920" y="260280"/>
              <a:ext cx="79534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524720" y="981000"/>
              <a:ext cx="1476360" cy="1511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2771640" y="333360"/>
                  <a:ext cx="220500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−</m:t>
                      </m:r>
                      <m:r>
                        <m:t xml:space="preserve">β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2771640" y="907920"/>
                  <a:ext cx="1119240" cy="71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,</m:t>
                      </m:r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1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7492200">
            <a:off x="4741560" y="3452760"/>
            <a:ext cx="39060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86000">
            <a:off x="3784320" y="3409560"/>
            <a:ext cx="37440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86000">
            <a:off x="4086000" y="3716280"/>
            <a:ext cx="287280" cy="43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4229280"/>
            <a:ext cx="6756120" cy="12600"/>
          </a:xfrm>
          <a:custGeom>
            <a:avLst/>
            <a:gdLst/>
            <a:ahLst/>
            <a:rect l="l" t="t" r="r" b="b"/>
            <a:pathLst>
              <a:path w="4256" h="8">
                <a:moveTo>
                  <a:pt x="0" y="8"/>
                </a:moveTo>
                <a:lnTo>
                  <a:pt x="4256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380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0" y="2463840"/>
            <a:ext cx="2438280" cy="1765440"/>
          </a:xfrm>
          <a:custGeom>
            <a:avLst/>
            <a:gdLst/>
            <a:ahLst/>
            <a:rect l="l" t="t" r="r" b="b"/>
            <a:pathLst>
              <a:path w="1536" h="1112">
                <a:moveTo>
                  <a:pt x="0" y="0"/>
                </a:moveTo>
                <a:lnTo>
                  <a:pt x="1536" y="11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0252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635280" y="5229360"/>
                <a:ext cx="550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2" name=""/>
          <p:cNvGrpSpPr/>
          <p:nvPr/>
        </p:nvGrpSpPr>
        <p:grpSpPr>
          <a:xfrm>
            <a:off x="1042920" y="260280"/>
            <a:ext cx="7953480" cy="1328760"/>
            <a:chOff x="1042920" y="260280"/>
            <a:chExt cx="7953480" cy="1328760"/>
          </a:xfrm>
        </p:grpSpPr>
        <p:sp>
          <p:nvSpPr>
            <p:cNvPr id="243" name=""/>
            <p:cNvSpPr/>
            <p:nvPr/>
          </p:nvSpPr>
          <p:spPr>
            <a:xfrm>
              <a:off x="1042920" y="260280"/>
              <a:ext cx="79534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771640" y="399960"/>
                  <a:ext cx="4105440" cy="5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D</m:t>
                      </m:r>
                      <m:r>
                        <m:t xml:space="preserve">: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: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2771640" y="922320"/>
                  <a:ext cx="309564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D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6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6773400">
            <a:off x="4627080" y="3516120"/>
            <a:ext cx="39060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686000">
            <a:off x="3708000" y="3716280"/>
            <a:ext cx="287280" cy="43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42160" y="20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1380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6686400">
            <a:off x="4656600" y="3128040"/>
            <a:ext cx="505080" cy="124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1" y="1073"/>
                  <a:pt x="5981" y="5080"/>
                  <a:pt x="5981" y="10800"/>
                </a:cubicBezTo>
                <a:cubicBezTo>
                  <a:pt x="5981" y="16520"/>
                  <a:pt x="13791" y="205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05080" y="35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34160" y="2924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5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&amp;Kcy;&amp;acy;&amp;rcy;&amp;tcy;&amp;icy;&amp;ncy;&amp;kcy;&amp;acy; 125 &amp;icy;&amp;zcy; 65344"/>
          <p:cNvPicPr/>
          <p:nvPr/>
        </p:nvPicPr>
        <p:blipFill>
          <a:blip r:embed="rId5"/>
          <a:stretch/>
        </p:blipFill>
        <p:spPr>
          <a:xfrm>
            <a:off x="7524720" y="765000"/>
            <a:ext cx="14763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500"/>
                            </p:stCondLst>
                            <p:childTnLst>
                              <p:par>
                                <p:cTn id="3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4229280"/>
            <a:ext cx="6756120" cy="12600"/>
          </a:xfrm>
          <a:custGeom>
            <a:avLst/>
            <a:gdLst/>
            <a:ahLst/>
            <a:rect l="l" t="t" r="r" b="b"/>
            <a:pathLst>
              <a:path w="4256" h="8">
                <a:moveTo>
                  <a:pt x="0" y="8"/>
                </a:moveTo>
                <a:lnTo>
                  <a:pt x="4256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3380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2463840"/>
            <a:ext cx="2438280" cy="1765440"/>
          </a:xfrm>
          <a:custGeom>
            <a:avLst/>
            <a:gdLst/>
            <a:ahLst/>
            <a:rect l="l" t="t" r="r" b="b"/>
            <a:pathLst>
              <a:path w="1536" h="1112">
                <a:moveTo>
                  <a:pt x="0" y="0"/>
                </a:moveTo>
                <a:lnTo>
                  <a:pt x="1536" y="11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74252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427640" y="4797360"/>
                <a:ext cx="324000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042920" y="260280"/>
            <a:ext cx="7953480" cy="132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о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ти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484360" y="333360"/>
                <a:ext cx="42228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O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771640" y="928800"/>
                <a:ext cx="30956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O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02880" y="414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980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24720" y="692280"/>
            <a:ext cx="1476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30320" y="3048120"/>
            <a:ext cx="3810240" cy="2031840"/>
          </a:xfrm>
          <a:custGeom>
            <a:avLst/>
            <a:gdLst/>
            <a:ahLst/>
            <a:rect l="l" t="t" r="r" b="b"/>
            <a:pathLst>
              <a:path w="2400" h="1280">
                <a:moveTo>
                  <a:pt x="0" y="248"/>
                </a:moveTo>
                <a:lnTo>
                  <a:pt x="1392" y="1280"/>
                </a:lnTo>
                <a:lnTo>
                  <a:pt x="240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21080" y="3573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5016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3380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971640" y="260280"/>
            <a:ext cx="8028000" cy="2160720"/>
            <a:chOff x="971640" y="260280"/>
            <a:chExt cx="8028000" cy="2160720"/>
          </a:xfrm>
        </p:grpSpPr>
        <p:sp>
          <p:nvSpPr>
            <p:cNvPr id="278" name=""/>
            <p:cNvSpPr/>
            <p:nvPr/>
          </p:nvSpPr>
          <p:spPr>
            <a:xfrm>
              <a:off x="971640" y="260280"/>
              <a:ext cx="8028000" cy="216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2556000" y="1341360"/>
                  <a:ext cx="488484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N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биссектриса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O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2411640" y="1844640"/>
                  <a:ext cx="160956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MO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2340000" y="333360"/>
                  <a:ext cx="520380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С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СOВ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смежные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2411640" y="836640"/>
                  <a:ext cx="53402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М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биссектриса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ОС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3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667640" y="1098720"/>
            <a:ext cx="1476360" cy="14014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523880" y="5054760"/>
            <a:ext cx="5702400" cy="50760"/>
          </a:xfrm>
          <a:custGeom>
            <a:avLst/>
            <a:gdLst/>
            <a:ahLst/>
            <a:rect l="l" t="t" r="r" b="b"/>
            <a:pathLst>
              <a:path w="3592" h="32">
                <a:moveTo>
                  <a:pt x="0" y="0"/>
                </a:moveTo>
                <a:lnTo>
                  <a:pt x="3592" y="3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27480" y="2654280"/>
            <a:ext cx="812880" cy="2413080"/>
          </a:xfrm>
          <a:custGeom>
            <a:avLst/>
            <a:gdLst/>
            <a:ahLst/>
            <a:rect l="l" t="t" r="r" b="b"/>
            <a:pathLst>
              <a:path w="512" h="1520">
                <a:moveTo>
                  <a:pt x="512" y="15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2144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53800" y="321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5344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3498600">
            <a:off x="3383280" y="389628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315800">
            <a:off x="2914200" y="4437000"/>
            <a:ext cx="287280" cy="62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998800">
            <a:off x="4070520" y="4002480"/>
            <a:ext cx="3538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9000600">
            <a:off x="4716000" y="4436280"/>
            <a:ext cx="32544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998800">
            <a:off x="4113000" y="4248000"/>
            <a:ext cx="2682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8704800">
            <a:off x="4571280" y="4581360"/>
            <a:ext cx="2682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21170400">
            <a:off x="2123640" y="2636640"/>
            <a:ext cx="217440" cy="976320"/>
          </a:xfrm>
          <a:prstGeom prst="downArrow">
            <a:avLst>
              <a:gd name="adj1" fmla="val 50000"/>
              <a:gd name="adj2" fmla="val 11225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81520" y="5829480"/>
                <a:ext cx="32335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МO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44444E-006 L 0.20069 0.2125 E">
                                      <p:cBhvr>
                                        <p:cTn id="387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69 0.2125 L 0.35833 -0.05 E">
                                      <p:cBhvr>
                                        <p:cTn id="39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500"/>
                            </p:stCondLst>
                            <p:childTnLst>
                              <p:par>
                                <p:cTn id="4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8500"/>
                            </p:stCondLst>
                            <p:childTnLst>
                              <p:par>
                                <p:cTn id="4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9500"/>
                            </p:stCondLst>
                            <p:childTnLst>
                              <p:par>
                                <p:cTn id="4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2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6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8906000">
            <a:off x="2627280" y="1844640"/>
            <a:ext cx="4464000" cy="4464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02880" y="414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9416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34180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287280"/>
            <a:ext cx="8028000" cy="216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ти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556000" y="1370160"/>
                <a:ext cx="48844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биссектриса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O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411280" y="1871640"/>
                <a:ext cx="16099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M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340000" y="404640"/>
                <a:ext cx="604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СOD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ертикальные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432160" y="863640"/>
                <a:ext cx="529884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М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биссектриса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9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413000"/>
            <a:ext cx="1476360" cy="14014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176560" y="2895480"/>
            <a:ext cx="5557680" cy="240048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5280" y="2997360"/>
            <a:ext cx="5522760" cy="247788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21080" y="3573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6144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82520" y="35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06160" y="508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421200">
            <a:off x="3203640" y="342900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20047800">
            <a:off x="3276360" y="4149360"/>
            <a:ext cx="28728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2163200">
            <a:off x="6372000" y="4149000"/>
            <a:ext cx="3538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9871800">
            <a:off x="6443640" y="3428280"/>
            <a:ext cx="32544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1990400">
            <a:off x="6227640" y="4149360"/>
            <a:ext cx="292320" cy="4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9747600">
            <a:off x="6300000" y="3499920"/>
            <a:ext cx="2682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762360" y="5829480"/>
                <a:ext cx="34718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МO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 rot="21170400">
            <a:off x="2123640" y="2997000"/>
            <a:ext cx="217440" cy="976320"/>
          </a:xfrm>
          <a:prstGeom prst="downArrow">
            <a:avLst>
              <a:gd name="adj1" fmla="val 50000"/>
              <a:gd name="adj2" fmla="val 11225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28732 0.00232 E">
                                      <p:cBhvr>
                                        <p:cTn id="446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732 0.00232 L 0.57083 0.00232 E">
                                      <p:cBhvr>
                                        <p:cTn id="449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500"/>
                            </p:stCondLst>
                            <p:childTnLst>
                              <p:par>
                                <p:cTn id="4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3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8500"/>
                            </p:stCondLst>
                            <p:childTnLst>
                              <p:par>
                                <p:cTn id="46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9500"/>
                            </p:stCondLst>
                            <p:childTnLst>
                              <p:par>
                                <p:cTn id="4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8906000">
            <a:off x="2554200" y="1555920"/>
            <a:ext cx="4464000" cy="4464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2980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97440" y="2203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21080" y="4579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900000" y="189000"/>
            <a:ext cx="8028000" cy="1826640"/>
            <a:chOff x="900000" y="189000"/>
            <a:chExt cx="8028000" cy="1826640"/>
          </a:xfrm>
        </p:grpSpPr>
        <p:sp>
          <p:nvSpPr>
            <p:cNvPr id="332" name=""/>
            <p:cNvSpPr/>
            <p:nvPr/>
          </p:nvSpPr>
          <p:spPr>
            <a:xfrm>
              <a:off x="900000" y="25992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2052360" y="763200"/>
                  <a:ext cx="484380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E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биссектриса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O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2484360" y="1325160"/>
                  <a:ext cx="280836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OC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2124000" y="189000"/>
                  <a:ext cx="246852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OE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36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24720" y="112536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103480" y="2606760"/>
            <a:ext cx="5557680" cy="240012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62200" y="2708280"/>
            <a:ext cx="5522760" cy="247824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548000" y="32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0580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09080" y="32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238160" y="436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2163200">
            <a:off x="6298560" y="3860640"/>
            <a:ext cx="353880" cy="6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9871800">
            <a:off x="6370560" y="3139200"/>
            <a:ext cx="32544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1990400">
            <a:off x="6154560" y="3860280"/>
            <a:ext cx="292320" cy="4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9747600">
            <a:off x="6227280" y="3211200"/>
            <a:ext cx="26856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780000" y="4869000"/>
                <a:ext cx="332892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6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F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6671160" y="3860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2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8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2980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97440" y="2203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21080" y="4579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900000" y="260280"/>
            <a:ext cx="8028000" cy="1755720"/>
            <a:chOff x="900000" y="260280"/>
            <a:chExt cx="8028000" cy="1755720"/>
          </a:xfrm>
        </p:grpSpPr>
        <p:sp>
          <p:nvSpPr>
            <p:cNvPr id="356" name=""/>
            <p:cNvSpPr/>
            <p:nvPr/>
          </p:nvSpPr>
          <p:spPr>
            <a:xfrm>
              <a:off x="900000" y="26028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2268360" y="260280"/>
                  <a:ext cx="6480360" cy="107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B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BOC</m:t>
                          </m:r>
                          <m:r>
                            <m:rPr>
                              <m:lit/>
                              <m:nor/>
                            </m:rPr>
                            <m:t xml:space="preserve">+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COD</m:t>
                          </m:r>
                          <m:r>
                            <m:rPr>
                              <m:lit/>
                              <m:nor/>
                            </m:rPr>
                            <m:t xml:space="preserve">+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DOA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2503440" y="1325520"/>
                  <a:ext cx="276876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O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59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26828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103480" y="2606760"/>
            <a:ext cx="5557680" cy="240012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62200" y="2708280"/>
            <a:ext cx="5522760" cy="247824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0580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238160" y="436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780000" y="4869000"/>
                <a:ext cx="332892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541520" y="3292560"/>
            <a:ext cx="6350040" cy="38160"/>
          </a:xfrm>
          <a:custGeom>
            <a:avLst/>
            <a:gdLst/>
            <a:ahLst/>
            <a:rect l="l" t="t" r="r" b="b"/>
            <a:pathLst>
              <a:path w="4000" h="24">
                <a:moveTo>
                  <a:pt x="0" y="24"/>
                </a:moveTo>
                <a:lnTo>
                  <a:pt x="400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02160" y="241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78160" y="3355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900000" y="260280"/>
            <a:ext cx="8028000" cy="1755720"/>
            <a:chOff x="900000" y="260280"/>
            <a:chExt cx="8028000" cy="1755720"/>
          </a:xfrm>
        </p:grpSpPr>
        <p:sp>
          <p:nvSpPr>
            <p:cNvPr id="372" name=""/>
            <p:cNvSpPr/>
            <p:nvPr/>
          </p:nvSpPr>
          <p:spPr>
            <a:xfrm>
              <a:off x="900000" y="26028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556000" y="1268280"/>
                  <a:ext cx="3292200" cy="71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3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2268360" y="260280"/>
                  <a:ext cx="374364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β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3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75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12536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052720" y="2131920"/>
            <a:ext cx="5557680" cy="240048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90560" y="2203560"/>
            <a:ext cx="5523120" cy="247788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06520" y="2779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70160" y="268128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4880" y="3355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3080" y="35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708360" y="4243320"/>
                <a:ext cx="3471840" cy="26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роение смежных угл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895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ыв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09480" y="1756080"/>
            <a:ext cx="32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меж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295280" y="46483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 построения  смежного  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лом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л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ч, являющийся одной  из его  сторон, дополняется  до  прям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Группа 5"/>
          <p:cNvGrpSpPr/>
          <p:nvPr/>
        </p:nvGrpSpPr>
        <p:grpSpPr>
          <a:xfrm>
            <a:off x="4574880" y="1752480"/>
            <a:ext cx="2283840" cy="1923120"/>
            <a:chOff x="4574880" y="1752480"/>
            <a:chExt cx="2283840" cy="1923120"/>
          </a:xfrm>
        </p:grpSpPr>
        <p:sp>
          <p:nvSpPr>
            <p:cNvPr id="56" name="Прямая соединительная линия 6"/>
            <p:cNvSpPr/>
            <p:nvPr/>
          </p:nvSpPr>
          <p:spPr>
            <a:xfrm>
              <a:off x="5029200" y="2057040"/>
              <a:ext cx="15242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ая соединительная линия 7"/>
            <p:cNvSpPr/>
            <p:nvPr/>
          </p:nvSpPr>
          <p:spPr>
            <a:xfrm flipV="1">
              <a:off x="5105160" y="2742840"/>
              <a:ext cx="1447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36"/>
            <p:cNvSpPr/>
            <p:nvPr/>
          </p:nvSpPr>
          <p:spPr>
            <a:xfrm>
              <a:off x="4647960" y="3276720"/>
              <a:ext cx="3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36"/>
            <p:cNvSpPr/>
            <p:nvPr/>
          </p:nvSpPr>
          <p:spPr>
            <a:xfrm>
              <a:off x="6480000" y="28195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36"/>
            <p:cNvSpPr/>
            <p:nvPr/>
          </p:nvSpPr>
          <p:spPr>
            <a:xfrm>
              <a:off x="4574880" y="1752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Прямая соединительная линия 18"/>
          <p:cNvSpPr/>
          <p:nvPr/>
        </p:nvSpPr>
        <p:spPr>
          <a:xfrm flipV="1">
            <a:off x="6553080" y="2209680"/>
            <a:ext cx="12193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6"/>
          <p:cNvSpPr/>
          <p:nvPr/>
        </p:nvSpPr>
        <p:spPr>
          <a:xfrm>
            <a:off x="8003160" y="21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44720" y="400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44720" y="3141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78144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260280"/>
            <a:ext cx="8028000" cy="1755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ти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2268360" y="260280"/>
                <a:ext cx="46800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484360" y="1268280"/>
                <a:ext cx="3724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92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98100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2103480" y="2606760"/>
            <a:ext cx="5557680" cy="240012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62200" y="2708280"/>
            <a:ext cx="5522760" cy="247824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10160" y="35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637080" y="4869000"/>
                <a:ext cx="361476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4944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2400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900000" y="260280"/>
            <a:ext cx="8028000" cy="1755720"/>
            <a:chOff x="900000" y="260280"/>
            <a:chExt cx="8028000" cy="1755720"/>
          </a:xfrm>
        </p:grpSpPr>
        <p:sp>
          <p:nvSpPr>
            <p:cNvPr id="404" name=""/>
            <p:cNvSpPr/>
            <p:nvPr/>
          </p:nvSpPr>
          <p:spPr>
            <a:xfrm>
              <a:off x="900000" y="26028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>
                  <a:off x="2268360" y="262080"/>
                  <a:ext cx="561672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O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6" name=""/>
                <p:cNvSpPr txBox="1"/>
                <p:nvPr/>
              </p:nvSpPr>
              <p:spPr>
                <a:xfrm>
                  <a:off x="2411280" y="1125360"/>
                  <a:ext cx="105264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07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052640"/>
            <a:ext cx="1476360" cy="14014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539720" y="4106880"/>
            <a:ext cx="6578640" cy="1440"/>
          </a:xfrm>
          <a:custGeom>
            <a:avLst/>
            <a:gdLst/>
            <a:ahLst/>
            <a:rect l="l" t="t" r="r" b="b"/>
            <a:pathLst>
              <a:path w="4144" h="1">
                <a:moveTo>
                  <a:pt x="0" y="0"/>
                </a:moveTo>
                <a:lnTo>
                  <a:pt x="4144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711600" y="2087640"/>
            <a:ext cx="4000320" cy="2019240"/>
          </a:xfrm>
          <a:custGeom>
            <a:avLst/>
            <a:gdLst/>
            <a:ahLst/>
            <a:rect l="l" t="t" r="r" b="b"/>
            <a:pathLst>
              <a:path w="2520" h="1272">
                <a:moveTo>
                  <a:pt x="0" y="0"/>
                </a:moveTo>
                <a:lnTo>
                  <a:pt x="496" y="1272"/>
                </a:lnTo>
                <a:lnTo>
                  <a:pt x="2520" y="624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28688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284720" y="5805360"/>
                <a:ext cx="21398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766980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48000" y="213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16616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368960" y="3543480"/>
            <a:ext cx="546120" cy="393480"/>
          </a:xfrm>
          <a:custGeom>
            <a:avLst/>
            <a:gdLst/>
            <a:ahLst/>
            <a:rect l="l" t="t" r="r" b="b"/>
            <a:pathLst>
              <a:path w="344" h="248">
                <a:moveTo>
                  <a:pt x="0" y="104"/>
                </a:moveTo>
                <a:lnTo>
                  <a:pt x="256" y="0"/>
                </a:lnTo>
                <a:lnTo>
                  <a:pt x="344" y="248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йство  смежных  уг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колько  углов изображено  на  рисунке ?  Какие  это  углы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 3  угла, 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В и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ОС -  смежные,  а 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С – развернутый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уществует  ли  какая  либо взаимосвязь между этими  углам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Да,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В  +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ОС =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ак  по –другому можно  записать  данное  равенство ? Почему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В  +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ОС =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80  </a:t>
            </a:r>
            <a:r>
              <a:rPr b="1" lang="ru-RU" sz="2000" spc="-1" strike="noStrike" baseline="30000">
                <a:solidFill>
                  <a:srgbClr val="c0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, т.к. 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С  -  развернутый  и  его  градусная  мера  равн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80  </a:t>
            </a:r>
            <a:r>
              <a:rPr b="1" lang="ru-RU" sz="2000" spc="-1" strike="noStrike" baseline="30000">
                <a:solidFill>
                  <a:srgbClr val="c000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Группа 3"/>
          <p:cNvGrpSpPr/>
          <p:nvPr/>
        </p:nvGrpSpPr>
        <p:grpSpPr>
          <a:xfrm>
            <a:off x="4879800" y="1752480"/>
            <a:ext cx="3869280" cy="1923120"/>
            <a:chOff x="4879800" y="1752480"/>
            <a:chExt cx="3869280" cy="1923120"/>
          </a:xfrm>
        </p:grpSpPr>
        <p:sp>
          <p:nvSpPr>
            <p:cNvPr id="66" name="Прямая соединительная линия 4"/>
            <p:cNvSpPr/>
            <p:nvPr/>
          </p:nvSpPr>
          <p:spPr>
            <a:xfrm>
              <a:off x="5334120" y="2057040"/>
              <a:ext cx="13716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ая соединительная линия 5"/>
            <p:cNvSpPr/>
            <p:nvPr/>
          </p:nvSpPr>
          <p:spPr>
            <a:xfrm flipV="1">
              <a:off x="5410080" y="2209320"/>
              <a:ext cx="2743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6"/>
            <p:cNvSpPr/>
            <p:nvPr/>
          </p:nvSpPr>
          <p:spPr>
            <a:xfrm>
              <a:off x="4952880" y="3276720"/>
              <a:ext cx="3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36"/>
            <p:cNvSpPr/>
            <p:nvPr/>
          </p:nvSpPr>
          <p:spPr>
            <a:xfrm>
              <a:off x="6555240" y="29718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36"/>
            <p:cNvSpPr/>
            <p:nvPr/>
          </p:nvSpPr>
          <p:spPr>
            <a:xfrm>
              <a:off x="4879800" y="1752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36"/>
            <p:cNvSpPr/>
            <p:nvPr/>
          </p:nvSpPr>
          <p:spPr>
            <a:xfrm>
              <a:off x="8384040" y="1828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вертикальных  уг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те упраж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чертите  неразвернутый  угол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ите  луч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ющиеся  продолжением сторон  угла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К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Группа 30"/>
          <p:cNvGrpSpPr/>
          <p:nvPr/>
        </p:nvGrpSpPr>
        <p:grpSpPr>
          <a:xfrm>
            <a:off x="6172200" y="1981080"/>
            <a:ext cx="2161080" cy="1237320"/>
            <a:chOff x="6172200" y="1981080"/>
            <a:chExt cx="2161080" cy="1237320"/>
          </a:xfrm>
        </p:grpSpPr>
        <p:sp>
          <p:nvSpPr>
            <p:cNvPr id="75" name="Прямая соединительная линия 14"/>
            <p:cNvSpPr/>
            <p:nvPr/>
          </p:nvSpPr>
          <p:spPr>
            <a:xfrm flipH="1">
              <a:off x="6324480" y="1981080"/>
              <a:ext cx="1447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16"/>
            <p:cNvSpPr/>
            <p:nvPr/>
          </p:nvSpPr>
          <p:spPr>
            <a:xfrm>
              <a:off x="6324480" y="2590920"/>
              <a:ext cx="15238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36"/>
            <p:cNvSpPr/>
            <p:nvPr/>
          </p:nvSpPr>
          <p:spPr>
            <a:xfrm>
              <a:off x="6172200" y="2666880"/>
              <a:ext cx="3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36"/>
            <p:cNvSpPr/>
            <p:nvPr/>
          </p:nvSpPr>
          <p:spPr>
            <a:xfrm>
              <a:off x="8003160" y="28195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36"/>
          <p:cNvSpPr/>
          <p:nvPr/>
        </p:nvSpPr>
        <p:spPr>
          <a:xfrm>
            <a:off x="7927560" y="1676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6"/>
          <p:cNvSpPr/>
          <p:nvPr/>
        </p:nvSpPr>
        <p:spPr>
          <a:xfrm>
            <a:off x="4650480" y="320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23"/>
          <p:cNvSpPr/>
          <p:nvPr/>
        </p:nvSpPr>
        <p:spPr>
          <a:xfrm flipH="1" flipV="1">
            <a:off x="4572000" y="2209320"/>
            <a:ext cx="18288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26"/>
          <p:cNvSpPr/>
          <p:nvPr/>
        </p:nvSpPr>
        <p:spPr>
          <a:xfrm flipH="1">
            <a:off x="4876560" y="25138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9"/>
          <p:cNvSpPr/>
          <p:nvPr/>
        </p:nvSpPr>
        <p:spPr>
          <a:xfrm>
            <a:off x="4422240" y="182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Текст 25"/>
          <p:cNvSpPr/>
          <p:nvPr/>
        </p:nvSpPr>
        <p:spPr>
          <a:xfrm>
            <a:off x="990720" y="3886200"/>
            <a:ext cx="7086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 неразвернутых углов получилось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Четыре -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ОК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ОС,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COD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OD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овите  углы,  которые  не  являются  смежным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ОК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и 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COD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OD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и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Два  угла называются вертикальными, если стороны одного являются продолжениями сторон друг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3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3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вертикальных  уг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ертикальные;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ертика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Найдите  взаимосвязь  между вертикальными  уг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Группа 30"/>
          <p:cNvGrpSpPr/>
          <p:nvPr/>
        </p:nvGrpSpPr>
        <p:grpSpPr>
          <a:xfrm>
            <a:off x="6172200" y="1981080"/>
            <a:ext cx="2161080" cy="1237320"/>
            <a:chOff x="6172200" y="1981080"/>
            <a:chExt cx="2161080" cy="1237320"/>
          </a:xfrm>
        </p:grpSpPr>
        <p:sp>
          <p:nvSpPr>
            <p:cNvPr id="88" name="Прямая соединительная линия 14"/>
            <p:cNvSpPr/>
            <p:nvPr/>
          </p:nvSpPr>
          <p:spPr>
            <a:xfrm flipH="1">
              <a:off x="6324480" y="1981080"/>
              <a:ext cx="1447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ая соединительная линия 16"/>
            <p:cNvSpPr/>
            <p:nvPr/>
          </p:nvSpPr>
          <p:spPr>
            <a:xfrm>
              <a:off x="6324480" y="2590920"/>
              <a:ext cx="15238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36"/>
            <p:cNvSpPr/>
            <p:nvPr/>
          </p:nvSpPr>
          <p:spPr>
            <a:xfrm>
              <a:off x="6172200" y="2666880"/>
              <a:ext cx="3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36"/>
            <p:cNvSpPr/>
            <p:nvPr/>
          </p:nvSpPr>
          <p:spPr>
            <a:xfrm>
              <a:off x="8003160" y="28195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36"/>
          <p:cNvSpPr/>
          <p:nvPr/>
        </p:nvSpPr>
        <p:spPr>
          <a:xfrm>
            <a:off x="7927560" y="1676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6"/>
          <p:cNvSpPr/>
          <p:nvPr/>
        </p:nvSpPr>
        <p:spPr>
          <a:xfrm>
            <a:off x="4650480" y="320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23"/>
          <p:cNvSpPr/>
          <p:nvPr/>
        </p:nvSpPr>
        <p:spPr>
          <a:xfrm flipH="1" flipV="1">
            <a:off x="4572000" y="2209320"/>
            <a:ext cx="18288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26"/>
          <p:cNvSpPr/>
          <p:nvPr/>
        </p:nvSpPr>
        <p:spPr>
          <a:xfrm flipH="1">
            <a:off x="4876560" y="25138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4422240" y="182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Текст 25"/>
          <p:cNvSpPr/>
          <p:nvPr/>
        </p:nvSpPr>
        <p:spPr>
          <a:xfrm>
            <a:off x="755640" y="4221000"/>
            <a:ext cx="792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войство   вертикальных  углов : вертикальные углы  равны.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3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9744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708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708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5600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708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708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8" action="ppaction://hlinksldjump"/>
          </p:cNvPr>
          <p:cNvSpPr/>
          <p:nvPr/>
        </p:nvSpPr>
        <p:spPr>
          <a:xfrm>
            <a:off x="111600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0" action="ppaction://hlinksldjump"/>
          </p:cNvPr>
          <p:cNvSpPr/>
          <p:nvPr/>
        </p:nvSpPr>
        <p:spPr>
          <a:xfrm>
            <a:off x="255600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2" action="ppaction://hlinksldjump"/>
          </p:cNvPr>
          <p:cNvSpPr/>
          <p:nvPr/>
        </p:nvSpPr>
        <p:spPr>
          <a:xfrm>
            <a:off x="399564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4" action="ppaction://hlinksldjump"/>
          </p:cNvPr>
          <p:cNvSpPr/>
          <p:nvPr/>
        </p:nvSpPr>
        <p:spPr>
          <a:xfrm>
            <a:off x="543564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7564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744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5744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20" action="ppaction://hlinksldjump"/>
          </p:cNvPr>
          <p:cNvSpPr/>
          <p:nvPr/>
        </p:nvSpPr>
        <p:spPr>
          <a:xfrm>
            <a:off x="971640" y="1052640"/>
            <a:ext cx="7200720" cy="863640"/>
          </a:xfrm>
          <a:custGeom>
            <a:avLst/>
            <a:gdLst>
              <a:gd name="textAreaLeft" fmla="*/ 55800 w 7200720"/>
              <a:gd name="textAreaRight" fmla="*/ 7144920 w 7200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80027" h="21600">
                <a:moveTo>
                  <a:pt x="0" y="0"/>
                </a:moveTo>
                <a:lnTo>
                  <a:pt x="180027" y="0"/>
                </a:lnTo>
                <a:lnTo>
                  <a:pt x="180027" y="21600"/>
                </a:lnTo>
                <a:lnTo>
                  <a:pt x="0" y="21600"/>
                </a:lnTo>
                <a:close/>
              </a:path>
              <a:path fill="lightenLess" w="180027" h="21600">
                <a:moveTo>
                  <a:pt x="0" y="0"/>
                </a:moveTo>
                <a:lnTo>
                  <a:pt x="180027" y="0"/>
                </a:lnTo>
                <a:lnTo>
                  <a:pt x="178627" y="1400"/>
                </a:lnTo>
                <a:lnTo>
                  <a:pt x="1400" y="1400"/>
                </a:lnTo>
                <a:close/>
              </a:path>
              <a:path fill="darken" w="180027" h="21600">
                <a:moveTo>
                  <a:pt x="180027" y="0"/>
                </a:moveTo>
                <a:lnTo>
                  <a:pt x="180027" y="21600"/>
                </a:lnTo>
                <a:lnTo>
                  <a:pt x="178627" y="20200"/>
                </a:lnTo>
                <a:lnTo>
                  <a:pt x="178627" y="1400"/>
                </a:lnTo>
                <a:close/>
              </a:path>
              <a:path fill="darkenLess" w="180027" h="21600">
                <a:moveTo>
                  <a:pt x="180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27" y="20200"/>
                </a:lnTo>
                <a:close/>
              </a:path>
              <a:path fill="lighten" w="180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межные и вертикальные уг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lastslide"/>
          </p:cNvPr>
          <p:cNvSpPr/>
          <p:nvPr/>
        </p:nvSpPr>
        <p:spPr>
          <a:xfrm>
            <a:off x="7956720" y="6308640"/>
            <a:ext cx="792000" cy="316080"/>
          </a:xfrm>
          <a:custGeom>
            <a:avLst/>
            <a:gdLst>
              <a:gd name="textAreaLeft" fmla="*/ 20160 w 792000"/>
              <a:gd name="textAreaRight" fmla="*/ 771840 w 792000"/>
              <a:gd name="textAreaTop" fmla="*/ 20160 h 316080"/>
              <a:gd name="textAreaBottom" fmla="*/ 295920 h 316080"/>
            </a:gdLst>
            <a:ahLst/>
            <a:rect l="textAreaLeft" t="textAreaTop" r="textAreaRight" b="textAreaBottom"/>
            <a:pathLst>
              <a:path w="54086" h="21600">
                <a:moveTo>
                  <a:pt x="0" y="0"/>
                </a:moveTo>
                <a:lnTo>
                  <a:pt x="54086" y="0"/>
                </a:lnTo>
                <a:lnTo>
                  <a:pt x="54086" y="21600"/>
                </a:lnTo>
                <a:lnTo>
                  <a:pt x="0" y="21600"/>
                </a:lnTo>
                <a:close/>
              </a:path>
              <a:path fill="lightenLess" w="54086" h="21600">
                <a:moveTo>
                  <a:pt x="0" y="0"/>
                </a:moveTo>
                <a:lnTo>
                  <a:pt x="54086" y="0"/>
                </a:lnTo>
                <a:lnTo>
                  <a:pt x="52686" y="1400"/>
                </a:lnTo>
                <a:lnTo>
                  <a:pt x="1400" y="1400"/>
                </a:lnTo>
                <a:close/>
              </a:path>
              <a:path fill="darken" w="54086" h="21600">
                <a:moveTo>
                  <a:pt x="54086" y="0"/>
                </a:moveTo>
                <a:lnTo>
                  <a:pt x="54086" y="21600"/>
                </a:lnTo>
                <a:lnTo>
                  <a:pt x="52686" y="20200"/>
                </a:lnTo>
                <a:lnTo>
                  <a:pt x="52686" y="1400"/>
                </a:lnTo>
                <a:close/>
              </a:path>
              <a:path fill="darkenLess" w="54086" h="21600">
                <a:moveTo>
                  <a:pt x="54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86" y="20200"/>
                </a:lnTo>
                <a:close/>
              </a:path>
              <a:path fill="lighten" w="54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86" h="21600">
                <a:moveTo>
                  <a:pt x="30542" y="10800"/>
                </a:moveTo>
                <a:lnTo>
                  <a:pt x="20037" y="17806"/>
                </a:lnTo>
                <a:lnTo>
                  <a:pt x="20037" y="3794"/>
                </a:lnTo>
                <a:close/>
              </a:path>
              <a:path fill="darken" w="54086" h="21600">
                <a:moveTo>
                  <a:pt x="32387" y="3794"/>
                </a:moveTo>
                <a:lnTo>
                  <a:pt x="32387" y="17806"/>
                </a:lnTo>
                <a:lnTo>
                  <a:pt x="34049" y="17806"/>
                </a:lnTo>
                <a:lnTo>
                  <a:pt x="3404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744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01960" y="3060720"/>
            <a:ext cx="3725640" cy="1378080"/>
          </a:xfrm>
          <a:custGeom>
            <a:avLst/>
            <a:gdLst/>
            <a:ahLst/>
            <a:rect l="l" t="t" r="r" b="b"/>
            <a:pathLst>
              <a:path w="2347" h="868">
                <a:moveTo>
                  <a:pt x="0" y="868"/>
                </a:moveTo>
                <a:lnTo>
                  <a:pt x="2347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8180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140360" y="5661000"/>
                <a:ext cx="2952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7885080" y="285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42920" y="260280"/>
            <a:ext cx="8100360" cy="2304720"/>
            <a:chOff x="1042920" y="260280"/>
            <a:chExt cx="8100360" cy="2304720"/>
          </a:xfrm>
        </p:grpSpPr>
        <p:sp>
          <p:nvSpPr>
            <p:cNvPr id="124" name=""/>
            <p:cNvSpPr/>
            <p:nvPr/>
          </p:nvSpPr>
          <p:spPr>
            <a:xfrm>
              <a:off x="2297880" y="1989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042920" y="260280"/>
              <a:ext cx="8100360" cy="2304720"/>
              <a:chOff x="1042920" y="260280"/>
              <a:chExt cx="8100360" cy="2304720"/>
            </a:xfrm>
          </p:grpSpPr>
          <p:sp>
            <p:nvSpPr>
              <p:cNvPr id="126" name=""/>
              <p:cNvSpPr/>
              <p:nvPr/>
            </p:nvSpPr>
            <p:spPr>
              <a:xfrm>
                <a:off x="1042920" y="260280"/>
                <a:ext cx="7952400" cy="13255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Дано:  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Найти: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" descr="&amp;Kcy;&amp;acy;&amp;rcy;&amp;tcy;&amp;icy;&amp;ncy;&amp;kcy;&amp;acy; 125 &amp;icy;&amp;zcy; 65344"/>
              <p:cNvPicPr/>
              <p:nvPr/>
            </p:nvPicPr>
            <p:blipFill>
              <a:blip r:embed="rId3"/>
              <a:stretch/>
            </p:blipFill>
            <p:spPr>
              <a:xfrm>
                <a:off x="7817040" y="1054440"/>
                <a:ext cx="1326240" cy="1510560"/>
              </a:xfrm>
              <a:prstGeom prst="rect">
                <a:avLst/>
              </a:prstGeom>
              <a:ln w="0">
                <a:noFill/>
              </a:ln>
            </p:spPr>
          </p:pic>
        </p:grp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2737800" y="333360"/>
                  <a:ext cx="25030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2883960" y="907920"/>
                  <a:ext cx="145908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СB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421200">
            <a:off x="4140360" y="285264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88240" y="292428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25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10520" y="31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01960" y="2425680"/>
            <a:ext cx="5605200" cy="2013120"/>
          </a:xfrm>
          <a:custGeom>
            <a:avLst/>
            <a:gdLst/>
            <a:ahLst/>
            <a:rect l="l" t="t" r="r" b="b"/>
            <a:pathLst>
              <a:path w="3531" h="1268">
                <a:moveTo>
                  <a:pt x="0" y="1268"/>
                </a:moveTo>
                <a:lnTo>
                  <a:pt x="3531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8144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00720" y="4149720"/>
                <a:ext cx="309564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F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BF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C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7164360" y="1844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7016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042920" y="260280"/>
            <a:ext cx="8100720" cy="2304720"/>
            <a:chOff x="1042920" y="260280"/>
            <a:chExt cx="8100720" cy="2304720"/>
          </a:xfrm>
        </p:grpSpPr>
        <p:sp>
          <p:nvSpPr>
            <p:cNvPr id="143" name=""/>
            <p:cNvSpPr/>
            <p:nvPr/>
          </p:nvSpPr>
          <p:spPr>
            <a:xfrm>
              <a:off x="1042920" y="260280"/>
              <a:ext cx="795276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817400" y="1054440"/>
              <a:ext cx="1326240" cy="151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2627280" y="355680"/>
            <a:ext cx="4105440" cy="1147680"/>
            <a:chOff x="2627280" y="355680"/>
            <a:chExt cx="4105440" cy="114768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2700360" y="355680"/>
                  <a:ext cx="2448000" cy="56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С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42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2627280" y="907920"/>
                  <a:ext cx="410544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FBD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F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4810800">
            <a:off x="5615280" y="252828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04240" y="2060640"/>
            <a:ext cx="9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142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5888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5800" y="436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960" y="3060720"/>
            <a:ext cx="3725640" cy="1378080"/>
          </a:xfrm>
          <a:custGeom>
            <a:avLst/>
            <a:gdLst/>
            <a:ahLst/>
            <a:rect l="l" t="t" r="r" b="b"/>
            <a:pathLst>
              <a:path w="2347" h="868">
                <a:moveTo>
                  <a:pt x="0" y="868"/>
                </a:moveTo>
                <a:lnTo>
                  <a:pt x="2347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10880" y="249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716360" y="4973760"/>
                <a:ext cx="316872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D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D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7885080" y="285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7016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042920" y="260280"/>
            <a:ext cx="7921800" cy="2304720"/>
            <a:chOff x="1042920" y="260280"/>
            <a:chExt cx="7921800" cy="2304720"/>
          </a:xfrm>
        </p:grpSpPr>
        <p:sp>
          <p:nvSpPr>
            <p:cNvPr id="162" name=""/>
            <p:cNvSpPr/>
            <p:nvPr/>
          </p:nvSpPr>
          <p:spPr>
            <a:xfrm>
              <a:off x="1042920" y="260280"/>
              <a:ext cx="77770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054440"/>
              <a:ext cx="1297080" cy="15105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700360" y="399960"/>
                <a:ext cx="44640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B</m:t>
                    </m:r>
                    <m:r>
                      <m:rPr>
                        <m:lit/>
                        <m:nor/>
                      </m:rPr>
                      <m:t xml:space="preserve">&lt;∠</m:t>
                    </m:r>
                    <m:r>
                      <m:rPr>
                        <m:lit/>
                        <m:nor/>
                      </m:rPr>
                      <m:t xml:space="preserve">BDC</m:t>
                    </m:r>
                    <m:r>
                      <m:rPr>
                        <m:lit/>
                        <m:nor/>
                      </m:rPr>
                      <m:t xml:space="preserve"> в 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ра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700360" y="907920"/>
                <a:ext cx="2736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B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D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10160" y="2924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1800" y="3573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5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59520" y="4221000"/>
            <a:ext cx="220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5х+х=180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1228600">
            <a:off x="4062240" y="2852640"/>
            <a:ext cx="28764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5738000">
            <a:off x="5579640" y="2925360"/>
            <a:ext cx="28728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5738000">
            <a:off x="5525640" y="2763000"/>
            <a:ext cx="3970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2" y="873"/>
                  <a:pt x="4864" y="5080"/>
                  <a:pt x="4864" y="10800"/>
                </a:cubicBezTo>
                <a:cubicBezTo>
                  <a:pt x="4864" y="16520"/>
                  <a:pt x="13232" y="207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8:30:05Z</dcterms:created>
  <dc:creator>КарМаН</dc:creator>
  <dc:description/>
  <dc:language>en-US</dc:language>
  <cp:lastModifiedBy>User</cp:lastModifiedBy>
  <dcterms:modified xsi:type="dcterms:W3CDTF">2012-11-14T09:21:54Z</dcterms:modified>
  <cp:revision>27</cp:revision>
  <dc:subject/>
  <dc:title>Слайд 1</dc:title>
</cp:coreProperties>
</file>