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EAD-CDA7-4DAB-9287-9E427A8C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AB7-7DCA-49A3-AE9A-5B723346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F631-3081-441C-B07D-703AF531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2F7-DB91-484E-BFD3-E1632EBD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20D-7DC9-4049-B379-1476F09C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EE2-0431-4400-A2D8-66ED9009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DBB-3F8E-4645-ADF9-D5A80752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7CD-88AE-4F5A-92A8-99FAA577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020-73D4-42BF-AE99-9A6AE6EB1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A6B-9076-4B4A-B1A4-30038E46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DDE-1AFC-46CB-9E74-166985D8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B79-60F6-41CC-8613-1CC5B62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87F-03D1-41DA-A03B-3A3B4AB1E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4 класс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3885840"/>
            <a:ext cx="885672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reeform 2"/>
          <p:cNvSpPr/>
          <p:nvPr/>
        </p:nvSpPr>
        <p:spPr>
          <a:xfrm>
            <a:off x="-52560" y="4869000"/>
            <a:ext cx="9196560" cy="2232000"/>
          </a:xfrm>
          <a:custGeom>
            <a:avLst/>
            <a:gdLst>
              <a:gd name="textAreaLeft" fmla="*/ 0 w 9196560"/>
              <a:gd name="textAreaRight" fmla="*/ 9196920 w 91965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5793" h="1296">
                <a:moveTo>
                  <a:pt x="0" y="1144"/>
                </a:moveTo>
                <a:cubicBezTo>
                  <a:pt x="5" y="1125"/>
                  <a:pt x="14" y="1107"/>
                  <a:pt x="16" y="1088"/>
                </a:cubicBezTo>
                <a:cubicBezTo>
                  <a:pt x="28" y="991"/>
                  <a:pt x="9" y="991"/>
                  <a:pt x="64" y="936"/>
                </a:cubicBezTo>
                <a:cubicBezTo>
                  <a:pt x="79" y="891"/>
                  <a:pt x="72" y="851"/>
                  <a:pt x="112" y="824"/>
                </a:cubicBezTo>
                <a:cubicBezTo>
                  <a:pt x="129" y="774"/>
                  <a:pt x="165" y="740"/>
                  <a:pt x="208" y="712"/>
                </a:cubicBezTo>
                <a:cubicBezTo>
                  <a:pt x="247" y="654"/>
                  <a:pt x="275" y="657"/>
                  <a:pt x="328" y="624"/>
                </a:cubicBezTo>
                <a:cubicBezTo>
                  <a:pt x="398" y="580"/>
                  <a:pt x="331" y="621"/>
                  <a:pt x="376" y="576"/>
                </a:cubicBezTo>
                <a:cubicBezTo>
                  <a:pt x="390" y="562"/>
                  <a:pt x="416" y="553"/>
                  <a:pt x="432" y="544"/>
                </a:cubicBezTo>
                <a:cubicBezTo>
                  <a:pt x="475" y="518"/>
                  <a:pt x="519" y="492"/>
                  <a:pt x="560" y="464"/>
                </a:cubicBezTo>
                <a:cubicBezTo>
                  <a:pt x="585" y="447"/>
                  <a:pt x="619" y="454"/>
                  <a:pt x="648" y="448"/>
                </a:cubicBezTo>
                <a:cubicBezTo>
                  <a:pt x="675" y="430"/>
                  <a:pt x="691" y="398"/>
                  <a:pt x="720" y="384"/>
                </a:cubicBezTo>
                <a:cubicBezTo>
                  <a:pt x="774" y="357"/>
                  <a:pt x="832" y="350"/>
                  <a:pt x="888" y="328"/>
                </a:cubicBezTo>
                <a:cubicBezTo>
                  <a:pt x="978" y="194"/>
                  <a:pt x="1157" y="184"/>
                  <a:pt x="1304" y="176"/>
                </a:cubicBezTo>
                <a:cubicBezTo>
                  <a:pt x="1336" y="165"/>
                  <a:pt x="1367" y="159"/>
                  <a:pt x="1400" y="152"/>
                </a:cubicBezTo>
                <a:cubicBezTo>
                  <a:pt x="1525" y="89"/>
                  <a:pt x="1608" y="81"/>
                  <a:pt x="1752" y="64"/>
                </a:cubicBezTo>
                <a:cubicBezTo>
                  <a:pt x="1795" y="59"/>
                  <a:pt x="1837" y="46"/>
                  <a:pt x="1880" y="40"/>
                </a:cubicBezTo>
                <a:cubicBezTo>
                  <a:pt x="2001" y="0"/>
                  <a:pt x="2207" y="41"/>
                  <a:pt x="2344" y="48"/>
                </a:cubicBezTo>
                <a:cubicBezTo>
                  <a:pt x="2373" y="58"/>
                  <a:pt x="2432" y="72"/>
                  <a:pt x="2432" y="72"/>
                </a:cubicBezTo>
                <a:cubicBezTo>
                  <a:pt x="2632" y="68"/>
                  <a:pt x="2807" y="61"/>
                  <a:pt x="3000" y="48"/>
                </a:cubicBezTo>
                <a:cubicBezTo>
                  <a:pt x="3073" y="24"/>
                  <a:pt x="3158" y="28"/>
                  <a:pt x="3232" y="24"/>
                </a:cubicBezTo>
                <a:cubicBezTo>
                  <a:pt x="3269" y="27"/>
                  <a:pt x="3308" y="23"/>
                  <a:pt x="3344" y="32"/>
                </a:cubicBezTo>
                <a:cubicBezTo>
                  <a:pt x="3355" y="35"/>
                  <a:pt x="3359" y="50"/>
                  <a:pt x="3368" y="56"/>
                </a:cubicBezTo>
                <a:cubicBezTo>
                  <a:pt x="3395" y="74"/>
                  <a:pt x="3456" y="101"/>
                  <a:pt x="3488" y="104"/>
                </a:cubicBezTo>
                <a:cubicBezTo>
                  <a:pt x="3568" y="111"/>
                  <a:pt x="3648" y="109"/>
                  <a:pt x="3728" y="112"/>
                </a:cubicBezTo>
                <a:cubicBezTo>
                  <a:pt x="3894" y="153"/>
                  <a:pt x="3907" y="146"/>
                  <a:pt x="4144" y="152"/>
                </a:cubicBezTo>
                <a:cubicBezTo>
                  <a:pt x="4197" y="178"/>
                  <a:pt x="4246" y="190"/>
                  <a:pt x="4304" y="200"/>
                </a:cubicBezTo>
                <a:cubicBezTo>
                  <a:pt x="4394" y="185"/>
                  <a:pt x="4380" y="184"/>
                  <a:pt x="4520" y="200"/>
                </a:cubicBezTo>
                <a:cubicBezTo>
                  <a:pt x="4534" y="202"/>
                  <a:pt x="4547" y="211"/>
                  <a:pt x="4560" y="216"/>
                </a:cubicBezTo>
                <a:cubicBezTo>
                  <a:pt x="4623" y="239"/>
                  <a:pt x="4686" y="259"/>
                  <a:pt x="4752" y="272"/>
                </a:cubicBezTo>
                <a:cubicBezTo>
                  <a:pt x="4804" y="324"/>
                  <a:pt x="4873" y="329"/>
                  <a:pt x="4944" y="336"/>
                </a:cubicBezTo>
                <a:cubicBezTo>
                  <a:pt x="4994" y="353"/>
                  <a:pt x="4943" y="329"/>
                  <a:pt x="4984" y="376"/>
                </a:cubicBezTo>
                <a:cubicBezTo>
                  <a:pt x="4995" y="389"/>
                  <a:pt x="5012" y="396"/>
                  <a:pt x="5024" y="408"/>
                </a:cubicBezTo>
                <a:cubicBezTo>
                  <a:pt x="5050" y="434"/>
                  <a:pt x="5069" y="469"/>
                  <a:pt x="5096" y="496"/>
                </a:cubicBezTo>
                <a:cubicBezTo>
                  <a:pt x="5107" y="528"/>
                  <a:pt x="5161" y="611"/>
                  <a:pt x="5192" y="632"/>
                </a:cubicBezTo>
                <a:cubicBezTo>
                  <a:pt x="5209" y="643"/>
                  <a:pt x="5230" y="646"/>
                  <a:pt x="5248" y="656"/>
                </a:cubicBezTo>
                <a:cubicBezTo>
                  <a:pt x="5267" y="667"/>
                  <a:pt x="5286" y="677"/>
                  <a:pt x="5304" y="688"/>
                </a:cubicBezTo>
                <a:cubicBezTo>
                  <a:pt x="5320" y="698"/>
                  <a:pt x="5352" y="720"/>
                  <a:pt x="5352" y="720"/>
                </a:cubicBezTo>
                <a:cubicBezTo>
                  <a:pt x="5398" y="790"/>
                  <a:pt x="5431" y="774"/>
                  <a:pt x="5504" y="792"/>
                </a:cubicBezTo>
                <a:cubicBezTo>
                  <a:pt x="5520" y="803"/>
                  <a:pt x="5536" y="813"/>
                  <a:pt x="5552" y="824"/>
                </a:cubicBezTo>
                <a:cubicBezTo>
                  <a:pt x="5660" y="896"/>
                  <a:pt x="5558" y="858"/>
                  <a:pt x="5624" y="880"/>
                </a:cubicBezTo>
                <a:cubicBezTo>
                  <a:pt x="5641" y="930"/>
                  <a:pt x="5659" y="986"/>
                  <a:pt x="5704" y="1016"/>
                </a:cubicBezTo>
                <a:cubicBezTo>
                  <a:pt x="5731" y="1098"/>
                  <a:pt x="5684" y="1083"/>
                  <a:pt x="5784" y="1096"/>
                </a:cubicBezTo>
                <a:cubicBezTo>
                  <a:pt x="5755" y="1296"/>
                  <a:pt x="5793" y="1164"/>
                  <a:pt x="5336" y="1168"/>
                </a:cubicBezTo>
                <a:cubicBezTo>
                  <a:pt x="4920" y="1172"/>
                  <a:pt x="4504" y="1156"/>
                  <a:pt x="4088" y="1152"/>
                </a:cubicBezTo>
                <a:cubicBezTo>
                  <a:pt x="3663" y="1119"/>
                  <a:pt x="3265" y="1140"/>
                  <a:pt x="2824" y="1144"/>
                </a:cubicBezTo>
                <a:cubicBezTo>
                  <a:pt x="1971" y="1141"/>
                  <a:pt x="1117" y="1141"/>
                  <a:pt x="264" y="1136"/>
                </a:cubicBezTo>
                <a:cubicBezTo>
                  <a:pt x="201" y="1136"/>
                  <a:pt x="0" y="1109"/>
                  <a:pt x="0" y="1096"/>
                </a:cubicBezTo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ddd0fc32575ct"/>
          <p:cNvPicPr/>
          <p:nvPr/>
        </p:nvPicPr>
        <p:blipFill>
          <a:blip r:embed="rId1"/>
          <a:stretch/>
        </p:blipFill>
        <p:spPr>
          <a:xfrm>
            <a:off x="2771640" y="1916280"/>
            <a:ext cx="321804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 rot="16884600">
            <a:off x="172440" y="5091120"/>
            <a:ext cx="134748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00003b"/>
              </a:gs>
              <a:gs pos="100000">
                <a:srgbClr val="00008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7236000" y="189000"/>
            <a:ext cx="1511280" cy="15112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 rot="16884600">
            <a:off x="172080" y="300420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181847"/>
              </a:gs>
              <a:gs pos="100000">
                <a:srgbClr val="333399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 rot="16884600">
            <a:off x="172080" y="6991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618f0"/>
              </a:gs>
            </a:gsLst>
            <a:lin ang="1011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 rot="551400">
            <a:off x="1763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c0504d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 rot="551400">
            <a:off x="3995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ee8f8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 rot="551400">
            <a:off x="6227280" y="25992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6e74ee"/>
              </a:gs>
              <a:gs pos="100000">
                <a:srgbClr val="4f81bd"/>
              </a:gs>
            </a:gsLst>
            <a:lin ang="4848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1"/>
          <p:cNvSpPr/>
          <p:nvPr/>
        </p:nvSpPr>
        <p:spPr>
          <a:xfrm rot="6169800">
            <a:off x="7733160" y="77256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3366ff"/>
              </a:gs>
              <a:gs pos="50000">
                <a:srgbClr val="4f81bd"/>
              </a:gs>
              <a:gs pos="100000">
                <a:srgbClr val="3366ff"/>
              </a:gs>
            </a:gsLst>
            <a:lin ang="208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2"/>
          <p:cNvSpPr/>
          <p:nvPr/>
        </p:nvSpPr>
        <p:spPr>
          <a:xfrm rot="6169800">
            <a:off x="7733160" y="3075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4618f0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6169800">
            <a:off x="7733160" y="5307840"/>
            <a:ext cx="1347840" cy="90144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18132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1193600">
            <a:off x="6156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770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1193600">
            <a:off x="406728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77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6" descr="arg-blue-left-tr"/>
          <p:cNvPicPr/>
          <p:nvPr/>
        </p:nvPicPr>
        <p:blipFill>
          <a:blip r:embed="rId2"/>
          <a:stretch/>
        </p:blipFill>
        <p:spPr>
          <a:xfrm>
            <a:off x="5940360" y="1341360"/>
            <a:ext cx="1190520" cy="151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7" descr="ani-bird_red"/>
          <p:cNvPicPr/>
          <p:nvPr/>
        </p:nvPicPr>
        <p:blipFill>
          <a:blip r:embed="rId3"/>
          <a:stretch/>
        </p:blipFill>
        <p:spPr>
          <a:xfrm>
            <a:off x="2627280" y="270828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8" descr="b13"/>
          <p:cNvPicPr/>
          <p:nvPr/>
        </p:nvPicPr>
        <p:blipFill>
          <a:blip r:embed="rId4"/>
          <a:stretch/>
        </p:blipFill>
        <p:spPr>
          <a:xfrm>
            <a:off x="2714760" y="5013360"/>
            <a:ext cx="1153800" cy="1235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13"/>
          <p:cNvPicPr/>
          <p:nvPr/>
        </p:nvPicPr>
        <p:blipFill>
          <a:blip r:embed="rId5"/>
          <a:stretch/>
        </p:blipFill>
        <p:spPr>
          <a:xfrm>
            <a:off x="7164360" y="5516640"/>
            <a:ext cx="1020960" cy="10922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20"/>
          <p:cNvSpPr/>
          <p:nvPr/>
        </p:nvSpPr>
        <p:spPr>
          <a:xfrm>
            <a:off x="5435640" y="2637000"/>
            <a:ext cx="3384360" cy="1223640"/>
          </a:xfrm>
          <a:prstGeom prst="wedgeRoundRectCallout">
            <a:avLst>
              <a:gd name="adj1" fmla="val -72328"/>
              <a:gd name="adj2" fmla="val -1095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8000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Ребята, берегите зре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B_Fly31"/>
          <p:cNvPicPr/>
          <p:nvPr/>
        </p:nvPicPr>
        <p:blipFill>
          <a:blip r:embed="rId6"/>
          <a:stretch/>
        </p:blipFill>
        <p:spPr>
          <a:xfrm rot="7628400">
            <a:off x="1287000" y="2536560"/>
            <a:ext cx="1143000" cy="105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3" descr="B_Fly21"/>
          <p:cNvPicPr/>
          <p:nvPr/>
        </p:nvPicPr>
        <p:blipFill>
          <a:blip r:embed="rId7"/>
          <a:stretch/>
        </p:blipFill>
        <p:spPr>
          <a:xfrm rot="13640400">
            <a:off x="7137720" y="3599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B_Fly14"/>
          <p:cNvPicPr/>
          <p:nvPr/>
        </p:nvPicPr>
        <p:blipFill>
          <a:blip r:embed="rId8"/>
          <a:stretch/>
        </p:blipFill>
        <p:spPr>
          <a:xfrm>
            <a:off x="3059280" y="2565360"/>
            <a:ext cx="1441440" cy="141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5" descr="b11"/>
          <p:cNvPicPr/>
          <p:nvPr/>
        </p:nvPicPr>
        <p:blipFill>
          <a:blip r:embed="rId9"/>
          <a:stretch/>
        </p:blipFill>
        <p:spPr>
          <a:xfrm>
            <a:off x="1187280" y="551664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b11"/>
          <p:cNvPicPr/>
          <p:nvPr/>
        </p:nvPicPr>
        <p:blipFill>
          <a:blip r:embed="rId10"/>
          <a:stretch/>
        </p:blipFill>
        <p:spPr>
          <a:xfrm>
            <a:off x="5292720" y="5157720"/>
            <a:ext cx="99540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27"/>
          <p:cNvSpPr/>
          <p:nvPr/>
        </p:nvSpPr>
        <p:spPr>
          <a:xfrm rot="11193600">
            <a:off x="1692360" y="5876640"/>
            <a:ext cx="1347840" cy="901800"/>
          </a:xfrm>
          <a:prstGeom prst="cloudCallout">
            <a:avLst>
              <a:gd name="adj1" fmla="val -34226"/>
              <a:gd name="adj2" fmla="val 14092"/>
            </a:avLst>
          </a:prstGeom>
          <a:gradFill rotWithShape="0">
            <a:gsLst>
              <a:gs pos="0">
                <a:srgbClr val="ffffff"/>
              </a:gs>
              <a:gs pos="100000">
                <a:srgbClr val="33e6f9"/>
              </a:gs>
            </a:gsLst>
            <a:lin ang="15804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23202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4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1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0.06806 L -0.18107 0.21528 C -0.21649 0.24861 -0.26927 0.26759 -0.32447 0.26759 C -0.38767 0.26759 -0.43784 0.24861 -0.47326 0.21528 L -0.64184 0.06806 E">
                                      <p:cBhvr>
                                        <p:cTn id="212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4" nodeType="afterEffect" fill="hold" presetClass="path" presetID="44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747 0.06806 L -0.48473 0.00533 C -0.44827 -0.00856 -0.3941 -0.01597 -0.3375 -0.01597 C -0.27292 -0.01597 -0.22153 -0.00856 -0.18507 0.00533 L -0.01181 0.06806 E">
                                      <p:cBhvr>
                                        <p:cTn id="215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2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36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4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27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81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11458 C 0.05781 -0.10833 0.10955 -0.02917 0.10504 0.06273 C 0.10052 0.15463 0.04097 0.22361 -0.02795 0.21759 C -0.09705 0.21157 -0.14861 0.13171 -0.1441 0.04028 C -0.13941 -0.05185 -0.07986 -0.12083 -0.01111 -0.11458 Z">
                                      <p:cBhvr>
                                        <p:cTn id="28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2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3000"/>
                            </p:stCondLst>
                            <p:childTnLst>
                              <p:par>
                                <p:cTn id="289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82 0.05741 L 0.0382 -0.2581 L -0.18715 -0.2581 L -0.18715 0.05741 L 0.0382 0.05741 Z">
                                      <p:cBhvr>
                                        <p:cTn id="2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7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 еще не родился, а уже думали: 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К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 Что 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он</a:t>
            </a:r>
            <a:r>
              <a:rPr b="1" lang="ru-RU" sz="3200" spc="-1" strike="noStrike">
                <a:solidFill>
                  <a:srgbClr val="336600"/>
                </a:solidFill>
                <a:latin typeface="Calibri"/>
              </a:rPr>
              <a:t>?</a:t>
            </a: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Какое ему дать имя? Решили назвать –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мените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6"/>
          <p:cNvSpPr/>
          <p:nvPr/>
        </p:nvSpPr>
        <p:spPr>
          <a:xfrm>
            <a:off x="179280" y="172260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тицы  – нашы/и   друзь/ъя.   О/Ани  о/ахр. няют  п .ля  л .са (от)  вр.ди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/аж .лейте   п .рнатых   друзей!   П .м .гите   птицам   з .мой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1023840" y="282600"/>
            <a:ext cx="77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00275"/>
                </a:solidFill>
                <a:latin typeface="Arial"/>
              </a:rPr>
              <a:t>Решить орфографические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3635640" y="1989000"/>
            <a:ext cx="175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ло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о 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5508720" y="1996920"/>
            <a:ext cx="172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к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7093080" y="1989000"/>
            <a:ext cx="155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чё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Рисунок1в"/>
          <p:cNvPicPr/>
          <p:nvPr/>
        </p:nvPicPr>
        <p:blipFill>
          <a:blip r:embed="rId1"/>
          <a:srcRect l="0" t="0" r="0" b="13781"/>
          <a:stretch/>
        </p:blipFill>
        <p:spPr>
          <a:xfrm>
            <a:off x="6877080" y="5084640"/>
            <a:ext cx="2266920" cy="1630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3640" y="1989000"/>
            <a:ext cx="3272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е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вори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539640" y="333360"/>
            <a:ext cx="806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дежи русского языка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ди аналог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c1626"/>
                </a:solidFill>
                <a:latin typeface="Arial"/>
              </a:rPr>
              <a:t>Чёрное – белое = огонь –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Война – смерть = …     - жизн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Рысь – кошка = волк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cc"/>
                </a:solidFill>
                <a:latin typeface="Arial"/>
              </a:rPr>
              <a:t>Дети – игра = взрослые -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28760" y="6000840"/>
            <a:ext cx="80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 лишнюю пару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зминка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бери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ва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главных подходящих слов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ЛЕС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лист, яблоня, охотник, дерево, кустарник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ВОЙН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аэроплан, пушки, сражения, солдаты, ружьё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РЕКА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берег, рыба, тина, рыболов, вод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Что объединяет данные  слов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На какие  группы можно их раздел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6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Вставь пропущенные буквы. Спиши, подчеркни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ишнее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78552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1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Х…зяйство, д…р…га, к…мбайн, ко….ектив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од…езд, с…ёмка, в…юга, об…явле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2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…карь, д…ждинка, ж…стянка, кр…винк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Па..ажир, Ро…ия, п…года, су..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Что объединяет все сл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2437"/>
                </a:solidFill>
                <a:latin typeface="Calibri"/>
              </a:rPr>
              <a:t>Языковая разминк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тицы  – нашы/и   друзь/ъя.   О/Ани  о/ахр. няют  п .ля, л.са (от)  вр.дителей.По/аж .лейте   п .рнатых   друзей!   П .м .гите   птицам   з .мой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Что такое имя существительно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На какие вопросы отвечают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cc"/>
                </a:solidFill>
                <a:latin typeface="Calibri"/>
              </a:rPr>
              <a:t>Как изменяются имена существительны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85840" y="7858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Друг это человек, который всё поймёт и поможет. Друга не забудешь через года. Другу доверишь любую тайну. Я уважаю своего друга. Я горжусь другом. Многие мечтают о настоящем друг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Прочитайте текст. О чём он? Найдите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родственные существительны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71320"/>
            <a:ext cx="2400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 друг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928960" y="500040"/>
            <a:ext cx="2143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т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му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ого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ке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(О ком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357120" y="51436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С помощью вопросов определите падеж имён существ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500800" y="500040"/>
            <a:ext cx="24289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И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Д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. 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20"/>
                            </p:stCondLst>
                            <p:childTnLst>
                              <p:par>
                                <p:cTn id="5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7855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33cc"/>
                </a:solidFill>
                <a:latin typeface="Calibri"/>
              </a:rPr>
              <a:t>Склонение имён существительных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214200" y="4000680"/>
            <a:ext cx="892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Что называется склонен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Arial"/>
              </a:rPr>
              <a:t>Сколько падежей в русском языке? 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На какие вопросы отвечают падежи имён существительны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77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7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9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1" dur="77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42920" y="0"/>
          <a:ext cx="8858160" cy="6961320"/>
        </p:xfrm>
        <a:graphic>
          <a:graphicData uri="http://schemas.openxmlformats.org/drawingml/2006/table">
            <a:tbl>
              <a:tblPr/>
              <a:tblGrid>
                <a:gridCol w="1714320"/>
                <a:gridCol w="1649520"/>
                <a:gridCol w="1738440"/>
                <a:gridCol w="3755880"/>
              </a:tblGrid>
              <a:tr h="1353240">
                <a:tc>
                  <a:txBody>
                    <a:bodyPr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падеж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в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дежные 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? 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, возле, до, из, для, около, от, подле, с, у, вокруг, кро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ойти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у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, п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ж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, за, про, через, в, на, 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ол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, между, над, под, с, со, пер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 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м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вор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ко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 чем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, о, об, на, пр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В.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йдите и подчеркните в тексте          все имена существительные. Определи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Праздник леса.</a:t>
            </a: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Школа объявила праздник леса.Ребята собрались у подъезда школы. Каждый принёс лопату и ведро. Подъехала машина. Она привезла саженцы. Теперь они будут защищать дорогу от снег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428400"/>
            <a:ext cx="91440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1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раздник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ес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огда? во 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В суббо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 (у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У подъезда – </a:t>
            </a:r>
            <a:r>
              <a:rPr b="1" i="1" lang="ru-RU" sz="2400" spc="-1" strike="noStrike">
                <a:solidFill>
                  <a:srgbClr val="ee2437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Школ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Лопат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Ведро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4. 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Машин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Саженцы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к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Ребят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И.п.       (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Ёлочк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(по чему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По сторонам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Д.п.      (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ороги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6.(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чт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Дорогу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.п.       (от чего?)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От снега –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Р.п.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1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2" dur="80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80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Ь С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пиши словосочетания, определ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адеж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од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уществительны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2133720"/>
            <a:ext cx="8856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ыглядывает из-за куста(      ), скачет по дорожке(       ), поют песню(      ), открыл рот(      ), не боится волка(      ), провожают друга(         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Упр.1, стр.1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Calibri"/>
              </a:rPr>
              <a:t>Выучить таблицу «Падежи» на стр.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9036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c1626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c1626"/>
                </a:solidFill>
                <a:latin typeface="Arial"/>
              </a:rPr>
              <a:t>Ляйсан Ильха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40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о найти слово, от которого данное существительное завис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авить вопрос от этого слова к тому, падеж которого мы определя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я вопрос и вспомогательные слова, определить паде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250920" y="0"/>
            <a:ext cx="8569080" cy="22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Как узнать падеж имени существительного?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50920" y="2492280"/>
            <a:ext cx="77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Найти  главное слово (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X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82692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0920" y="37162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.  От главного слова поставить падежный  вопрос к зависимому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85840" y="5143680"/>
            <a:ext cx="801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вопросу определить падеж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 rot="5400000">
            <a:off x="-2650680" y="3054960"/>
            <a:ext cx="645336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ПОМНИ!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76360" y="765000"/>
            <a:ext cx="153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Им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Р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Д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В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Т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99"/>
                </a:solidFill>
                <a:latin typeface="Arial"/>
              </a:rPr>
              <a:t>П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203640" y="907920"/>
            <a:ext cx="51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т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987640" y="1773360"/>
            <a:ext cx="506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2781360"/>
            <a:ext cx="43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му? 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843280" y="3645000"/>
            <a:ext cx="390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ого? 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700360" y="4581360"/>
            <a:ext cx="455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кем? ч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700360" y="5516640"/>
            <a:ext cx="527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о ком? о чё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1476360" y="476280"/>
            <a:ext cx="6192720" cy="5761080"/>
          </a:xfrm>
          <a:prstGeom prst="sun">
            <a:avLst>
              <a:gd name="adj" fmla="val 2466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"/>
          <p:cNvSpPr/>
          <p:nvPr/>
        </p:nvSpPr>
        <p:spPr>
          <a:xfrm>
            <a:off x="3635280" y="2781360"/>
            <a:ext cx="360360" cy="288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4"/>
          <p:cNvSpPr/>
          <p:nvPr/>
        </p:nvSpPr>
        <p:spPr>
          <a:xfrm>
            <a:off x="5003640" y="2781360"/>
            <a:ext cx="360360" cy="288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572000" y="3213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 rot="16200000">
            <a:off x="4355280" y="3716640"/>
            <a:ext cx="360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994" y="1146"/>
                  <a:pt x="6387" y="5080"/>
                  <a:pt x="6387" y="10800"/>
                </a:cubicBezTo>
                <a:cubicBezTo>
                  <a:pt x="6387" y="16520"/>
                  <a:pt x="13994" y="204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Детские Песни - Дорогою Добра.mp3" descr=""/>
          <p:cNvPicPr/>
          <p:nvPr/>
        </p:nvPicPr>
        <p:blipFill>
          <a:blip r:embed="rId1"/>
          <a:stretch/>
        </p:blipFill>
        <p:spPr>
          <a:xfrm>
            <a:off x="79567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09575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5:50:49Z</dcterms:created>
  <dc:creator>333</dc:creator>
  <dc:description>З.В. Александрова  http://aida.ucoz.ru</dc:description>
  <dc:language>en-US</dc:language>
  <cp:lastModifiedBy>английский нач-кл</cp:lastModifiedBy>
  <dcterms:modified xsi:type="dcterms:W3CDTF">2012-11-12T16:54:00Z</dcterms:modified>
  <cp:revision>39</cp:revision>
  <dc:subject/>
  <dc:title>3 класс  Русский язык</dc:title>
</cp:coreProperties>
</file>