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9F99-DAAF-49B1-AE13-60B5AB5C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B5CB-65FD-4024-9A45-DD45353F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CE4A8-8E73-4ADC-AFFD-C79EB75F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141D-16CF-496A-9CFD-6C6874C3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0798-C8D8-460F-92D2-CFB392F5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DE03-0C12-4FFE-8813-56611237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4F5B-8756-4633-B390-081FE5D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2387-8C7F-460F-8E1D-F7B01BB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EFFD-4530-496B-B33A-16640C8C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8F02-ADAA-485F-BB48-FC05BFF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FDF0-2365-4FF8-97AC-239EDC0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5D2C-221F-4033-AE7D-2B6BB10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52DF-2DFF-4A5E-9A69-CA83529851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3152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341360"/>
            <a:ext cx="73152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110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315200" cy="1336680"/>
          </a:xfrm>
          <a:prstGeom prst="rect">
            <a:avLst/>
          </a:prstGeom>
          <a:solidFill>
            <a:srgbClr val="f9be92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пределение места наречия времени в предложении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1927080"/>
            <a:ext cx="73152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 homewo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haven’t  done your  homework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9240" indent="-17496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ve you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e  your homework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971640" y="155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43564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11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684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2"/>
          <p:cNvSpPr/>
          <p:nvPr/>
        </p:nvSpPr>
        <p:spPr>
          <a:xfrm>
            <a:off x="3851280" y="4292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315200" cy="172872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8600"/>
                </a:solidFill>
                <a:latin typeface="Arial"/>
              </a:rPr>
              <a:t>Переведи следующие предложения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14400" y="1915920"/>
            <a:ext cx="73152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а только что убрала свою комна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Он уже выучил стихотво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600"/>
                </a:solidFill>
                <a:latin typeface="Arial"/>
              </a:rPr>
              <a:t>Мама ещё не  приготовила  уж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7315200" cy="597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S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st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clearned her ro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He ha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 </a:t>
            </a: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learned his poe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Mother hasn’t cooked a supper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et.</a:t>
            </a:r>
            <a:br>
              <a:rPr sz="3600"/>
            </a:b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31520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600"/>
                </a:solidFill>
                <a:latin typeface="Arial"/>
              </a:rPr>
              <a:t>       </a:t>
            </a: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Information resourses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school.edu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7b.edusite.ru</a:t>
            </a:r>
            <a:br>
              <a:rPr sz="4300"/>
            </a:br>
            <a:r>
              <a:rPr b="0" lang="en-US" sz="4300" spc="-1" strike="noStrike">
                <a:solidFill>
                  <a:srgbClr val="ff8600"/>
                </a:solidFill>
                <a:latin typeface="Arial"/>
              </a:rPr>
              <a:t>www.obrazpro.ru</a:t>
            </a:r>
            <a:endParaRPr b="0" lang="en-US" sz="43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86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означает действие, которое завершилось к настоящему моменту или завершено в период настоящего времени. Хотя английские глаголы 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обычно переводятся на русский язык в прошедшем времени, следует помнить, что в английском языке эти действия воспринимаются в настоящем времени, так как привязаны к настоящему результатом этого действ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475920"/>
            <a:ext cx="7315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resent Perfec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образуется при помощи вспомогательного глаг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 причастия прошедшего времени значимого глагола, то есть его «третьей форм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To hav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настоящем времени имеет две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3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 (He has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av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1 и 2 лицо ед.ч. и все формы мн. ч. (I have play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ование Present Per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верд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14400" y="980640"/>
            <a:ext cx="731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и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I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we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you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he / she / it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ave they play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836640"/>
            <a:ext cx="7315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ицательные предлож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I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We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You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/ she / it has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y have not 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315200" cy="1871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         </a:t>
            </a: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Наречия времени</a:t>
            </a:r>
            <a:endParaRPr b="0" lang="en-US" sz="54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4356000" y="3789360"/>
            <a:ext cx="3743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just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только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900000" y="2997360"/>
            <a:ext cx="5256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yet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- ещё н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-)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, уже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(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47640" y="5157720"/>
            <a:ext cx="4608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ver –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когда-нибу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19640" y="2349360"/>
            <a:ext cx="187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1258920" y="2924280"/>
            <a:ext cx="237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2627280" y="3716280"/>
            <a:ext cx="201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7315200" cy="2149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         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Adverbs of time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solidFill>
            <a:srgbClr val="ffe7cc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ver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иког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ready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ince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 какого-то момента(времени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236556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Употребление наречий: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ver, never</a:t>
            </a:r>
            <a:r>
              <a:rPr b="0" lang="en-US" sz="4800" spc="-1" strike="noStrike">
                <a:solidFill>
                  <a:srgbClr val="ff86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в предложениях.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2743200"/>
            <a:ext cx="3565440" cy="359424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N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отрица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1080" y="2743200"/>
            <a:ext cx="3567240" cy="3595680"/>
          </a:xfrm>
          <a:prstGeom prst="rect">
            <a:avLst/>
          </a:prstGeom>
          <a:solidFill>
            <a:srgbClr val="fcdfc9"/>
          </a:soli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34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Ever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отребляется в утвердительных предложен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24:51Z</dcterms:created>
  <dc:creator>Администратор</dc:creator>
  <dc:description/>
  <dc:language>en-US</dc:language>
  <cp:lastModifiedBy>Критюк</cp:lastModifiedBy>
  <dcterms:modified xsi:type="dcterms:W3CDTF">2012-11-19T17:37:33Z</dcterms:modified>
  <cp:revision>70</cp:revision>
  <dc:subject/>
  <dc:title>Слайд 1</dc:title>
</cp:coreProperties>
</file>