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3695-82C6-4E00-B3B8-94A0269E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09CD-5966-4882-A814-9BEA8C9A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DE65-7F0B-4150-B71E-17C23527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22F5-C981-436D-8D8B-496E4E5C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BC02-58FB-4109-B7A3-56081256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B810-8C67-4233-B417-63BFFAE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8248D-F03D-43AF-9E15-DA82E176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B093-CF02-42C1-9CA3-128E6048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2E38-B421-465A-81C5-B9A3EA99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57C4-FE66-4B9D-A9BA-F3CE51C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7158-3B9C-43DE-9C82-0C27A72E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207D-DF6D-4E84-8336-F84B5889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8F67-D286-42B3-924E-200423A2E1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341360"/>
            <a:ext cx="73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11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1336680"/>
          </a:xfrm>
          <a:prstGeom prst="rect">
            <a:avLst/>
          </a:prstGeom>
          <a:solidFill>
            <a:srgbClr val="f9be92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пределение места наречия времени в предложени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927080"/>
            <a:ext cx="73152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n’t  done your  homework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homework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7164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435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11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684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3851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72872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600"/>
                </a:solidFill>
                <a:latin typeface="Arial"/>
              </a:rPr>
              <a:t>Переведи следующие предложения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а только что убрала свою комна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 уже выучил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ама ещё не  приготовила  уж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S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clearned her ro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learned his po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Mother hasn’t cooked a supper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       </a:t>
            </a: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Information resours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school.edu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7b.edusite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obrazpro.ru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означает действие, которое завершилось к настоящему моменту или завершено в период настоящего времени. Хотя английские глаголы 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ычно переводятся на русский язык в прошедшем времени, следует помнить, что в английском языке эти действия воспринимаются в настоящем времени, так как привязаны к настоящему результатом этого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5920"/>
            <a:ext cx="7315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бразуется при помощи вспомогательного глаг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 причастия прошедшего времени значимого глагола, то есть его «третьей форм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меет дв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3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 (He has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av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1 и 2 лицо ед.ч. и все формы мн. ч. (I have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ние Present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верд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I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we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he / she / it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they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ица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1871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Наречия времени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356000" y="3789360"/>
            <a:ext cx="374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just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только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0000" y="2997360"/>
            <a:ext cx="525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et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- ещё н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-)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, уж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47640" y="5157720"/>
            <a:ext cx="460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ver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огда-нибу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19640" y="2349360"/>
            <a:ext cx="187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258920" y="2924280"/>
            <a:ext cx="23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627280" y="371628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214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Adverbs of time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ver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nce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какого-то момента(времен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236556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Употребление наречий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ver, never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в предложениях.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743200"/>
            <a:ext cx="3565440" cy="359424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отрица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1080" y="2743200"/>
            <a:ext cx="3567240" cy="359568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утверди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24:51Z</dcterms:created>
  <dc:creator>Администратор</dc:creator>
  <dc:description/>
  <dc:language>en-US</dc:language>
  <cp:lastModifiedBy>Критюк</cp:lastModifiedBy>
  <dcterms:modified xsi:type="dcterms:W3CDTF">2012-11-19T17:37:33Z</dcterms:modified>
  <cp:revision>70</cp:revision>
  <dc:subject/>
  <dc:title>Слайд 1</dc:title>
</cp:coreProperties>
</file>