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784C7-F0BD-4FA6-86CC-1B5F6D510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CB90A-D34C-412F-BC8C-70E5F851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E760B-30F0-4098-BCA5-20D251C49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8EE61-C154-4E0B-B26E-C3083C5A1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B6591-0BB5-4641-8912-5644C3B1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D2DEC-850B-49FF-BA26-55591EED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D175F-62AB-48FB-A056-0ED3B15B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0E3BB-5CAC-4271-984B-738DFAB8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9754A-CE0E-4522-BE8B-F7353D6B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05D80-8867-4D1F-A4E3-60883BB7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522B3-EA9B-45E7-A14D-8326279E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CB3D4-0834-4446-B7E0-79D0C4DE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D6EE-6852-43A6-8A0B-2CEC0082B28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73152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 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1341360"/>
            <a:ext cx="73152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sent Perfect Ten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11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7315200" cy="1336680"/>
          </a:xfrm>
          <a:prstGeom prst="rect">
            <a:avLst/>
          </a:prstGeom>
          <a:solidFill>
            <a:srgbClr val="f9be92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Определение места наречия времени в предложении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14400" y="1927080"/>
            <a:ext cx="73152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7496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have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lready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ne  your  homewo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9240" indent="-17496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have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ust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ne  your  homewo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9240" indent="-17496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haven’t  done your  homework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ye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9240" indent="-17496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ve you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lready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ne  your homework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971640" y="155736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5435640" y="1557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13"/>
          <p:cNvSpPr/>
          <p:nvPr/>
        </p:nvSpPr>
        <p:spPr>
          <a:xfrm>
            <a:off x="611280" y="24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21"/>
          <p:cNvSpPr/>
          <p:nvPr/>
        </p:nvSpPr>
        <p:spPr>
          <a:xfrm>
            <a:off x="684360" y="3284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32"/>
          <p:cNvSpPr/>
          <p:nvPr/>
        </p:nvSpPr>
        <p:spPr>
          <a:xfrm>
            <a:off x="3851280" y="4292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7315200" cy="1728720"/>
          </a:xfrm>
          <a:prstGeom prst="rect">
            <a:avLst/>
          </a:prstGeom>
          <a:solidFill>
            <a:srgbClr val="fcdfc9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8600"/>
                </a:solidFill>
                <a:latin typeface="Arial"/>
              </a:rPr>
              <a:t>Переведи следующие предложения</a:t>
            </a:r>
            <a:endParaRPr b="0" lang="en-US" sz="5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14400" y="1915920"/>
            <a:ext cx="73152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8600"/>
                </a:solidFill>
                <a:latin typeface="Arial"/>
              </a:rPr>
              <a:t>Она только что убрала свою комнат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8600"/>
                </a:solidFill>
                <a:latin typeface="Arial"/>
              </a:rPr>
              <a:t>Он уже выучил стихотвор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8600"/>
                </a:solidFill>
                <a:latin typeface="Arial"/>
              </a:rPr>
              <a:t>Мама ещё не  приготовила  ужи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7315200" cy="597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She has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ust </a:t>
            </a: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clearned her room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He has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lready </a:t>
            </a: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learned his poem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Mother hasn’t cooked a supper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yet.</a:t>
            </a:r>
            <a:br>
              <a:rPr sz="3600"/>
            </a:b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7315200" cy="36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       </a:t>
            </a:r>
            <a:r>
              <a:rPr b="0" lang="en-US" sz="4300" spc="-1" strike="noStrike">
                <a:solidFill>
                  <a:srgbClr val="ff8600"/>
                </a:solidFill>
                <a:latin typeface="Arial"/>
              </a:rPr>
              <a:t>Information resourses</a:t>
            </a:r>
            <a:br>
              <a:rPr sz="4300"/>
            </a:br>
            <a:br>
              <a:rPr sz="4300"/>
            </a:br>
            <a:r>
              <a:rPr b="0" lang="en-US" sz="4300" spc="-1" strike="noStrike">
                <a:solidFill>
                  <a:srgbClr val="ff8600"/>
                </a:solidFill>
                <a:latin typeface="Arial"/>
              </a:rPr>
              <a:t>www.school.edu.ru</a:t>
            </a:r>
            <a:br>
              <a:rPr sz="4300"/>
            </a:br>
            <a:r>
              <a:rPr b="0" lang="en-US" sz="4300" spc="-1" strike="noStrike">
                <a:solidFill>
                  <a:srgbClr val="ff8600"/>
                </a:solidFill>
                <a:latin typeface="Arial"/>
              </a:rPr>
              <a:t>www.7b.edusite.ru</a:t>
            </a:r>
            <a:br>
              <a:rPr sz="4300"/>
            </a:br>
            <a:r>
              <a:rPr b="0" lang="en-US" sz="4300" spc="-1" strike="noStrike">
                <a:solidFill>
                  <a:srgbClr val="ff8600"/>
                </a:solidFill>
                <a:latin typeface="Arial"/>
              </a:rPr>
              <a:t>www.obrazpro.ru</a:t>
            </a:r>
            <a:endParaRPr b="0" lang="en-US" sz="4300" spc="-1" strike="noStrike">
              <a:solidFill>
                <a:srgbClr val="ff86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8600"/>
                </a:solidFill>
                <a:latin typeface="Arial"/>
              </a:rPr>
              <a:t>         </a:t>
            </a:r>
            <a:r>
              <a:rPr b="0" lang="en-US" sz="6000" spc="-1" strike="noStrike">
                <a:solidFill>
                  <a:srgbClr val="ff8600"/>
                </a:solidFill>
                <a:latin typeface="Arial"/>
              </a:rPr>
              <a:t>THE END</a:t>
            </a:r>
            <a:endParaRPr b="0" lang="en-US" sz="6000" spc="-1" strike="noStrike">
              <a:solidFill>
                <a:srgbClr val="ff86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14400" y="980640"/>
            <a:ext cx="73152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емя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Present Perfect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обозначает действие, которое завершилось к настоящему моменту или завершено в период настоящего времени. Хотя английские глаголы в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Present Perfect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обычно переводятся на русский язык в прошедшем времени, следует помнить, что в английском языке эти действия воспринимаются в настоящем времени, так как привязаны к настоящему результатом этого действ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400" y="475920"/>
            <a:ext cx="73152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ремя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Present Perfec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образуется при помощи вспомогательного глагол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to hav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в настоящем времени и причастия прошедшего времени значимого глагола, то есть его «третьей формы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To hav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в настоящем времени имеет две форм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s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3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ц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 (He has play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have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1 и 2 лицо ед.ч. и все формы мн. ч. (I have play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14400" y="836640"/>
            <a:ext cx="73152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разование Present Perf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твердительные предложе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I have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We have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You have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You have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/ she / it has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y have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14400" y="980640"/>
            <a:ext cx="73152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просительные предложе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ave I play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ave we play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ave you play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ave you play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s he / she / it play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ave they play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14400" y="836640"/>
            <a:ext cx="73152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рицательные предложе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I have not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We have not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You have not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You have not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/ she / it has not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y have not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7315200" cy="18716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Arial"/>
              </a:rPr>
              <a:t>         </a:t>
            </a:r>
            <a:r>
              <a:rPr b="0" lang="ru-RU" sz="5400" spc="-1" strike="noStrike">
                <a:solidFill>
                  <a:srgbClr val="ffc000"/>
                </a:solidFill>
                <a:latin typeface="Arial"/>
              </a:rPr>
              <a:t>Наречия времени</a:t>
            </a:r>
            <a:endParaRPr b="0" lang="en-US" sz="5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solidFill>
            <a:srgbClr val="ffe7cc"/>
          </a:solidFill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4356000" y="3789360"/>
            <a:ext cx="37432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just – 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только чт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900000" y="2997360"/>
            <a:ext cx="525636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yet 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- ещё не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 (-)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, уже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 (?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1547640" y="5157720"/>
            <a:ext cx="46087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ever – 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когда-нибуд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3419640" y="2349360"/>
            <a:ext cx="1873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Box 13"/>
          <p:cNvSpPr/>
          <p:nvPr/>
        </p:nvSpPr>
        <p:spPr>
          <a:xfrm>
            <a:off x="1258920" y="2924280"/>
            <a:ext cx="23763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Box 14"/>
          <p:cNvSpPr/>
          <p:nvPr/>
        </p:nvSpPr>
        <p:spPr>
          <a:xfrm>
            <a:off x="2627280" y="3716280"/>
            <a:ext cx="201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7315200" cy="21495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000"/>
                </a:solidFill>
                <a:latin typeface="Arial"/>
              </a:rPr>
              <a:t>          </a:t>
            </a:r>
            <a:r>
              <a:rPr b="0" lang="en-US" sz="6000" spc="-1" strike="noStrike">
                <a:solidFill>
                  <a:srgbClr val="ffc000"/>
                </a:solidFill>
                <a:latin typeface="Arial"/>
              </a:rPr>
              <a:t>Adverbs of time</a:t>
            </a:r>
            <a:endParaRPr b="0" lang="en-US" sz="6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solidFill>
            <a:srgbClr val="ffe7cc"/>
          </a:solidFill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ever –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иког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lready-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уж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ince-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 какого-то момента(времени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315200" cy="2365560"/>
          </a:xfrm>
          <a:prstGeom prst="rect">
            <a:avLst/>
          </a:prstGeom>
          <a:solidFill>
            <a:srgbClr val="fcdfc9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Употребление наречий: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ever, never</a:t>
            </a:r>
            <a:r>
              <a:rPr b="0" lang="en-US" sz="4800" spc="-1" strike="noStrike">
                <a:solidFill>
                  <a:srgbClr val="ff86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в предложениях.</a:t>
            </a:r>
            <a:endParaRPr b="0" lang="en-US" sz="48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14400" y="2743200"/>
            <a:ext cx="3565440" cy="3594240"/>
          </a:xfrm>
          <a:prstGeom prst="rect">
            <a:avLst/>
          </a:prstGeom>
          <a:solidFill>
            <a:srgbClr val="fcdfc9"/>
          </a:solidFill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1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Never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потребляется в отрицательных предложения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1080" y="2743200"/>
            <a:ext cx="3567240" cy="3595680"/>
          </a:xfrm>
          <a:prstGeom prst="rect">
            <a:avLst/>
          </a:prstGeom>
          <a:solidFill>
            <a:srgbClr val="fcdfc9"/>
          </a:solidFill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1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Ever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потребляется в утвердительных предложения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2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19:24:51Z</dcterms:created>
  <dc:creator>Администратор</dc:creator>
  <dc:description/>
  <dc:language>en-US</dc:language>
  <cp:lastModifiedBy>Критюк</cp:lastModifiedBy>
  <dcterms:modified xsi:type="dcterms:W3CDTF">2012-11-19T17:37:33Z</dcterms:modified>
  <cp:revision>70</cp:revision>
  <dc:subject/>
  <dc:title>Слайд 1</dc:title>
</cp:coreProperties>
</file>