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20A-AA43-41CA-AB78-989553D0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218-AF69-4E17-9FDE-CDBEA2D2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25A-BCD2-4218-8215-F35E4A89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B2C-0FD0-4895-90C8-704A9528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5C1-9279-46CF-93CA-DA2DF8BC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C76-93C4-4247-847E-88778FA0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B22-7B4C-404D-B1A6-DAD43815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3A3-89EC-4CB8-9053-1F24995D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B22-CA68-475E-9075-391C77D4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37C-9700-4506-8DFB-633B8650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CA5-40EF-4978-99F7-BCDAF4BE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582-CD56-4FEA-B317-77CBBF90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AB56-58E6-46A7-BB3D-AC4A89AD0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18960" y="2252520"/>
            <a:ext cx="8506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ЗО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18960" y="4695840"/>
            <a:ext cx="850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ФР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0" y="154080"/>
            <a:ext cx="914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ПРИРО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 Black"/>
              </a:rPr>
              <a:t>Природная зона - крупный природный комплекс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разование прир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 обусловлено клима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иротная зональность-изменение природных зон на равнин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иродные зоны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2085840"/>
                <a:gridCol w="2005200"/>
                <a:gridCol w="1363680"/>
                <a:gridCol w="1203120"/>
                <a:gridCol w="248616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з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ич. поя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го и живот, ми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краткий вывод, что представляет собой природная з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на одну из предложенных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о влажном экваториальном л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саван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тропической пусты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1-20T09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