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A02-41A1-4DA5-9598-69FCA8C8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AFE6-A525-45B5-8310-ED8AB39C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278-D525-4BC6-8387-1FA1F237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8EA-78A9-4A25-8392-6EAB6469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39C-24CD-4274-9B60-29A1D28F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D17-F163-44C4-AAF5-0E25A661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FE0-DA08-4AF6-8255-6540DBEA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81C-ECCD-4C1A-BCA5-F9826EAC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535-BE99-41DA-B4AA-DA6D8959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21A-05ED-43DE-B179-0B06A81B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343C-83F5-4B81-9775-0C1F5E56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746-24DE-4758-A687-721DE32D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911A-ADDF-49D1-849A-17E7E5BF3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318960" y="2252520"/>
            <a:ext cx="850608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ЗОН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318960" y="4695840"/>
            <a:ext cx="8506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Impact"/>
              </a:rPr>
              <a:t>АФРИ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0" y="154080"/>
            <a:ext cx="914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Impact"/>
              </a:rPr>
              <a:t>ПРИРОД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66"/>
                </a:solidFill>
                <a:latin typeface="Arial Black"/>
              </a:rPr>
              <a:t>Природная зона - крупный природный комплекс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8284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разование природ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 обусловлено климато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иротная зональность-изменение природных зон на равнин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Природные зоны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600200"/>
          <a:ext cx="9144000" cy="4525920"/>
        </p:xfrm>
        <a:graphic>
          <a:graphicData uri="http://schemas.openxmlformats.org/drawingml/2006/table">
            <a:tbl>
              <a:tblPr/>
              <a:tblGrid>
                <a:gridCol w="2085840"/>
                <a:gridCol w="2005200"/>
                <a:gridCol w="1363680"/>
                <a:gridCol w="1203120"/>
                <a:gridCol w="248616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ая з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ич. поя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ич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ительного и живот, мир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сать краткий вывод, что представляет собой природная з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ть мини-сочинение на одну из предложенных т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о влажном экваториальном л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саван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дин день в тропической пусты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1-20T09:56:3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