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A0BB-5890-4B1A-A6F1-D0B923F21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C874-7178-43B6-95C3-1101CC58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69D4-E723-4609-84FC-FD58D11B4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AFBD-5981-4F9A-B7D0-BD6C8A7D2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AE5D-F339-480C-B53D-B8D7540EE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31FB-5F22-461A-B83F-1815BC5F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1D81-1631-4A45-AC1B-EF3CF203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965A-3E6D-4C87-A513-2DD954E2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C350-E416-4F3B-959C-7DC0EDF4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D22B-3AB2-4D31-9D87-6DF9C5BD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2B8F-D1E2-43D6-B724-AE094306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B05E-BF05-4C46-BCCB-F5115C60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8306-595E-42EC-ACBD-1DC2628CD9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318960" y="2252520"/>
            <a:ext cx="8506080" cy="217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ЗОН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318960" y="4695840"/>
            <a:ext cx="85060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АФРИ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0" y="154080"/>
            <a:ext cx="914400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Impact"/>
              </a:rPr>
              <a:t>ПРИРОДН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66"/>
                </a:solidFill>
                <a:latin typeface="Arial Black"/>
              </a:rPr>
              <a:t>Природная зона - крупный природный комплекс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1828440"/>
            <a:ext cx="91440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Образование природ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зон обусловлено климатом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Широтная зональность-изменение природных зон на равнина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Природные зоны Афр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0" y="1600200"/>
          <a:ext cx="9144000" cy="4525920"/>
        </p:xfrm>
        <a:graphic>
          <a:graphicData uri="http://schemas.openxmlformats.org/drawingml/2006/table">
            <a:tbl>
              <a:tblPr/>
              <a:tblGrid>
                <a:gridCol w="2085840"/>
                <a:gridCol w="2005200"/>
                <a:gridCol w="1363680"/>
                <a:gridCol w="1203120"/>
                <a:gridCol w="2486160"/>
              </a:tblGrid>
              <a:tr h="22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родная зон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иматич. поя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жени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им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ич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ительного и живот, мир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исать краткий вывод, что представляет собой природная з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писать мини-сочинение на одну из предложенных т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Один день во влажном экваториальном лес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Один день в саван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Один день в тропической пусты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каров</dc:creator>
  <dc:description/>
  <dc:language>en-US</dc:language>
  <cp:lastModifiedBy>Макаров</cp:lastModifiedBy>
  <dcterms:modified xsi:type="dcterms:W3CDTF">2012-11-20T09:56:3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