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68D-C3FA-44A8-8748-C2759A05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98B-09A1-4E25-8545-63EAB37B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40A-CBCF-43EB-8886-77635427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3FB-AF21-477D-9037-26847824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DAF-51F6-4F20-A508-DE534E1B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F73-D73B-4D7F-A2BF-7FAD4EFB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080-B871-4257-BFC9-C2D22FEF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88D-7890-463E-8CBA-16B5BBF0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FE8-738F-43D7-BE18-A6C96DF6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26C-D94C-4B20-B7B8-B466FFC0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866-370C-48BC-A7AE-95CD7281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4AC-17F5-4F74-95B7-FFDC0440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9FC8-B528-4E13-A51D-379ECB4E3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18960" y="2252520"/>
            <a:ext cx="85060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ЗО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18960" y="4695840"/>
            <a:ext cx="8506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АФР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0" y="154080"/>
            <a:ext cx="9144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ПРИРО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66"/>
                </a:solidFill>
                <a:latin typeface="Arial Black"/>
              </a:rPr>
              <a:t>Природная зона - крупный природный комплекс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8284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бразование прир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 обусловлено клима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иротная зональность-изменение природных зон на равнин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риродные зоны Аф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600200"/>
          <a:ext cx="9144000" cy="4525920"/>
        </p:xfrm>
        <a:graphic>
          <a:graphicData uri="http://schemas.openxmlformats.org/drawingml/2006/table">
            <a:tbl>
              <a:tblPr/>
              <a:tblGrid>
                <a:gridCol w="2085840"/>
                <a:gridCol w="2005200"/>
                <a:gridCol w="1363680"/>
                <a:gridCol w="1203120"/>
                <a:gridCol w="248616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ая з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ич. поя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ительного и живот, мир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краткий вывод, что представляет собой природная з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ть мини-сочинение на одну из предложенных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о влажном экваториальном лес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саван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тропической пусты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1-20T09:56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