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4.jpeg" ContentType="image/jpeg"/>
  <Override PartName="/ppt/media/image30.png" ContentType="image/png"/>
  <Override PartName="/ppt/media/image28.png" ContentType="image/png"/>
  <Override PartName="/ppt/media/image4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png" ContentType="image/png"/>
  <Override PartName="/ppt/media/image11.png" ContentType="image/png"/>
  <Override PartName="/ppt/media/image48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chimes.wav" ContentType="audio/x-wav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AB1-A773-43F7-88DF-3EC605DC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4EB-BEE4-47FF-BB0C-EEB24E9C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EFF-049A-4B13-BDE3-3FD984F5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D8C-D4C0-4742-8F6E-14B936A4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0258-D3CC-49C8-9FB2-19D6FEBD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713F-BF73-418F-81C1-AF6B6C12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E88C-9906-40C1-AEEF-370D0388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B960-6BF1-4D89-B467-40FA0462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03F5-1E2F-46F7-B58B-A113DDD7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B01E-ED51-4855-A627-4E35B00C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7B9B-C71F-499F-A75D-411E478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3A0-064B-418D-955B-9507E0DF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7AE1-CA85-45A8-ABF4-1271996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24BD-EF42-4EAA-90BE-E2231ABB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B215-E52B-4EC0-A1B8-5CB102B4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5A29-01AB-4801-8373-88C67245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38D1-AFE9-4832-AFE5-79F551AE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8DC95-4555-4A98-ADEC-184A7AE8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42D6D-1E6A-44DE-BFE0-D54904ED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CD3E-CDC3-4ED9-897C-88160BF9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04393-4DEE-424B-9940-A1EA36E3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90EB-A94D-47AD-B1D9-430E1468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D96-EB38-4E9D-BE4A-C74CF474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54CE1-ED83-4C06-B84F-59F661D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4891B-1B60-4D16-BB37-20CEA90F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75D9-7D20-4759-8DD0-15E83687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D2254-9299-4D5E-B23B-0FEEA8E0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9F3F-F8C8-43AE-8FBE-653A5A04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5862-3A41-4F2E-9677-FE63C2AB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D0DE-3BE5-48DB-8E28-9D9137AA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55DD-3169-4E87-8FF9-0EC1FA87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9425-8453-4205-B94C-FC3A6556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6B46A-EE66-403A-BB06-343BE041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198-16AA-497B-BE43-78049824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A6EDA-265B-44B3-B1D4-D62E224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F335A-7279-4900-A4C2-FB5F63F7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F5661-A956-4081-8795-5242937B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301A-83B9-4E9C-975A-5375E221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AE631-15BC-4C0B-98FF-2D300B1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7ECD-3820-44AF-96F4-228A3171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AAE0-9E72-431D-9FE0-F74215DA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A8962-1394-40ED-8D7F-AD5267F3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F613-A15F-4622-99AE-CCC41C95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FA2-75C4-478B-B31A-F4598110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85E-7A0C-4856-B717-D1CCBBB7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24E-0F8E-4DEA-A6E9-B99BA9B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605-4CA6-4C5F-96D3-6A21A8F1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503-38EE-4F40-BC49-4F35BAB4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25.xml"/><Relationship Id="rId25" Type="http://schemas.openxmlformats.org/officeDocument/2006/relationships/slideLayout" Target="../slideLayouts/slideLayout26.xml"/><Relationship Id="rId26" Type="http://schemas.openxmlformats.org/officeDocument/2006/relationships/slideLayout" Target="../slideLayouts/slideLayout27.xml"/><Relationship Id="rId27" Type="http://schemas.openxmlformats.org/officeDocument/2006/relationships/slideLayout" Target="../slideLayouts/slideLayout28.xml"/><Relationship Id="rId28" Type="http://schemas.openxmlformats.org/officeDocument/2006/relationships/slideLayout" Target="../slideLayouts/slideLayout29.xml"/><Relationship Id="rId29" Type="http://schemas.openxmlformats.org/officeDocument/2006/relationships/slideLayout" Target="../slideLayouts/slideLayout30.xml"/><Relationship Id="rId30" Type="http://schemas.openxmlformats.org/officeDocument/2006/relationships/slideLayout" Target="../slideLayouts/slideLayout31.xml"/><Relationship Id="rId31" Type="http://schemas.openxmlformats.org/officeDocument/2006/relationships/slideLayout" Target="../slideLayouts/slideLayout32.xml"/><Relationship Id="rId32" Type="http://schemas.openxmlformats.org/officeDocument/2006/relationships/slideLayout" Target="../slideLayouts/slideLayout33.xml"/><Relationship Id="rId33" Type="http://schemas.openxmlformats.org/officeDocument/2006/relationships/slideLayout" Target="../slideLayouts/slideLayout34.xml"/><Relationship Id="rId34" Type="http://schemas.openxmlformats.org/officeDocument/2006/relationships/slideLayout" Target="../slideLayouts/slideLayout35.xml"/><Relationship Id="rId3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37.xml"/><Relationship Id="rId25" Type="http://schemas.openxmlformats.org/officeDocument/2006/relationships/slideLayout" Target="../slideLayouts/slideLayout38.xml"/><Relationship Id="rId26" Type="http://schemas.openxmlformats.org/officeDocument/2006/relationships/slideLayout" Target="../slideLayouts/slideLayout39.xml"/><Relationship Id="rId27" Type="http://schemas.openxmlformats.org/officeDocument/2006/relationships/slideLayout" Target="../slideLayouts/slideLayout40.xml"/><Relationship Id="rId28" Type="http://schemas.openxmlformats.org/officeDocument/2006/relationships/slideLayout" Target="../slideLayouts/slideLayout41.xml"/><Relationship Id="rId29" Type="http://schemas.openxmlformats.org/officeDocument/2006/relationships/slideLayout" Target="../slideLayouts/slideLayout42.xml"/><Relationship Id="rId30" Type="http://schemas.openxmlformats.org/officeDocument/2006/relationships/slideLayout" Target="../slideLayouts/slideLayout43.xml"/><Relationship Id="rId31" Type="http://schemas.openxmlformats.org/officeDocument/2006/relationships/slideLayout" Target="../slideLayouts/slideLayout44.xml"/><Relationship Id="rId32" Type="http://schemas.openxmlformats.org/officeDocument/2006/relationships/slideLayout" Target="../slideLayouts/slideLayout45.xml"/><Relationship Id="rId33" Type="http://schemas.openxmlformats.org/officeDocument/2006/relationships/slideLayout" Target="../slideLayouts/slideLayout46.xml"/><Relationship Id="rId34" Type="http://schemas.openxmlformats.org/officeDocument/2006/relationships/slideLayout" Target="../slideLayouts/slideLayout47.xml"/><Relationship Id="rId3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BEC7-9119-4E0F-B806-E50B1F8FC059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FE71-EBCD-4158-9ECA-AE9218BC9FCF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00AB-C8BE-48AC-95CA-7E150651EAB3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4"/>
    <p:sldLayoutId id="2147483676" r:id="rId25"/>
    <p:sldLayoutId id="2147483677" r:id="rId26"/>
    <p:sldLayoutId id="2147483678" r:id="rId27"/>
    <p:sldLayoutId id="2147483679" r:id="rId28"/>
    <p:sldLayoutId id="2147483680" r:id="rId29"/>
    <p:sldLayoutId id="2147483681" r:id="rId30"/>
    <p:sldLayoutId id="2147483682" r:id="rId31"/>
    <p:sldLayoutId id="2147483683" r:id="rId32"/>
    <p:sldLayoutId id="2147483684" r:id="rId33"/>
    <p:sldLayoutId id="2147483685" r:id="rId34"/>
    <p:sldLayoutId id="2147483686" r:id="rId3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BCAC-4525-4E4E-9407-FC0CE66065C7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4"/>
    <p:sldLayoutId id="2147483689" r:id="rId25"/>
    <p:sldLayoutId id="2147483690" r:id="rId26"/>
    <p:sldLayoutId id="2147483691" r:id="rId27"/>
    <p:sldLayoutId id="2147483692" r:id="rId28"/>
    <p:sldLayoutId id="2147483693" r:id="rId29"/>
    <p:sldLayoutId id="2147483694" r:id="rId30"/>
    <p:sldLayoutId id="2147483695" r:id="rId31"/>
    <p:sldLayoutId id="2147483696" r:id="rId32"/>
    <p:sldLayoutId id="2147483697" r:id="rId33"/>
    <p:sldLayoutId id="2147483698" r:id="rId34"/>
    <p:sldLayoutId id="2147483699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hyperlink" Target="file:///&#1091;&#1087;&#1088;&#1091;&#1075;&#1072;&#1103;%20&#1080;%20&#1085;&#1077;&#1091;&#1087;&#1088;&#1091;&#1075;&#1072;&#1103;%20&#1076;&#1077;&#1092;&#1086;&#1088;&#1084;&#1072;&#1094;&#1080;&#1103;.sw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84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332000" y="0"/>
            <a:ext cx="700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. Явление тягот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547640" y="1268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Урок физики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1"/>
          <a:srcRect l="3997" t="1752" r="0" b="1596"/>
          <a:stretch/>
        </p:blipFill>
        <p:spPr>
          <a:xfrm>
            <a:off x="0" y="476280"/>
            <a:ext cx="1547640" cy="4032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Сила воздействия на тележку"/>
          <p:cNvPicPr/>
          <p:nvPr/>
        </p:nvPicPr>
        <p:blipFill>
          <a:blip r:embed="rId2"/>
          <a:stretch/>
        </p:blipFill>
        <p:spPr>
          <a:xfrm>
            <a:off x="6084720" y="4508640"/>
            <a:ext cx="3016440" cy="2412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Деформация тела при воздействии силы"/>
          <p:cNvPicPr/>
          <p:nvPr/>
        </p:nvPicPr>
        <p:blipFill>
          <a:blip r:embed="rId3"/>
          <a:stretch/>
        </p:blipFill>
        <p:spPr>
          <a:xfrm>
            <a:off x="3059280" y="4508640"/>
            <a:ext cx="3016080" cy="2412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Сложение сил_ лебедь-рак-щука1"/>
          <p:cNvPicPr/>
          <p:nvPr/>
        </p:nvPicPr>
        <p:blipFill>
          <a:blip r:embed="rId4"/>
          <a:stretch/>
        </p:blipFill>
        <p:spPr>
          <a:xfrm>
            <a:off x="0" y="4508640"/>
            <a:ext cx="3016080" cy="24127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7"/>
          <p:cNvSpPr/>
          <p:nvPr/>
        </p:nvSpPr>
        <p:spPr>
          <a:xfrm>
            <a:off x="3276720" y="2349360"/>
            <a:ext cx="58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делал, что мог, пусть другие сделают лучш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 знаю, чем я могу казаться ми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амому себе я кажусь мальчи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грающим у моря, которому удалось найти более красивый камешек, чем друг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кеан неизвестного лежит передо м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аак Ньютон (1643-172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0" y="0"/>
            <a:ext cx="914400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является мерой взаимодействия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, как и скорость, является векторной величиной. Она характеризуется не только числовым значением и точкой приложения, но и направл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обозначается буквой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со стрелочкой, а ее модуль той же букв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о без ст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есть великого английского ученого 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ьютона эта единица названа ньютоном (1Н). 1 кН=1000 Н, 1мН=0,00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4284720" y="2349360"/>
                <a:ext cx="3985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2195640" y="4570560"/>
            <a:ext cx="532908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Спасибо за внимание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42" name="Picture 3" descr="учитель"/>
          <p:cNvPicPr/>
          <p:nvPr/>
        </p:nvPicPr>
        <p:blipFill>
          <a:blip r:embed="rId2"/>
          <a:stretch/>
        </p:blipFill>
        <p:spPr>
          <a:xfrm>
            <a:off x="395280" y="2924280"/>
            <a:ext cx="3203640" cy="36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Сила воздействия на тележку"/>
          <p:cNvPicPr/>
          <p:nvPr/>
        </p:nvPicPr>
        <p:blipFill>
          <a:blip r:embed="rId1"/>
          <a:stretch/>
        </p:blipFill>
        <p:spPr>
          <a:xfrm>
            <a:off x="755640" y="0"/>
            <a:ext cx="2592360" cy="20732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0" y="1916280"/>
            <a:ext cx="40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вагонетки меняется под действием руки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6156360" y="0"/>
            <a:ext cx="2089080" cy="16714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5219640" y="1773360"/>
            <a:ext cx="39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и направление движения теннисного шарика меняется при взаимодействии с ракет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5724720" cy="1906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1835280" y="558972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ла, действующая на тело, может не только изменить скорость всего тела, но и отдельных его частей (в таких случаях говорят, что тела </a:t>
            </a:r>
            <a:r>
              <a:rPr b="0" lang="ru-RU" sz="1600" spc="-1" strike="noStrike" u="sng">
                <a:solidFill>
                  <a:srgbClr val="408080"/>
                </a:solidFill>
                <a:uFillTx/>
                <a:latin typeface="Times New Roman"/>
                <a:hlinkClick r:id="rId4"/>
              </a:rPr>
              <a:t>деформ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684360" y="270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– причина изменения скорости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8" descr="3"/>
          <p:cNvPicPr/>
          <p:nvPr/>
        </p:nvPicPr>
        <p:blipFill>
          <a:blip r:embed="rId1"/>
          <a:srcRect l="0" t="21939" r="0" b="1102"/>
          <a:stretch/>
        </p:blipFill>
        <p:spPr>
          <a:xfrm>
            <a:off x="2627280" y="2236680"/>
            <a:ext cx="6516720" cy="46213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9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Явление тяготения. Сила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7" descr=""/>
          <p:cNvPicPr/>
          <p:nvPr/>
        </p:nvPicPr>
        <p:blipFill>
          <a:blip r:embed="rId2"/>
          <a:srcRect l="34252" t="17035" r="13767" b="5882"/>
          <a:stretch/>
        </p:blipFill>
        <p:spPr>
          <a:xfrm>
            <a:off x="0" y="2133720"/>
            <a:ext cx="39736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9" descr="{1375512A-1D8C-4492-A2A0-8A9B9E55BB99}"/>
          <p:cNvPicPr/>
          <p:nvPr/>
        </p:nvPicPr>
        <p:blipFill>
          <a:blip r:embed="rId2"/>
          <a:stretch/>
        </p:blipFill>
        <p:spPr>
          <a:xfrm>
            <a:off x="2843280" y="0"/>
            <a:ext cx="3057480" cy="4591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1"/>
          <p:cNvSpPr/>
          <p:nvPr/>
        </p:nvSpPr>
        <p:spPr>
          <a:xfrm>
            <a:off x="1258920" y="6093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1476360" y="4581360"/>
            <a:ext cx="54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Исаак Ньютон (1643 – 172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0" y="50911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саак Ньютон сформулировал основные законы классической механики. Открыл закон всемирного тяготения, дал теорию движения небесных тел, создав основы небесной механики. Работы Ньютона намного опередили общий научный уровень его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04SC002"/>
          <p:cNvPicPr/>
          <p:nvPr/>
        </p:nvPicPr>
        <p:blipFill>
          <a:blip r:embed="rId1"/>
          <a:stretch/>
        </p:blipFill>
        <p:spPr>
          <a:xfrm>
            <a:off x="61920" y="603360"/>
            <a:ext cx="4846680" cy="33843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755640" y="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Примеры взаимного притяжения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0" descr="qqq"/>
          <p:cNvPicPr/>
          <p:nvPr/>
        </p:nvPicPr>
        <p:blipFill>
          <a:blip r:embed="rId2"/>
          <a:stretch/>
        </p:blipFill>
        <p:spPr>
          <a:xfrm>
            <a:off x="4500720" y="3484440"/>
            <a:ext cx="4646520" cy="33735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1"/>
          <p:cNvSpPr/>
          <p:nvPr/>
        </p:nvSpPr>
        <p:spPr>
          <a:xfrm>
            <a:off x="61920" y="3330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5335560" y="39211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Метеорны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http://www.proza.ru/pics/2012/07/15/815.jpg"/>
          <p:cNvPicPr/>
          <p:nvPr/>
        </p:nvPicPr>
        <p:blipFill>
          <a:blip r:embed="rId3"/>
          <a:stretch/>
        </p:blipFill>
        <p:spPr>
          <a:xfrm>
            <a:off x="4500720" y="579600"/>
            <a:ext cx="4646520" cy="2943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1"/>
          <p:cNvSpPr/>
          <p:nvPr/>
        </p:nvSpPr>
        <p:spPr>
          <a:xfrm>
            <a:off x="6661080" y="60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https://encrypted-tbn1.gstatic.com/images?q=tbn:ANd9GcTFDU50bNrCI9pM565ynWXCVanSsV6obTPD5LcHGrTqVsKMikaw"/>
          <p:cNvPicPr/>
          <p:nvPr/>
        </p:nvPicPr>
        <p:blipFill>
          <a:blip r:embed="rId4"/>
          <a:stretch/>
        </p:blipFill>
        <p:spPr>
          <a:xfrm>
            <a:off x="61920" y="4010040"/>
            <a:ext cx="4438800" cy="2954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1"/>
          <p:cNvSpPr/>
          <p:nvPr/>
        </p:nvSpPr>
        <p:spPr>
          <a:xfrm>
            <a:off x="82440" y="610092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Искусственный спутник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qq"/>
          <p:cNvPicPr/>
          <p:nvPr/>
        </p:nvPicPr>
        <p:blipFill>
          <a:blip r:embed="rId1"/>
          <a:stretch/>
        </p:blipFill>
        <p:spPr>
          <a:xfrm>
            <a:off x="0" y="0"/>
            <a:ext cx="4572000" cy="3684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{CB81405C-BD68-4A6F-AD8B-86C8970B6F67}"/>
          <p:cNvPicPr/>
          <p:nvPr/>
        </p:nvPicPr>
        <p:blipFill>
          <a:blip r:embed="rId2"/>
          <a:stretch/>
        </p:blipFill>
        <p:spPr>
          <a:xfrm>
            <a:off x="4500720" y="3932280"/>
            <a:ext cx="4643280" cy="29257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0" y="4076640"/>
            <a:ext cx="44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тяжение всех тел Вселенной друг к другу называется всемирным тягот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4572000" y="0"/>
            <a:ext cx="4572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, с которой Земля притягивает к себе тело, называется силой тяж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 тяжести направлена вертикально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6156360" y="1197000"/>
                <a:ext cx="1503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тяж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4"/>
          <p:cNvSpPr/>
          <p:nvPr/>
        </p:nvSpPr>
        <p:spPr>
          <a:xfrm>
            <a:off x="179280" y="53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1187280" y="982800"/>
            <a:ext cx="67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8:38:30Z</dcterms:created>
  <dc:creator>1</dc:creator>
  <dc:description/>
  <dc:language>en-US</dc:language>
  <cp:lastModifiedBy>Макаров</cp:lastModifiedBy>
  <dcterms:modified xsi:type="dcterms:W3CDTF">2012-11-20T07:13:41Z</dcterms:modified>
  <cp:revision>76</cp:revision>
  <dc:subject/>
  <dc:title>Слайд 1</dc:title>
</cp:coreProperties>
</file>