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0.png" ContentType="image/png"/>
  <Override PartName="/ppt/media/image41.jpeg" ContentType="image/jpeg"/>
  <Override PartName="/ppt/media/image45.jpeg" ContentType="image/jpeg"/>
  <Override PartName="/ppt/media/image9.png" ContentType="image/png"/>
  <Override PartName="/ppt/media/image44.jpeg" ContentType="image/jpeg"/>
  <Override PartName="/ppt/media/image30.png" ContentType="image/png"/>
  <Override PartName="/ppt/media/image28.png" ContentType="image/png"/>
  <Override PartName="/ppt/media/image43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46.png" ContentType="image/png"/>
  <Override PartName="/ppt/media/image11.png" ContentType="image/png"/>
  <Override PartName="/ppt/media/image48.gif" ContentType="image/gif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chimes.wav" ContentType="audio/x-wav"/>
  <Override PartName="/ppt/media/image29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6AAA-7104-49DE-A91D-A06D43D2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4907-5F19-4091-9C9D-B087844F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401C-722D-4CB2-8D22-7E7EC4BE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2B1D-D7A4-4575-A6F6-6B8E09E9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0EC4-F660-4BB0-BEE3-F1F92EDE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74B2-BD86-4207-B935-10DCFCEF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7D4B-2C24-4A87-AAFE-26D6DC50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F8DF-048F-49B6-942C-7DA3BF84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B630-CCEF-441F-BBFA-42B77560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A6E8-20E5-4EE5-AE99-6FDB0F68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6B07-3CE4-4A71-B211-AE48BD91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B75E-47C1-440F-BAE8-A6B178D1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A6ED-18FB-48BA-BB94-9FF35113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1AC0-536F-4091-9741-D2901084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BC6A-0955-4D4E-A988-D25E5839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BCB1-923A-4ABF-987F-72609460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5A9E-5E02-4956-8538-ECFAF947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C7F3B-CEAD-4BDA-B0BB-200C2F7D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9EC37-81EC-4B8C-9F6A-908D7BB1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24BC9-F463-433C-A8A9-D99CEA47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BAEA9-D5A9-4BD7-95FE-122A7849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31393-BAE0-423E-BCB7-B504E41E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7AA9-B9C6-4F57-95C0-C6661B7E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CB554-1BA8-4E96-8664-7AF1DD6F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CAAA7-8AB1-442F-877E-3CAA853F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0DD7B-0AD5-4442-9A0B-31CD57DA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BCD60-5AB7-4A61-B3E2-CB793877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D7D0C-62B5-410D-B0B5-556A6650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25C9B-EA5A-48C9-BE36-543D7E34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B0190-354E-43B4-B186-C58E3D90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A7269-A020-49B3-AB4D-3679F69A3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FF38D-BA92-4E98-9F15-CBD9BC6A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F10C4-23EA-485F-B454-7FA1B27F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C7A1-EBCF-4EC5-BF66-206824EA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B3E47-CD59-44D0-B186-8069E15B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8B8B5-F5F2-49D9-98DF-5051E822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03311-AC84-4123-A6A3-4B66131E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25A62-9CF5-4C0B-A150-69CC084B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CDFAE-6C33-4DB0-9C48-F03A67D0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699DF-6D4A-4E9C-BC2E-999D0FC9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A19E7-8015-4E71-9A47-0313D2CC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743E0-029C-462A-B4B7-7BF34A9F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1C830-15DE-4C86-A17B-CDC0FEB3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8F39-E290-41FC-9519-1D582BB4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DB49-5106-4A3D-8AC6-A4E9A371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C11D-F77E-4EB6-AE25-F2FFBE97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4814-7F57-4AAC-969D-FBB71594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1FAB-23D8-4F29-87E5-7DD2ECCA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25.xml"/><Relationship Id="rId25" Type="http://schemas.openxmlformats.org/officeDocument/2006/relationships/slideLayout" Target="../slideLayouts/slideLayout26.xml"/><Relationship Id="rId26" Type="http://schemas.openxmlformats.org/officeDocument/2006/relationships/slideLayout" Target="../slideLayouts/slideLayout27.xml"/><Relationship Id="rId27" Type="http://schemas.openxmlformats.org/officeDocument/2006/relationships/slideLayout" Target="../slideLayouts/slideLayout28.xml"/><Relationship Id="rId28" Type="http://schemas.openxmlformats.org/officeDocument/2006/relationships/slideLayout" Target="../slideLayouts/slideLayout29.xml"/><Relationship Id="rId29" Type="http://schemas.openxmlformats.org/officeDocument/2006/relationships/slideLayout" Target="../slideLayouts/slideLayout30.xml"/><Relationship Id="rId30" Type="http://schemas.openxmlformats.org/officeDocument/2006/relationships/slideLayout" Target="../slideLayouts/slideLayout31.xml"/><Relationship Id="rId31" Type="http://schemas.openxmlformats.org/officeDocument/2006/relationships/slideLayout" Target="../slideLayouts/slideLayout32.xml"/><Relationship Id="rId32" Type="http://schemas.openxmlformats.org/officeDocument/2006/relationships/slideLayout" Target="../slideLayouts/slideLayout33.xml"/><Relationship Id="rId33" Type="http://schemas.openxmlformats.org/officeDocument/2006/relationships/slideLayout" Target="../slideLayouts/slideLayout34.xml"/><Relationship Id="rId34" Type="http://schemas.openxmlformats.org/officeDocument/2006/relationships/slideLayout" Target="../slideLayouts/slideLayout35.xml"/><Relationship Id="rId3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37.xml"/><Relationship Id="rId25" Type="http://schemas.openxmlformats.org/officeDocument/2006/relationships/slideLayout" Target="../slideLayouts/slideLayout38.xml"/><Relationship Id="rId26" Type="http://schemas.openxmlformats.org/officeDocument/2006/relationships/slideLayout" Target="../slideLayouts/slideLayout39.xml"/><Relationship Id="rId27" Type="http://schemas.openxmlformats.org/officeDocument/2006/relationships/slideLayout" Target="../slideLayouts/slideLayout40.xml"/><Relationship Id="rId28" Type="http://schemas.openxmlformats.org/officeDocument/2006/relationships/slideLayout" Target="../slideLayouts/slideLayout41.xml"/><Relationship Id="rId29" Type="http://schemas.openxmlformats.org/officeDocument/2006/relationships/slideLayout" Target="../slideLayouts/slideLayout42.xml"/><Relationship Id="rId30" Type="http://schemas.openxmlformats.org/officeDocument/2006/relationships/slideLayout" Target="../slideLayouts/slideLayout43.xml"/><Relationship Id="rId31" Type="http://schemas.openxmlformats.org/officeDocument/2006/relationships/slideLayout" Target="../slideLayouts/slideLayout44.xml"/><Relationship Id="rId32" Type="http://schemas.openxmlformats.org/officeDocument/2006/relationships/slideLayout" Target="../slideLayouts/slideLayout45.xml"/><Relationship Id="rId33" Type="http://schemas.openxmlformats.org/officeDocument/2006/relationships/slideLayout" Target="../slideLayouts/slideLayout46.xml"/><Relationship Id="rId34" Type="http://schemas.openxmlformats.org/officeDocument/2006/relationships/slideLayout" Target="../slideLayouts/slideLayout47.xml"/><Relationship Id="rId3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0D8F-92CB-4F10-849A-D9A8BB1F1AA4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3360" y="1426680"/>
              <a:ext cx="1102680" cy="1097280"/>
              <a:chOff x="5463360" y="1426680"/>
              <a:chExt cx="1102680" cy="10972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3360" y="1426680"/>
                <a:ext cx="1102680" cy="109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41200" y="1604160"/>
                <a:ext cx="75168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30040" y="1402920"/>
              <a:ext cx="852480" cy="848160"/>
              <a:chOff x="5630040" y="1402920"/>
              <a:chExt cx="852480" cy="84816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30040" y="1402920"/>
                <a:ext cx="852480" cy="84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71880" y="1542960"/>
                <a:ext cx="57456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2680" y="1871640"/>
              <a:ext cx="631800" cy="628560"/>
              <a:chOff x="5242680" y="1871640"/>
              <a:chExt cx="631800" cy="62856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71640"/>
                <a:ext cx="631800" cy="62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3560" y="1980360"/>
                <a:ext cx="4165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9720" y="1788480"/>
              <a:ext cx="518400" cy="522000"/>
              <a:chOff x="5409720" y="1788480"/>
              <a:chExt cx="518400" cy="52200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9720" y="1788480"/>
                <a:ext cx="518400" cy="52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501880" y="1883160"/>
                <a:ext cx="33840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5600"/>
              <a:ext cx="291960" cy="290520"/>
              <a:chOff x="4718160" y="2055600"/>
              <a:chExt cx="291960" cy="29052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5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500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101280" y="993600"/>
              <a:ext cx="291960" cy="290520"/>
              <a:chOff x="6101280" y="993600"/>
              <a:chExt cx="291960" cy="29052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101280" y="993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61040" y="105372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1880" y="1871640"/>
              <a:ext cx="232200" cy="231120"/>
              <a:chOff x="5051880" y="1871640"/>
              <a:chExt cx="232200" cy="23112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1880" y="1871640"/>
                <a:ext cx="232200" cy="23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3360" y="19227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8920" y="1058760"/>
              <a:ext cx="232200" cy="237240"/>
              <a:chOff x="6118920" y="1058760"/>
              <a:chExt cx="232200" cy="23724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8920" y="1058760"/>
                <a:ext cx="232200" cy="23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8600" y="11109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2065-869A-4BB4-9106-8F377DD7E4EF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62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163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9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170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3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9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80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6206-C990-4D8D-8770-D421990603F6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4"/>
    <p:sldLayoutId id="2147483676" r:id="rId25"/>
    <p:sldLayoutId id="2147483677" r:id="rId26"/>
    <p:sldLayoutId id="2147483678" r:id="rId27"/>
    <p:sldLayoutId id="2147483679" r:id="rId28"/>
    <p:sldLayoutId id="2147483680" r:id="rId29"/>
    <p:sldLayoutId id="2147483681" r:id="rId30"/>
    <p:sldLayoutId id="2147483682" r:id="rId31"/>
    <p:sldLayoutId id="2147483683" r:id="rId32"/>
    <p:sldLayoutId id="2147483684" r:id="rId33"/>
    <p:sldLayoutId id="2147483685" r:id="rId34"/>
    <p:sldLayoutId id="2147483686" r:id="rId3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230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31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3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7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238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1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7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248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2E0B-2F59-4083-A461-8A53A04AFDBD}" type="slidenum">
              <a:rPr b="0" lang="ru-R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4"/>
    <p:sldLayoutId id="2147483689" r:id="rId25"/>
    <p:sldLayoutId id="2147483690" r:id="rId26"/>
    <p:sldLayoutId id="2147483691" r:id="rId27"/>
    <p:sldLayoutId id="2147483692" r:id="rId28"/>
    <p:sldLayoutId id="2147483693" r:id="rId29"/>
    <p:sldLayoutId id="2147483694" r:id="rId30"/>
    <p:sldLayoutId id="2147483695" r:id="rId31"/>
    <p:sldLayoutId id="2147483696" r:id="rId32"/>
    <p:sldLayoutId id="2147483697" r:id="rId33"/>
    <p:sldLayoutId id="2147483698" r:id="rId34"/>
    <p:sldLayoutId id="2147483699" r:id="rId3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4.png"/><Relationship Id="rId4" Type="http://schemas.openxmlformats.org/officeDocument/2006/relationships/hyperlink" Target="file:///&#1091;&#1087;&#1088;&#1091;&#1075;&#1072;&#1103;%20&#1080;%20&#1085;&#1077;&#1091;&#1087;&#1088;&#1091;&#1075;&#1072;&#1103;%20&#1076;&#1077;&#1092;&#1086;&#1088;&#1084;&#1072;&#1094;&#1080;&#1103;.swf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847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4"/>
          <p:cNvSpPr/>
          <p:nvPr/>
        </p:nvSpPr>
        <p:spPr>
          <a:xfrm>
            <a:off x="1332000" y="0"/>
            <a:ext cx="700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Impact"/>
              </a:rPr>
              <a:t>Сила. Явление тяготе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Impact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1547640" y="1268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Impact"/>
              </a:rPr>
              <a:t>Урок физики в 7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"/>
          <p:cNvPicPr/>
          <p:nvPr/>
        </p:nvPicPr>
        <p:blipFill>
          <a:blip r:embed="rId1"/>
          <a:srcRect l="3997" t="1752" r="0" b="1596"/>
          <a:stretch/>
        </p:blipFill>
        <p:spPr>
          <a:xfrm>
            <a:off x="0" y="476280"/>
            <a:ext cx="1547640" cy="40323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2" descr="Сила воздействия на тележку"/>
          <p:cNvPicPr/>
          <p:nvPr/>
        </p:nvPicPr>
        <p:blipFill>
          <a:blip r:embed="rId2"/>
          <a:stretch/>
        </p:blipFill>
        <p:spPr>
          <a:xfrm>
            <a:off x="6084720" y="4508640"/>
            <a:ext cx="3016440" cy="2412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3" descr="Деформация тела при воздействии силы"/>
          <p:cNvPicPr/>
          <p:nvPr/>
        </p:nvPicPr>
        <p:blipFill>
          <a:blip r:embed="rId3"/>
          <a:stretch/>
        </p:blipFill>
        <p:spPr>
          <a:xfrm>
            <a:off x="3059280" y="4508640"/>
            <a:ext cx="3016080" cy="2412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Сложение сил_ лебедь-рак-щука1"/>
          <p:cNvPicPr/>
          <p:nvPr/>
        </p:nvPicPr>
        <p:blipFill>
          <a:blip r:embed="rId4"/>
          <a:stretch/>
        </p:blipFill>
        <p:spPr>
          <a:xfrm>
            <a:off x="0" y="4508640"/>
            <a:ext cx="3016080" cy="241272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7"/>
          <p:cNvSpPr/>
          <p:nvPr/>
        </p:nvSpPr>
        <p:spPr>
          <a:xfrm>
            <a:off x="3276720" y="2349360"/>
            <a:ext cx="586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делал, что мог, пусть другие сделают лучш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 знаю, чем я могу казаться мир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самому себе я кажусь мальчик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грающим у моря, которому удалось найти более красивый камешек, чем други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океан неизвестного лежит передо мн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саак Ньютон (1643-1727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4"/>
          <p:cNvSpPr/>
          <p:nvPr/>
        </p:nvSpPr>
        <p:spPr>
          <a:xfrm>
            <a:off x="0" y="0"/>
            <a:ext cx="9144000" cy="40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является мерой взаимодействия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, как и скорость, является векторной величиной. Она характеризуется не только числовым значением и точкой приложения, но и направле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обозначается буквой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со стрелочкой, а ее модуль той же букв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о без стре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честь великого английского ученого И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ьютона эта единица названа ньютоном (1Н). 1 кН=1000 Н, 1мН=0,001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7"/>
              <p:cNvSpPr txBox="1"/>
              <p:nvPr/>
            </p:nvSpPr>
            <p:spPr>
              <a:xfrm>
                <a:off x="4284720" y="2349360"/>
                <a:ext cx="3985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340" name="Picture 15" descr=""/>
          <p:cNvPicPr/>
          <p:nvPr/>
        </p:nvPicPr>
        <p:blipFill>
          <a:blip r:embed="rId1"/>
          <a:stretch/>
        </p:blipFill>
        <p:spPr>
          <a:xfrm>
            <a:off x="2195640" y="4570560"/>
            <a:ext cx="5329080" cy="22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30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Спасибо за внимание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342" name="Picture 3" descr="учитель"/>
          <p:cNvPicPr/>
          <p:nvPr/>
        </p:nvPicPr>
        <p:blipFill>
          <a:blip r:embed="rId2"/>
          <a:stretch/>
        </p:blipFill>
        <p:spPr>
          <a:xfrm>
            <a:off x="395280" y="2924280"/>
            <a:ext cx="3203640" cy="36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5" descr="Сила воздействия на тележку"/>
          <p:cNvPicPr/>
          <p:nvPr/>
        </p:nvPicPr>
        <p:blipFill>
          <a:blip r:embed="rId1"/>
          <a:stretch/>
        </p:blipFill>
        <p:spPr>
          <a:xfrm>
            <a:off x="755640" y="0"/>
            <a:ext cx="2592360" cy="207324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6"/>
          <p:cNvSpPr/>
          <p:nvPr/>
        </p:nvSpPr>
        <p:spPr>
          <a:xfrm>
            <a:off x="0" y="1916280"/>
            <a:ext cx="40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корость вагонетки меняется под действием руки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7" descr=""/>
          <p:cNvPicPr/>
          <p:nvPr/>
        </p:nvPicPr>
        <p:blipFill>
          <a:blip r:embed="rId2"/>
          <a:stretch/>
        </p:blipFill>
        <p:spPr>
          <a:xfrm>
            <a:off x="6156360" y="0"/>
            <a:ext cx="2089080" cy="16714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8"/>
          <p:cNvSpPr/>
          <p:nvPr/>
        </p:nvSpPr>
        <p:spPr>
          <a:xfrm>
            <a:off x="5219640" y="1773360"/>
            <a:ext cx="39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корость и направление движения теннисного шарика меняется при взаимодействии с ракет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9" descr=""/>
          <p:cNvPicPr/>
          <p:nvPr/>
        </p:nvPicPr>
        <p:blipFill>
          <a:blip r:embed="rId3"/>
          <a:stretch/>
        </p:blipFill>
        <p:spPr>
          <a:xfrm>
            <a:off x="1763640" y="3645000"/>
            <a:ext cx="5724720" cy="1906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10"/>
          <p:cNvSpPr/>
          <p:nvPr/>
        </p:nvSpPr>
        <p:spPr>
          <a:xfrm>
            <a:off x="1835280" y="5589720"/>
            <a:ext cx="57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ила, действующая на тело, может не только изменить скорость всего тела, но и отдельных его частей (в таких случаях говорят, что тела </a:t>
            </a:r>
            <a:r>
              <a:rPr b="0" lang="ru-RU" sz="1600" spc="-1" strike="noStrike" u="sng">
                <a:solidFill>
                  <a:srgbClr val="408080"/>
                </a:solidFill>
                <a:uFillTx/>
                <a:latin typeface="Times New Roman"/>
                <a:hlinkClick r:id="rId4"/>
              </a:rPr>
              <a:t>деформиру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9"/>
          <p:cNvSpPr/>
          <p:nvPr/>
        </p:nvSpPr>
        <p:spPr>
          <a:xfrm>
            <a:off x="684360" y="27082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а – причина изменения скорости те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900000" y="2637000"/>
            <a:ext cx="712800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algn="ctr"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5400" spc="-1" strike="noStrike">
                <a:solidFill>
                  <a:srgbClr val="404040"/>
                </a:solidFill>
                <a:latin typeface="Monotype Corsiva"/>
              </a:rPr>
              <a:t>Приступаем к самостоятельному изучению нового материала</a:t>
            </a:r>
            <a:endParaRPr b="0" lang="en-US" sz="5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00000" y="2637000"/>
            <a:ext cx="712800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algn="ctr"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5400" spc="-1" strike="noStrike">
                <a:solidFill>
                  <a:srgbClr val="404040"/>
                </a:solidFill>
                <a:latin typeface="Monotype Corsiva"/>
              </a:rPr>
              <a:t>Приступаем к самостоятельному изучению нового материала</a:t>
            </a:r>
            <a:endParaRPr b="0" lang="en-US" sz="5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8" descr="3"/>
          <p:cNvPicPr/>
          <p:nvPr/>
        </p:nvPicPr>
        <p:blipFill>
          <a:blip r:embed="rId1"/>
          <a:srcRect l="0" t="21939" r="0" b="1102"/>
          <a:stretch/>
        </p:blipFill>
        <p:spPr>
          <a:xfrm>
            <a:off x="2627280" y="2236680"/>
            <a:ext cx="6516720" cy="462132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19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fe28a"/>
                </a:solidFill>
                <a:latin typeface="Times New Roman"/>
              </a:rPr>
              <a:t>Явление тяготения. Сила тяж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7" descr=""/>
          <p:cNvPicPr/>
          <p:nvPr/>
        </p:nvPicPr>
        <p:blipFill>
          <a:blip r:embed="rId2"/>
          <a:srcRect l="34252" t="17035" r="13767" b="5882"/>
          <a:stretch/>
        </p:blipFill>
        <p:spPr>
          <a:xfrm>
            <a:off x="0" y="2133720"/>
            <a:ext cx="39736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9" descr="{1375512A-1D8C-4492-A2A0-8A9B9E55BB99}"/>
          <p:cNvPicPr/>
          <p:nvPr/>
        </p:nvPicPr>
        <p:blipFill>
          <a:blip r:embed="rId2"/>
          <a:stretch/>
        </p:blipFill>
        <p:spPr>
          <a:xfrm>
            <a:off x="2843280" y="0"/>
            <a:ext cx="3057480" cy="459108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1"/>
          <p:cNvSpPr/>
          <p:nvPr/>
        </p:nvSpPr>
        <p:spPr>
          <a:xfrm>
            <a:off x="1258920" y="6093000"/>
            <a:ext cx="54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1476360" y="4581360"/>
            <a:ext cx="540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Исаак Ньютон (1643 – 172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3"/>
          <p:cNvSpPr/>
          <p:nvPr/>
        </p:nvSpPr>
        <p:spPr>
          <a:xfrm>
            <a:off x="0" y="5091120"/>
            <a:ext cx="9144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Исаак Ньютон сформулировал основные законы классической механики. Открыл закон всемирного тяготения, дал теорию движения небесных тел, создав основы небесной механики. Работы Ньютона намного опередили общий научный уровень его врем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5" descr="04SC002"/>
          <p:cNvPicPr/>
          <p:nvPr/>
        </p:nvPicPr>
        <p:blipFill>
          <a:blip r:embed="rId1"/>
          <a:stretch/>
        </p:blipFill>
        <p:spPr>
          <a:xfrm>
            <a:off x="61920" y="603360"/>
            <a:ext cx="4846680" cy="338436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9"/>
          <p:cNvSpPr/>
          <p:nvPr/>
        </p:nvSpPr>
        <p:spPr>
          <a:xfrm>
            <a:off x="755640" y="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fe28a"/>
                </a:solidFill>
                <a:latin typeface="Times New Roman"/>
              </a:rPr>
              <a:t>Примеры взаимного притяжения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0" descr="qqq"/>
          <p:cNvPicPr/>
          <p:nvPr/>
        </p:nvPicPr>
        <p:blipFill>
          <a:blip r:embed="rId2"/>
          <a:stretch/>
        </p:blipFill>
        <p:spPr>
          <a:xfrm>
            <a:off x="4500720" y="3484440"/>
            <a:ext cx="4646520" cy="337356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11"/>
          <p:cNvSpPr/>
          <p:nvPr/>
        </p:nvSpPr>
        <p:spPr>
          <a:xfrm>
            <a:off x="61920" y="3330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fe28a"/>
                </a:solidFill>
                <a:latin typeface="Times New Roman"/>
              </a:rPr>
              <a:t>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5335560" y="39211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fe28a"/>
                </a:solidFill>
                <a:latin typeface="Times New Roman"/>
              </a:rPr>
              <a:t>Метеорный п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http://www.proza.ru/pics/2012/07/15/815.jpg"/>
          <p:cNvPicPr/>
          <p:nvPr/>
        </p:nvPicPr>
        <p:blipFill>
          <a:blip r:embed="rId3"/>
          <a:stretch/>
        </p:blipFill>
        <p:spPr>
          <a:xfrm>
            <a:off x="4500720" y="579600"/>
            <a:ext cx="4646520" cy="294300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11"/>
          <p:cNvSpPr/>
          <p:nvPr/>
        </p:nvSpPr>
        <p:spPr>
          <a:xfrm>
            <a:off x="6661080" y="603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fe28a"/>
                </a:solidFill>
                <a:latin typeface="Times New Roman"/>
              </a:rPr>
              <a:t>Дож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0" descr="https://encrypted-tbn1.gstatic.com/images?q=tbn:ANd9GcTFDU50bNrCI9pM565ynWXCVanSsV6obTPD5LcHGrTqVsKMikaw"/>
          <p:cNvPicPr/>
          <p:nvPr/>
        </p:nvPicPr>
        <p:blipFill>
          <a:blip r:embed="rId4"/>
          <a:stretch/>
        </p:blipFill>
        <p:spPr>
          <a:xfrm>
            <a:off x="61920" y="4010040"/>
            <a:ext cx="4438800" cy="295416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11"/>
          <p:cNvSpPr/>
          <p:nvPr/>
        </p:nvSpPr>
        <p:spPr>
          <a:xfrm>
            <a:off x="82440" y="610092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fe28a"/>
                </a:solidFill>
                <a:latin typeface="Times New Roman"/>
              </a:rPr>
              <a:t>Искусственный спутник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4" descr="qq"/>
          <p:cNvPicPr/>
          <p:nvPr/>
        </p:nvPicPr>
        <p:blipFill>
          <a:blip r:embed="rId1"/>
          <a:stretch/>
        </p:blipFill>
        <p:spPr>
          <a:xfrm>
            <a:off x="0" y="0"/>
            <a:ext cx="4572000" cy="3684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{CB81405C-BD68-4A6F-AD8B-86C8970B6F67}"/>
          <p:cNvPicPr/>
          <p:nvPr/>
        </p:nvPicPr>
        <p:blipFill>
          <a:blip r:embed="rId2"/>
          <a:stretch/>
        </p:blipFill>
        <p:spPr>
          <a:xfrm>
            <a:off x="4500720" y="3932280"/>
            <a:ext cx="4643280" cy="292572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7"/>
          <p:cNvSpPr/>
          <p:nvPr/>
        </p:nvSpPr>
        <p:spPr>
          <a:xfrm>
            <a:off x="0" y="4076640"/>
            <a:ext cx="442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тяжение всех тел Вселенной друг к другу называется всемирным тягот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4572000" y="0"/>
            <a:ext cx="4572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ла, с которой Земля притягивает к себе тело, называется силой тяж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ла тяжести направлена вертикально вни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9"/>
              <p:cNvSpPr txBox="1"/>
              <p:nvPr/>
            </p:nvSpPr>
            <p:spPr>
              <a:xfrm>
                <a:off x="6156360" y="1197000"/>
                <a:ext cx="15033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тяж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Rectangle 14"/>
          <p:cNvSpPr/>
          <p:nvPr/>
        </p:nvSpPr>
        <p:spPr>
          <a:xfrm>
            <a:off x="179280" y="537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620120" cy="50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2"/>
          <p:cNvSpPr/>
          <p:nvPr/>
        </p:nvSpPr>
        <p:spPr>
          <a:xfrm>
            <a:off x="1187280" y="982800"/>
            <a:ext cx="676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Monotype Corsiva"/>
              </a:rPr>
              <a:t>Приступаем к самостоятельному изучению нового материа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8:38:30Z</dcterms:created>
  <dc:creator>1</dc:creator>
  <dc:description/>
  <dc:language>en-US</dc:language>
  <cp:lastModifiedBy>Макаров</cp:lastModifiedBy>
  <dcterms:modified xsi:type="dcterms:W3CDTF">2012-11-20T07:13:41Z</dcterms:modified>
  <cp:revision>76</cp:revision>
  <dc:subject/>
  <dc:title>Слайд 1</dc:title>
</cp:coreProperties>
</file>