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996-D12C-4FED-AABC-74961266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91D-C0BA-45B5-88B3-A4F053D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D52-CDC2-4E6E-954D-899273BC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C95-83AE-4352-BF4F-0F8FE0D4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B1F6-7B91-421F-BB3B-C6A8D014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2992-35FA-4E81-BA21-549FA4B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E684-E99B-4F88-9533-8D96668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8165-BA5E-4D22-83E7-0C7088D8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D02D-F13B-405F-A337-F6E8D28F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E6E5-7B72-40FD-8E33-AB24D4CA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2E15-B21E-4B66-A76D-E749E18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224-EC3D-4C2A-B547-92F18A56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010D-3B2F-4018-95C3-11FA1B4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788E-DE9D-4083-B98C-406F073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E210-97AD-4AA7-963A-958747A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34B6-8271-4445-BC52-F450092C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28F7-76B6-4391-B680-03D2B944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93D-0B99-4179-B780-85D7F36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62D-2D88-4680-90A9-600D389A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246-90FF-4761-A443-7E13E52D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592-E5AD-4E12-880D-C94B732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199-7212-455B-8E27-9B807E7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E58-A40D-4DBD-AA9C-681028F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225-DE84-4E0E-9053-96CAA6AE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364F-C684-41AE-9ADD-DF11F4A509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1CBD-DF2F-403F-B04F-7633781BE4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Урок окружающего мира в 3 классе.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373356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 уксусной кислоте прикасаться опасно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ный дождь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708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м итоги урока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695160" y="1573200"/>
            <a:ext cx="1846440" cy="1766880"/>
            <a:chOff x="695160" y="1573200"/>
            <a:chExt cx="1846440" cy="1766880"/>
          </a:xfrm>
        </p:grpSpPr>
        <p:pic>
          <p:nvPicPr>
            <p:cNvPr id="241" name="AutoShape 4" descr=""/>
            <p:cNvPicPr/>
            <p:nvPr/>
          </p:nvPicPr>
          <p:blipFill>
            <a:blip r:embed="rId1"/>
            <a:stretch/>
          </p:blipFill>
          <p:spPr>
            <a:xfrm>
              <a:off x="695160" y="1573200"/>
              <a:ext cx="18464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116208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AutoShape 6"/>
          <p:cNvGrpSpPr/>
          <p:nvPr/>
        </p:nvGrpSpPr>
        <p:grpSpPr>
          <a:xfrm>
            <a:off x="3505320" y="1639800"/>
            <a:ext cx="1847880" cy="1773360"/>
            <a:chOff x="3505320" y="1639800"/>
            <a:chExt cx="1847880" cy="1773360"/>
          </a:xfrm>
        </p:grpSpPr>
        <p:pic>
          <p:nvPicPr>
            <p:cNvPr id="244" name="AutoShape 6" descr=""/>
            <p:cNvPicPr/>
            <p:nvPr/>
          </p:nvPicPr>
          <p:blipFill>
            <a:blip r:embed="rId2"/>
            <a:stretch/>
          </p:blipFill>
          <p:spPr>
            <a:xfrm>
              <a:off x="3505320" y="1639800"/>
              <a:ext cx="18478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3970440" y="2095560"/>
              <a:ext cx="914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AutoShape 5"/>
          <p:cNvGrpSpPr/>
          <p:nvPr/>
        </p:nvGrpSpPr>
        <p:grpSpPr>
          <a:xfrm>
            <a:off x="6315120" y="1573200"/>
            <a:ext cx="1841400" cy="1766880"/>
            <a:chOff x="6315120" y="1573200"/>
            <a:chExt cx="1841400" cy="17668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6315120" y="1573200"/>
              <a:ext cx="184140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6"/>
            <p:cNvSpPr/>
            <p:nvPr/>
          </p:nvSpPr>
          <p:spPr>
            <a:xfrm>
              <a:off x="6778800" y="2023920"/>
              <a:ext cx="91440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-990720" y="3156480"/>
            <a:ext cx="1116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веществами мы сегодня познакоми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уро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Где мы их встречаем каждый ден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С какими из этих веществ мы должны бы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ельно  осторожными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ите сегодняшний урок и покажите карточ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ношение к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з чего состоят вещест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Какие вещества быва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7242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80060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81080" y="4933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7242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09680" y="48769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69592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56272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6386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41972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267080"/>
            <a:ext cx="22860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562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5410080"/>
            <a:ext cx="38124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410080"/>
            <a:ext cx="380880" cy="4572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4197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800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876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0292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54864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94360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5410080"/>
            <a:ext cx="5079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6019920"/>
            <a:ext cx="5079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91520" y="457200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162920" y="4724280"/>
            <a:ext cx="30456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772400" y="5333400"/>
            <a:ext cx="30492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24680" y="52578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5715000"/>
            <a:ext cx="304920" cy="571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6019200"/>
            <a:ext cx="304560" cy="571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ухн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" y="1181160"/>
            <a:ext cx="78487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гадайте загадк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ня не едя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без меня  мало едя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403740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бел, как снег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сти у все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от попал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и проп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люкоза, фруктоза – разновидность сахар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57680" cy="337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297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71800" y="4361040"/>
            <a:ext cx="30733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рахмал – тоже вещество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743360" cy="3645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3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бота в тетрад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.16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276720"/>
            <a:ext cx="2590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Название вещест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3526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лавн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3276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де встречается, содерж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4956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ен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1814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дки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867280"/>
            <a:ext cx="2209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44956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рской воде, под зем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51814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 фруктах, меде, сахарной свекле, трост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867280"/>
            <a:ext cx="2971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локе, яблоках, муравь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66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изминут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работали  отл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ть не прочь сейчас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арядка к нам привы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 приходит в кла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ше руки, выше пят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нитесь ве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ы попрыгаем, как зай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азу станем всех бод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тянулись и вздохну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охнул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3324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ислоты 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246480" cy="2994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57680" cy="3305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371600" y="4241880"/>
            <a:ext cx="3035160" cy="261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724280" y="4383000"/>
            <a:ext cx="3295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1-10-07T10:36:0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