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6BB-74E8-48B4-9A3D-1016F697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398-4698-4009-BBC8-640E3D3F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046-8959-4E05-82B7-017866DA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DF4-6059-474C-9EE3-8398DAA9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10F-3C98-4160-A989-6027940F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9841-D506-45A0-93BA-3ED08C2D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7D95-7DCB-41F8-BDAC-AFB8FBC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A99-C031-4F04-AC38-4BE167CD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2D26-0929-42E0-83DC-F9B37068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6850-4209-40A2-8941-527423CE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479-E8C9-4C23-82AB-EE3B2EBB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509-3A7B-46DE-9989-12619238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76E-6900-4012-9C28-49EC68B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474B-AAAE-448C-B448-4E35A38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D815-B853-4653-BA46-0C94DD5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A60E-E40E-4469-9C15-CC6C79A0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80FC-8356-4655-B50C-0E9A40D7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C5A-4A98-4EE2-9B5E-450FF90E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74B-6E35-425C-9070-54FBA7DE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AC4-3B9D-4EDD-9793-0752BBDD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858-52A1-49F4-BE88-B621FA97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595-FD4D-44DF-B0ED-C1D2343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755-233B-4D35-BDEE-CC23195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1DB-D951-4F3D-96EE-3ED3FD3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D1C2-3B15-4E1B-A8EB-50A6635328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C3B6-480B-4DA5-A85B-DED22FBC3A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Урок окружающего мира в 3 классе.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373356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 уксусной кислоте прикасаться опасно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ный дождь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708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ведем итоги урока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40" name="AutoShape 4"/>
          <p:cNvGrpSpPr/>
          <p:nvPr/>
        </p:nvGrpSpPr>
        <p:grpSpPr>
          <a:xfrm>
            <a:off x="695160" y="1573200"/>
            <a:ext cx="1846440" cy="1766880"/>
            <a:chOff x="695160" y="1573200"/>
            <a:chExt cx="1846440" cy="1766880"/>
          </a:xfrm>
        </p:grpSpPr>
        <p:pic>
          <p:nvPicPr>
            <p:cNvPr id="241" name="AutoShape 4" descr=""/>
            <p:cNvPicPr/>
            <p:nvPr/>
          </p:nvPicPr>
          <p:blipFill>
            <a:blip r:embed="rId1"/>
            <a:stretch/>
          </p:blipFill>
          <p:spPr>
            <a:xfrm>
              <a:off x="695160" y="1573200"/>
              <a:ext cx="18464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116208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AutoShape 6"/>
          <p:cNvGrpSpPr/>
          <p:nvPr/>
        </p:nvGrpSpPr>
        <p:grpSpPr>
          <a:xfrm>
            <a:off x="3505320" y="1639800"/>
            <a:ext cx="1847880" cy="1773360"/>
            <a:chOff x="3505320" y="1639800"/>
            <a:chExt cx="1847880" cy="1773360"/>
          </a:xfrm>
        </p:grpSpPr>
        <p:pic>
          <p:nvPicPr>
            <p:cNvPr id="244" name="AutoShape 6" descr=""/>
            <p:cNvPicPr/>
            <p:nvPr/>
          </p:nvPicPr>
          <p:blipFill>
            <a:blip r:embed="rId2"/>
            <a:stretch/>
          </p:blipFill>
          <p:spPr>
            <a:xfrm>
              <a:off x="3505320" y="1639800"/>
              <a:ext cx="18478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3970440" y="2095560"/>
              <a:ext cx="9144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AutoShape 5"/>
          <p:cNvGrpSpPr/>
          <p:nvPr/>
        </p:nvGrpSpPr>
        <p:grpSpPr>
          <a:xfrm>
            <a:off x="6315120" y="1573200"/>
            <a:ext cx="1841400" cy="1766880"/>
            <a:chOff x="6315120" y="1573200"/>
            <a:chExt cx="1841400" cy="1766880"/>
          </a:xfrm>
        </p:grpSpPr>
        <p:pic>
          <p:nvPicPr>
            <p:cNvPr id="247" name="AutoShape 5" descr=""/>
            <p:cNvPicPr/>
            <p:nvPr/>
          </p:nvPicPr>
          <p:blipFill>
            <a:blip r:embed="rId3"/>
            <a:stretch/>
          </p:blipFill>
          <p:spPr>
            <a:xfrm>
              <a:off x="6315120" y="1573200"/>
              <a:ext cx="184140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6"/>
            <p:cNvSpPr/>
            <p:nvPr/>
          </p:nvSpPr>
          <p:spPr>
            <a:xfrm>
              <a:off x="677880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-990720" y="3156480"/>
            <a:ext cx="1116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веществами мы сегодня познаком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Где мы их встречаем каждый ден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из этих веществ мы должны б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ельно  осторожными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ите сегодняшний урок и покажите карточ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ношение к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з чего состоят вещ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Какие вещества быва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80060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81080" y="4933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7242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09680" y="48769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69592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5627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6386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41972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562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410080"/>
            <a:ext cx="38124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4100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7150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4864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943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91520" y="457200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162920" y="472428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772400" y="533340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924680" y="5257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0" y="57150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6019200"/>
            <a:ext cx="3045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ухня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7848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гадайте загадк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ня не едя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без меня  мало едя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403740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бел, как снег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сти у все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от попал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м и проп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люкоза, фруктоза – разновидность сахар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57680" cy="337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419720" cy="297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71800" y="4361040"/>
            <a:ext cx="30733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рахмал – тоже вещество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743360" cy="3645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3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бота в тетрад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.16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276720"/>
            <a:ext cx="2590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Название вещест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3526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лавн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3276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де встречается, содерж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ен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дки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44956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рской воде, под зем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51814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фруктах, меде, сахарной свекле, трост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8672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локе, яблоках, муравь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66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изминут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работали  отл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ть не прочь сейчас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арядка к нам привы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 приходит в кла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ше руки, выше пят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ыбнитесь ве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попрыгаем, как зай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зу станем всех бод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янулись и вздохну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3324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ы 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246480" cy="299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5768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371600" y="4241880"/>
            <a:ext cx="3035160" cy="261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724280" y="4383000"/>
            <a:ext cx="3295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1-10-07T10:36:0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