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332-3C61-44C6-8043-F6BB6A42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94A-3B7F-4078-9F24-9B491799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4BD-CB9A-4E50-9683-F6EE668D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174-AD03-43F8-8623-BD7C10B2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B413-DBF0-4D37-887E-B38758C1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5B7B-B326-42B6-A25C-FF72462E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9D61-07EE-47BA-96EB-39F1A64D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CF53-D8CA-465F-87DB-CF4DA699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F34C-C5F6-44B7-9DE1-0359A15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CDBF-3D69-4A5D-9E02-0863E8F2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36C-D827-4701-9C60-CF6F01CE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1C4-3965-4B3F-A529-6C13874F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80FE-D918-47EF-B632-2540849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B83C-E63C-43CE-91F9-96EA1EB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C72C-8331-4955-941C-1F120BA7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E5FD-A380-4D82-BDDA-8EEFF45E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85B3-9A95-4B1D-A548-E021DCFB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7C5-4DAB-4E86-8642-E0B9F19A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3C0-3D6D-4B18-AFD3-71FBE9B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E8B-A47C-4A14-A51C-6B7380D6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A09-E128-450C-BDF1-7F03FB6B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990-6FDA-4344-8B45-2AF7F107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E30-B3D8-4B44-B138-BBCE4269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789-0BDF-4436-8C1E-84E501AC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14B2-1420-41E6-A4E9-2F6B6FEA2D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A41D-216D-449F-84EB-0D5ED9E97B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Урок окружающего мира в 3 классе.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373356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 уксусной кислоте прикасаться опасно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ный дождь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708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ведем итоги урока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40" name="AutoShape 4"/>
          <p:cNvGrpSpPr/>
          <p:nvPr/>
        </p:nvGrpSpPr>
        <p:grpSpPr>
          <a:xfrm>
            <a:off x="695160" y="1573200"/>
            <a:ext cx="1846440" cy="1766880"/>
            <a:chOff x="695160" y="1573200"/>
            <a:chExt cx="1846440" cy="1766880"/>
          </a:xfrm>
        </p:grpSpPr>
        <p:pic>
          <p:nvPicPr>
            <p:cNvPr id="241" name="AutoShape 4" descr=""/>
            <p:cNvPicPr/>
            <p:nvPr/>
          </p:nvPicPr>
          <p:blipFill>
            <a:blip r:embed="rId1"/>
            <a:stretch/>
          </p:blipFill>
          <p:spPr>
            <a:xfrm>
              <a:off x="695160" y="1573200"/>
              <a:ext cx="18464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3"/>
            <p:cNvSpPr/>
            <p:nvPr/>
          </p:nvSpPr>
          <p:spPr>
            <a:xfrm>
              <a:off x="116208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AutoShape 6"/>
          <p:cNvGrpSpPr/>
          <p:nvPr/>
        </p:nvGrpSpPr>
        <p:grpSpPr>
          <a:xfrm>
            <a:off x="3505320" y="1639800"/>
            <a:ext cx="1847880" cy="1773360"/>
            <a:chOff x="3505320" y="1639800"/>
            <a:chExt cx="1847880" cy="1773360"/>
          </a:xfrm>
        </p:grpSpPr>
        <p:pic>
          <p:nvPicPr>
            <p:cNvPr id="244" name="AutoShape 6" descr=""/>
            <p:cNvPicPr/>
            <p:nvPr/>
          </p:nvPicPr>
          <p:blipFill>
            <a:blip r:embed="rId2"/>
            <a:stretch/>
          </p:blipFill>
          <p:spPr>
            <a:xfrm>
              <a:off x="3505320" y="1639800"/>
              <a:ext cx="18478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9"/>
            <p:cNvSpPr/>
            <p:nvPr/>
          </p:nvSpPr>
          <p:spPr>
            <a:xfrm>
              <a:off x="3970440" y="2095560"/>
              <a:ext cx="9144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AutoShape 5"/>
          <p:cNvGrpSpPr/>
          <p:nvPr/>
        </p:nvGrpSpPr>
        <p:grpSpPr>
          <a:xfrm>
            <a:off x="6315120" y="1573200"/>
            <a:ext cx="1841400" cy="1766880"/>
            <a:chOff x="6315120" y="1573200"/>
            <a:chExt cx="1841400" cy="1766880"/>
          </a:xfrm>
        </p:grpSpPr>
        <p:pic>
          <p:nvPicPr>
            <p:cNvPr id="247" name="AutoShape 5" descr=""/>
            <p:cNvPicPr/>
            <p:nvPr/>
          </p:nvPicPr>
          <p:blipFill>
            <a:blip r:embed="rId3"/>
            <a:stretch/>
          </p:blipFill>
          <p:spPr>
            <a:xfrm>
              <a:off x="6315120" y="1573200"/>
              <a:ext cx="184140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6"/>
            <p:cNvSpPr/>
            <p:nvPr/>
          </p:nvSpPr>
          <p:spPr>
            <a:xfrm>
              <a:off x="677880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-990720" y="3156480"/>
            <a:ext cx="1116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веществами мы сегодня познакоми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Где мы их встречаем каждый ден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из этих веществ мы должны бы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ельно  осторожными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цените сегодняшний урок и покажите карточ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ношение к уро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з чего состоят веще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Какие вещества быва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7242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80060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81080" y="4933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7242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09680" y="48769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569592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55627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56386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41972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562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410080"/>
            <a:ext cx="38124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54100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7150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4864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5943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391520" y="457200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162920" y="472428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772400" y="533340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924680" y="5257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0" y="57150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6019200"/>
            <a:ext cx="3045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ухня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" y="1181160"/>
            <a:ext cx="7848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гадайте загадк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ня не едя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без меня  мало едя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403740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бел, как снег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сти у все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от попал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м и проп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люкоза, фруктоза – разновидность сахар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57680" cy="337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419720" cy="297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971800" y="4361040"/>
            <a:ext cx="30733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рахмал – тоже вещество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743360" cy="3645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3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бота в тетрад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.16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276720"/>
            <a:ext cx="2590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Название вещест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3526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лавн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3276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де встречается, содерж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ен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дки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44956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рской воде, под зем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51814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фруктах, меде, сахарной свекле, тростн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58672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локе, яблоках, муравь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66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изминут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работали  отл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ть не прочь сейчас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арядка к нам привы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урок приходит в кла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ше руки, выше пят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ыбнитесь ве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попрыгаем, как зай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азу станем всех бод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тянулись и вздохну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3324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ы 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246480" cy="299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857680" cy="3305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371600" y="4241880"/>
            <a:ext cx="3035160" cy="261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724280" y="4383000"/>
            <a:ext cx="3295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1-10-07T10:36:0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