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4B0-0336-4600-9A1B-0CDDA12B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1B3-96E4-4C58-8CAE-A743061B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4B2-3A92-46E9-8CDB-FED648D6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8BB-C650-4524-83D5-5AB388FB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ADB-6DE1-4F2D-9733-7C66BEB9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A10-EF0B-4CE0-8713-644F2C45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223-EB5F-440A-A844-F5E4A427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07D-29D2-4DAB-86C1-1AFE3AE6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C103-1B9D-4F9E-93B9-0D45826B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2B4-6444-4E2D-9FA6-8BD5B488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922-C306-47E6-9429-63706E5B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16D3-459D-4CC9-BAA4-2D318319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4AE9-E07B-41AF-8BB2-FA5A93394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реты М.Ю.Лермон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738680" cy="5211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867280" y="15238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 Ю. Лермонтов в сюртуке Тенгинского пехотного полка. Акварель К.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бунова. (18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ний прижизненный портрет Лермон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РТР́́ЕТЫ Лермон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838080" y="636480"/>
            <a:ext cx="7543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нашего времени дошло 15 прижизненных изображений Л. Это немало, если принять во внимание трагич. судьбу поэта — две ссылки на Кавказ, участие в боевых походах и его раннюю гибель. Ни один портрет Л., взятый отдельно, не дает исчерпывающего представления о внешнем облике, о глубине и многогранности внутр. мира гениального поэта. Но в совокупности созданные проф. художниками высокой квалифик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Ф. О. Будкин, П. Е. Заболотский, А. И. Клюндер, К. А. Горбу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вторы осн. прижизненной иконографии Л. — все впоследствии стали академиками живописи) эти портреты все же дают конкретное представление о наружности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562720" cy="5897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6248520" y="914400"/>
            <a:ext cx="24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рмонтов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8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20-1822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ортрет Лермонтова, выполнен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известным художни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екоторые исследователи подлинность портрета ставят под сом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18160" cy="5288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943600" y="1905120"/>
            <a:ext cx="297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писного или графического изображения Лермонтова М.Ю. в период его обучения в Москве нет. Большая часть портретов относится уже к последующему, петербургскому периоду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ки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 по заказу Е.А. Арсенье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070240" cy="6172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6095880" y="1143000"/>
            <a:ext cx="228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рмонтов в ментике лейб-гвардии Гусарского полка (1837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мотря на то, ч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лот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был профессиональным художником, портрет получился великолеп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5867280" cy="5445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6629400" y="1523880"/>
            <a:ext cx="198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ртрет Лермонтова (1837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 самим поэтом на Кавказе. Портрет является одним из самых ценных для исследователей-лермонтове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98720" cy="4983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5715000" y="21337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И. Клюнд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38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амый первый портрет Клюндера (бумага, акварель), хранится в Институте русск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5257800" cy="5205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6248520" y="2057400"/>
            <a:ext cx="2361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Е. Заболотс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стично выполненный портрет. Картон, масло. Картина хранится в Институте русск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880920"/>
            <a:ext cx="5562720" cy="5245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172200" y="1447920"/>
            <a:ext cx="2514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полчанина Д.П. Па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енный профильный портрет поэта. Исключительная ценность этой работы в том, что однополчанин возможно наиболее точно передал внешность Лермон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12-03T05:08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