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3DB-2D27-4912-82D6-137E33DD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5A9-B279-4876-98F0-6137DC62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6F4-E7DD-46DD-BC89-AD01E06A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6F9-87FC-40FB-8FE5-D2301D09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29A-9AFE-4540-886B-1A6C3756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410-E9A6-4297-A157-28797F40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5FD-5E79-4402-9EFD-031C6CC8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AD0-CCFE-418C-BE0F-83CEA77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896-646C-4EB9-AA66-3F2497DB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C43-D410-4EDE-997C-EB6E1F9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992-F63F-47FB-963F-BCBA504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E4A-6508-4C5C-A410-7095250A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05A3-B861-4F30-9591-B869FE243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ы М.Ю.Лермон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38680" cy="5211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5238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Ю. Лермонтов в сюртуке Тенгинского пехотного полка. Акварель К.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унова. 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й прижизненный портрет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Р́́ЕТЫ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38080" y="63648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его времени дошло 15 прижизненных изображений Л. Это немало, если принять во внимание трагич. судьбу поэта — две ссылки на Кавказ, участие в боевых походах и его раннюю гибель. Ни один портрет Л., взятый отдельно, не дает исчерпывающего представления о внешнем облике, о глубине и многогранности внутр. мира гениального поэта. Но в совокупности созданные проф. художниками высокой квал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Ф. О. Будкин, П. Е. Заболотский, А. И. Клюндер, К. А. Горбу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вторы осн. прижизненной иконографии Л. — все впоследствии стали академиками живописи) эти портреты все же дают конкретное представление о наружности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62720" cy="5897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248520" y="9144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рмонтов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8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20-1822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ортрет Лермонтова, выполне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известным худож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которые исследователи подлинность портрета ставят под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18160" cy="5288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943600" y="1905120"/>
            <a:ext cx="29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ного или графического изображения Лермонтова М.Ю. в период его обучения в Москве нет. Большая часть портретов относится уже к последующему, петербургскому период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к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по заказу Е.А. Арсен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07024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95880" y="114300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 в ментике лейб-гвардии Гусарского полк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от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 профессиональным художником, портрет получился великолеп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867280" cy="5445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629400" y="152388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ртрет Лермонтов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самим поэтом на Кавказе. Портрет является одним из самых ценных для исследователей-лермонтов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98720" cy="498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7150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И. Клюнд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38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амый первый портрет Клюндера (бумага, акварель),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257800" cy="5205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2485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Е. Заболот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о выполненный портрет. Картон, масло. Картина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880920"/>
            <a:ext cx="5562720" cy="5245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172200" y="1447920"/>
            <a:ext cx="2514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полчанина Д.П. П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профильный портрет поэта. Исключительная ценность этой работы в том, что однополчанин возможно наиболее точно передал внешность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2-03T05:08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