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FD5-055A-460C-86DF-F954E6B4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8360-C78D-40BE-9DA0-AD66565D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60A8-D5E7-4F11-8B47-3C8FDA00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6BEA-EBB5-4993-952D-22037DDF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0377-4AC0-4A8C-8F80-E140689A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3D80-A3E4-461D-A4F4-46F080A6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FCF0-B639-4154-BF34-B0DA9E67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3C4-24BB-4843-A059-EA2BFA16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B452-757B-44B7-B0BA-DDFEF98B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CDE5-3EB5-436E-8282-0A45CBCA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2429-1B6F-424C-BAC8-2326DFD8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815-9BAC-4754-B638-23300D46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135C-A8AF-4400-899A-66AF8100FF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ртреты М.Ю.Лермонт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738680" cy="5211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5867280" y="152388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 Ю. Лермонтов в сюртуке Тенгинского пехотного полка. Акварель К.А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бунова. (18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ний прижизненный портрет Лермонт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РТР́́ЕТЫ Лермонт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838080" y="636480"/>
            <a:ext cx="7543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нашего времени дошло 15 прижизненных изображений Л. Это немало, если принять во внимание трагич. судьбу поэта — две ссылки на Кавказ, участие в боевых походах и его раннюю гибель. Ни один портрет Л., взятый отдельно, не дает исчерпывающего представления о внешнем облике, о глубине и многогранности внутр. мира гениального поэта. Но в совокупности созданные проф. художниками высокой квалифик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Ф. О. Будкин, П. Е. Заболотский, А. И. Клюндер, К. А. Горбун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авторы осн. прижизненной иконографии Л. — все впоследствии стали академиками живописи) эти портреты все же дают конкретное представление о наружности 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5562720" cy="58975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6248520" y="914400"/>
            <a:ext cx="2438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рмонтову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-8 л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20-1822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ортрет Лермонтова, выполнен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известным художни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екоторые исследователи подлинность портрета ставят под сомн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718160" cy="5288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943600" y="1905120"/>
            <a:ext cx="2971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писного или графического изображения Лермонтова М.Ю. в период его обучения в Москве нет. Большая часть портретов относится уже к последующему, петербургскому периоду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удожни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дкин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 по заказу Е.А. Арсеньев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070240" cy="6172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6095880" y="1143000"/>
            <a:ext cx="228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рмонтов в ментике лейб-гвардии Гусарского полка (1837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мотря на то, ч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лот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был профессиональным художником, портрет получился великолеп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5867280" cy="54453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6629400" y="1523880"/>
            <a:ext cx="198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портрет Лермонтова (1837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ен самим поэтом на Кавказе. Портрет является одним из самых ценных для исследователей-лермонтове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98720" cy="49831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5715000" y="213372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И. Клюнд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38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самый первый портрет Клюндера (бумага, акварель), хранится в Институте русск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5257800" cy="52056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6248520" y="2057400"/>
            <a:ext cx="2361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Е. Заболотск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стично выполненный портрет. Картон, масло. Картина хранится в Институте русской лит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457200" y="880920"/>
            <a:ext cx="5562720" cy="5245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6172200" y="1447920"/>
            <a:ext cx="2514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Лермонтова работ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ополчанина Д.П. Пал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динственный профильный портрет поэта. Исключительная ценность этой работы в том, что однополчанин возможно наиболее точно передал внешность Лермонт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акаров</dc:creator>
  <dc:description/>
  <dc:language>en-US</dc:language>
  <cp:lastModifiedBy>Макаров</cp:lastModifiedBy>
  <dcterms:modified xsi:type="dcterms:W3CDTF">2012-12-03T05:08:0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