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97E2-9202-4628-A7E7-6F13C3E8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E27-41AC-4389-B299-90627848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D19-E9C0-4720-84F4-61CD49D4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428-F76B-4867-8CA8-46AB4600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8894-DBC6-4217-9F5F-3AF3ADD3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9174-F753-48D4-93CB-2AECDED3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206C-F376-4457-BBFC-9E368755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45EC-C810-4BD8-B56F-33B1D69A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662-F9C1-49FC-8845-D628AA45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BE7-F74E-444E-9195-03C6D2CE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730-EFE6-4E39-B107-AE1E834D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BDFF-9108-4A3C-A39B-93D078E1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55A5-06F3-45BD-BBF2-FC6BE12DF0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_FuturicaB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М"/>
          <p:cNvPicPr/>
          <p:nvPr/>
        </p:nvPicPr>
        <p:blipFill>
          <a:blip r:embed="rId1"/>
          <a:stretch/>
        </p:blipFill>
        <p:spPr>
          <a:xfrm>
            <a:off x="3887640" y="0"/>
            <a:ext cx="5256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691920"/>
            <a:ext cx="392436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GCenturion"/>
              </a:rPr>
              <a:t>Тема Родины</a:t>
            </a:r>
            <a:br>
              <a:rPr sz="4000"/>
            </a:br>
            <a:r>
              <a:rPr b="1" i="1" lang="ru-RU" sz="4000" spc="-1" strike="noStrike">
                <a:solidFill>
                  <a:srgbClr val="333399"/>
                </a:solidFill>
                <a:latin typeface="AGCenturion"/>
              </a:rPr>
              <a:t> в творчеств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Arbat"/>
              </a:rPr>
              <a:t>Михаила Юрьевича  Лермонтова</a:t>
            </a:r>
            <a:br>
              <a:rPr sz="4000"/>
            </a:br>
            <a:br>
              <a:rPr sz="4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4"/>
          <p:cNvSpPr/>
          <p:nvPr/>
        </p:nvSpPr>
        <p:spPr>
          <a:xfrm>
            <a:off x="0" y="1071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_FuturicaB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292720" y="827280"/>
            <a:ext cx="345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_FuturicaBs"/>
              </a:rPr>
              <a:t>Стихотворение положило начало цело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_FuturicaBs"/>
              </a:rPr>
              <a:t>литературной традиции</a:t>
            </a:r>
            <a:r>
              <a:rPr b="0" lang="ru-RU" sz="2000" spc="-1" strike="noStrike">
                <a:solidFill>
                  <a:srgbClr val="000000"/>
                </a:solidFill>
                <a:latin typeface="a_FuturicaBs"/>
              </a:rPr>
              <a:t>. В русской поэзии утвердился жанр лирического раздумья о родине. Мысль о России стала нерасторжимой с образами деревни и природы. Лермонтов первым увидел берёзку как символ России </a:t>
            </a:r>
            <a:endParaRPr b="0" lang="en-US" sz="20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55640" y="522900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_FuturicaBs"/>
              </a:rPr>
              <a:t>стихи Есенина, К.Симонова, Рубцова, обращают внимание на репродукции картин  Левитана, Куинджи </a:t>
            </a:r>
            <a:endParaRPr b="0" lang="en-US" sz="1800" spc="-1" strike="noStrike">
              <a:solidFill>
                <a:srgbClr val="000000"/>
              </a:solidFill>
              <a:latin typeface="a_FuturicaBs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46544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0" y="10717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_FuturicaB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Над чем заставили задуматься стихи 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М.Ю. Лермонтова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и сегодняшний урок?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185e18"/>
            </a:gs>
            <a:gs pos="100000">
              <a:srgbClr val="33cc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«</a:t>
            </a:r>
            <a:r>
              <a:rPr b="1" i="1" lang="ru-RU" sz="5400" spc="-1" strike="noStrike">
                <a:solidFill>
                  <a:srgbClr val="000000"/>
                </a:solidFill>
                <a:latin typeface="Cambria"/>
              </a:rPr>
              <a:t>Люблю Отчизну я 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i="1" lang="ru-RU" sz="5400" spc="-1" strike="noStrike">
                <a:solidFill>
                  <a:srgbClr val="000000"/>
                </a:solidFill>
                <a:latin typeface="Cambria"/>
              </a:rPr>
              <a:t>но странною любовью…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                       </a:t>
            </a: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М. Ю. Лермон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4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44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Documents and Settings\Elizbarova\Рабочий стол\САВРАСОВ.jpg"/>
          <p:cNvPicPr/>
          <p:nvPr/>
        </p:nvPicPr>
        <p:blipFill>
          <a:blip r:embed="rId1"/>
          <a:stretch/>
        </p:blipFill>
        <p:spPr>
          <a:xfrm>
            <a:off x="0" y="0"/>
            <a:ext cx="4822920" cy="3306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Documents and Settings\Elizbarova\Рабочий стол\savras-1.gif"/>
          <p:cNvPicPr/>
          <p:nvPr/>
        </p:nvPicPr>
        <p:blipFill>
          <a:blip r:embed="rId2"/>
          <a:stretch/>
        </p:blipFill>
        <p:spPr>
          <a:xfrm>
            <a:off x="4233960" y="3309840"/>
            <a:ext cx="4910040" cy="354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Documents and Settings\Elizbarova\Рабочий стол\саврасов2.jpg"/>
          <p:cNvPicPr/>
          <p:nvPr/>
        </p:nvPicPr>
        <p:blipFill>
          <a:blip r:embed="rId3"/>
          <a:stretch/>
        </p:blipFill>
        <p:spPr>
          <a:xfrm>
            <a:off x="5000760" y="0"/>
            <a:ext cx="3809880" cy="284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Documents and Settings\Elizbarova\Рабочий стол\саврасов 3.jpg"/>
          <p:cNvPicPr/>
          <p:nvPr/>
        </p:nvPicPr>
        <p:blipFill>
          <a:blip r:embed="rId4"/>
          <a:stretch/>
        </p:blipFill>
        <p:spPr>
          <a:xfrm>
            <a:off x="214200" y="3571920"/>
            <a:ext cx="3919680" cy="2928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Elizbarova\Рабочий стол\шишкин.jpg"/>
          <p:cNvPicPr/>
          <p:nvPr/>
        </p:nvPicPr>
        <p:blipFill>
          <a:blip r:embed="rId1"/>
          <a:stretch/>
        </p:blipFill>
        <p:spPr>
          <a:xfrm>
            <a:off x="0" y="357120"/>
            <a:ext cx="4405320" cy="3278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Elizbarova\Рабочий стол\shishkin.jpg"/>
          <p:cNvPicPr/>
          <p:nvPr/>
        </p:nvPicPr>
        <p:blipFill>
          <a:blip r:embed="rId2"/>
          <a:stretch/>
        </p:blipFill>
        <p:spPr>
          <a:xfrm>
            <a:off x="0" y="3786120"/>
            <a:ext cx="4429080" cy="254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Documents and Settings\Elizbarova\Рабочий стол\шишкин 2.jpg"/>
          <p:cNvPicPr/>
          <p:nvPr/>
        </p:nvPicPr>
        <p:blipFill>
          <a:blip r:embed="rId3"/>
          <a:stretch/>
        </p:blipFill>
        <p:spPr>
          <a:xfrm>
            <a:off x="4467240" y="0"/>
            <a:ext cx="467676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Какая из формулировок точно отраж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тему стихотворения «Родина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CooperBlackN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CooperBlackNr"/>
              </a:rPr>
              <a:t>О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CooperBlackN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CooperBlackNr"/>
              </a:rPr>
              <a:t>О любви к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CooperBlackN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CooperBlackNr"/>
              </a:rPr>
              <a:t>О странности любви к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7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7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7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ень « З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еречитайте стихотворение М.Ю.Лермонтова «Родина». Какие детали деревенского быта присутствуют в стихотворении? Обведите их в круж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йдите слова, передающие краски и настроение. Подчеркните волнистой лин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следите за настроением поэта. Слова, подчеркивающие настроение выпишите на п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айдите официальные патриотические понятия о Родине в стихотворении. Выделите эти образы в квадраты. Какое к ним отношение автора, подчеркните эту фр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акая из формулировок точно отражает тему стихотворения «Родин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Найдите в стихотворении композиционные элементы рассуждения тезис, доказательства, вывод. Выделите фразы (Т-Д-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«4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ы записываются в тетрадь (на выбор 2 задания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Нарисуйте кластер, который позволит увидеть композицию стихотворения (принцип Лермонтова – от широкого плана к узком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Заполните   таблицу примерами из стихотво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эпитеты, метафоры,сравнения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Говоря о любви к  Родине, Лермонтов употребляет слово «странной». Почему свое чувство поэт сопровождает таким словосочет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Каждый стих  в первой строфе со второй сточки начинается с отрицательной частицы. Какое чувство усиливается эти повтором и в какой строке сформулировано это состояние геро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ень «5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вет  записать в тетрад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 Найдите градацию в стихотворении «Родина» (можно обратиться к статье в учебнике на стр. 167, или вспомнить по программе русского язы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цо  морда хар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дивидуальн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 Перечитайте статью в учебнике стр. 160-164. Просмотрите презентацию «Портреты М.Ю.Лермонтова». Найдите цитаты из статьи, иллюстрирующие душевное состояние поэта. изображенного на портр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  Перечитайте статью в учебнике стр. 160-164. Как вы думаете, почему не совпали впечатления о поэте у различных люд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  Рассмотрите портреты Лермонтова в лермонтовской энциклопедии. Какое из этих портретов больше подходит к стихотворению «Родина», аргументируйте сво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20:05:30Z</dcterms:created>
  <dc:creator>User</dc:creator>
  <dc:description/>
  <dc:language>en-US</dc:language>
  <cp:lastModifiedBy>Макаров</cp:lastModifiedBy>
  <dcterms:modified xsi:type="dcterms:W3CDTF">2012-12-03T05:06:41Z</dcterms:modified>
  <cp:revision>25</cp:revision>
  <dc:subject/>
  <dc:title>Тема Родины в творчестве   Михаила Юрьевича  Лермонтова</dc:title>
</cp:coreProperties>
</file>