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9C64-1AB1-460C-851F-7E0ADED2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0A3-B3C9-4401-B5E2-3C2E60C2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1C1-9DB3-492D-93E5-462C9101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1983-23AB-4C95-B0A1-2F7A8D77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51EE-07E8-42AE-8546-E40DC0D8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98A-AF4B-4DF0-A74B-0B412952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98EF-D58F-4AC0-A5A2-5D2BE813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B229-8AA2-405E-83B4-9BFEE638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B27-5D70-4F0F-BCC0-4209A05B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483-C071-41EC-ABD7-F0BFC11D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C2A-0561-49BA-B72F-89E32A4F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F91-1A4F-4F37-B72C-AA16275C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D90F-7581-44BB-BD84-73E6B625C3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_FuturicaB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М"/>
          <p:cNvPicPr/>
          <p:nvPr/>
        </p:nvPicPr>
        <p:blipFill>
          <a:blip r:embed="rId1"/>
          <a:stretch/>
        </p:blipFill>
        <p:spPr>
          <a:xfrm>
            <a:off x="3887640" y="0"/>
            <a:ext cx="525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691920"/>
            <a:ext cx="39243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GCenturion"/>
              </a:rPr>
              <a:t>Тема Родины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GCenturion"/>
              </a:rPr>
              <a:t> в творчест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333399"/>
                </a:solidFill>
                <a:latin typeface="Arbat"/>
              </a:rPr>
              <a:t>Михаила Юрьевича  Лермонтова</a:t>
            </a:r>
            <a:br>
              <a:rPr sz="4000"/>
            </a:br>
            <a:br>
              <a:rPr sz="4000"/>
            </a:b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4"/>
          <p:cNvSpPr/>
          <p:nvPr/>
        </p:nvSpPr>
        <p:spPr>
          <a:xfrm>
            <a:off x="0" y="1071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292720" y="827280"/>
            <a:ext cx="34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_FuturicaBs"/>
              </a:rPr>
              <a:t>Стихотворение положило начало цело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_FuturicaBs"/>
              </a:rPr>
              <a:t>литературной традиции</a:t>
            </a:r>
            <a:r>
              <a:rPr b="0" lang="ru-RU" sz="2000" spc="-1" strike="noStrike">
                <a:solidFill>
                  <a:srgbClr val="000000"/>
                </a:solidFill>
                <a:latin typeface="a_FuturicaBs"/>
              </a:rPr>
              <a:t>. В русской поэзии утвердился жанр лирического раздумья о родине. Мысль о России стала нерасторжимой с образами деревни и природы. Лермонтов первым увидел берёзку как символ России </a:t>
            </a:r>
            <a:endParaRPr b="0" lang="en-US" sz="2000" spc="-1" strike="noStrike">
              <a:solidFill>
                <a:srgbClr val="000000"/>
              </a:solidFill>
              <a:latin typeface="a_FuturicaBs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55640" y="522900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стихи Есенина, К.Симонова, Рубцова, обращают внимание на репродукции картин  Левитана, Куинджи </a:t>
            </a:r>
            <a:endParaRPr b="0" lang="en-US" sz="1800" spc="-1" strike="noStrike">
              <a:solidFill>
                <a:srgbClr val="000000"/>
              </a:solidFill>
              <a:latin typeface="a_FuturicaBs"/>
            </a:endParaRPr>
          </a:p>
        </p:txBody>
      </p:sp>
      <p:pic>
        <p:nvPicPr>
          <p:cNvPr id="65" name="Picture 8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46544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4"/>
          <p:cNvSpPr/>
          <p:nvPr/>
        </p:nvSpPr>
        <p:spPr>
          <a:xfrm>
            <a:off x="0" y="10717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Над чем заставили задуматься стихи 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М.Ю. Лермонтова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a_FuturicaBs"/>
              </a:rPr>
              <a:t>и сегодняшний урок?</a:t>
            </a:r>
            <a:endParaRPr b="0" lang="en-US" sz="6000" spc="-1" strike="noStrike">
              <a:solidFill>
                <a:srgbClr val="000000"/>
              </a:solidFill>
              <a:latin typeface="a_FuturicaB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185e18"/>
            </a:gs>
            <a:gs pos="100000">
              <a:srgbClr val="33cc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«</a:t>
            </a: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Люблю Отчизну я 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i="1" lang="ru-RU" sz="5400" spc="-1" strike="noStrike">
                <a:solidFill>
                  <a:srgbClr val="000000"/>
                </a:solidFill>
                <a:latin typeface="Cambria"/>
              </a:rPr>
              <a:t>но странною любовью…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                       </a:t>
            </a:r>
            <a:r>
              <a:rPr b="0" i="1" lang="ru-RU" sz="5400" spc="-1" strike="noStrike">
                <a:solidFill>
                  <a:srgbClr val="000000"/>
                </a:solidFill>
                <a:latin typeface="Cambria"/>
              </a:rPr>
              <a:t>М. Ю. Лермо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4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4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Elizbarova\Рабочий стол\САВРАСОВ.jpg"/>
          <p:cNvPicPr/>
          <p:nvPr/>
        </p:nvPicPr>
        <p:blipFill>
          <a:blip r:embed="rId1"/>
          <a:stretch/>
        </p:blipFill>
        <p:spPr>
          <a:xfrm>
            <a:off x="0" y="0"/>
            <a:ext cx="4822920" cy="3306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Documents and Settings\Elizbarova\Рабочий стол\savras-1.gif"/>
          <p:cNvPicPr/>
          <p:nvPr/>
        </p:nvPicPr>
        <p:blipFill>
          <a:blip r:embed="rId2"/>
          <a:stretch/>
        </p:blipFill>
        <p:spPr>
          <a:xfrm>
            <a:off x="4233960" y="3309840"/>
            <a:ext cx="4910040" cy="3548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Documents and Settings\Elizbarova\Рабочий стол\саврасов2.jpg"/>
          <p:cNvPicPr/>
          <p:nvPr/>
        </p:nvPicPr>
        <p:blipFill>
          <a:blip r:embed="rId3"/>
          <a:stretch/>
        </p:blipFill>
        <p:spPr>
          <a:xfrm>
            <a:off x="5000760" y="0"/>
            <a:ext cx="3809880" cy="2847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Elizbarova\Рабочий стол\саврасов 3.jpg"/>
          <p:cNvPicPr/>
          <p:nvPr/>
        </p:nvPicPr>
        <p:blipFill>
          <a:blip r:embed="rId4"/>
          <a:stretch/>
        </p:blipFill>
        <p:spPr>
          <a:xfrm>
            <a:off x="214200" y="3571920"/>
            <a:ext cx="3919680" cy="2928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Elizbarova\Рабочий стол\шишкин.jpg"/>
          <p:cNvPicPr/>
          <p:nvPr/>
        </p:nvPicPr>
        <p:blipFill>
          <a:blip r:embed="rId1"/>
          <a:stretch/>
        </p:blipFill>
        <p:spPr>
          <a:xfrm>
            <a:off x="0" y="357120"/>
            <a:ext cx="4405320" cy="3278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Elizbarova\Рабочий стол\shishkin.jpg"/>
          <p:cNvPicPr/>
          <p:nvPr/>
        </p:nvPicPr>
        <p:blipFill>
          <a:blip r:embed="rId2"/>
          <a:stretch/>
        </p:blipFill>
        <p:spPr>
          <a:xfrm>
            <a:off x="0" y="3786120"/>
            <a:ext cx="4429080" cy="254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:\Documents and Settings\Elizbarova\Рабочий стол\шишкин 2.jpg"/>
          <p:cNvPicPr/>
          <p:nvPr/>
        </p:nvPicPr>
        <p:blipFill>
          <a:blip r:embed="rId3"/>
          <a:stretch/>
        </p:blipFill>
        <p:spPr>
          <a:xfrm>
            <a:off x="4467240" y="0"/>
            <a:ext cx="46767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Какая из формулировок точно отраж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_CooperBlackNr"/>
              </a:rPr>
              <a:t>тему стихотворения «Родин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любви к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_CooperBlackN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_CooperBlackNr"/>
              </a:rPr>
              <a:t>О странности любви к Ро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7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7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7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« З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еречитайте стихотворение М.Ю.Лермонтова «Родина». Какие детали деревенского быта присутствуют в стихотворении? Обведите их в круж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йдите слова, передающие краски и настроение. Подчеркните волнистой лин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следите за настроением поэта. Слова, подчеркивающие настроение выпишите на п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айдите официальные патриотические понятия о Родине в стихотворении. Выделите эти образы в квадраты. Какое к ним отношение автора, подчеркните эту фра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Какая из формулировок точно отражает тему стихотворения «Родин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Найдите в стихотворении композиционные элементы рассуждения тезис, доказательства, вывод. Выделите фразы (Т-Д-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«4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ы записываются в тетрадь (на выбор 2 задания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рисуйте кластер, который позволит увидеть композицию стихотворения (принцип Лермонтова – от широкого плана к узком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полните   таблицу примерами из стихотво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эпитеты, метафоры,сравнения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Говоря о любви к  Родине, Лермонтов употребляет слово «странной». Почему свое чувство поэт сопровождает таким словосочет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Каждый стих  в первой строфе со второй сточки начинается с отрицательной частицы. Какое чувство усиливается эти повтором и в какой строке сформулировано это состояние геро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овень «5»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  записать в тетрад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 Найдите градацию в стихотворении «Родина» (можно обратиться к статье в учебнике на стр. 167, или вспомнить по программе русского язы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цо  морда хар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дивидуальные зад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 Перечитайте статью в учебнике стр. 160-164. Просмотрите презентацию «Портреты М.Ю.Лермонтова». Найдите цитаты из статьи, иллюстрирующие душевное состояние поэта. изображенного на портр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   Перечитайте статью в учебнике стр. 160-164. Как вы думаете, почему не совпали впечатления о поэте у различных люд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  Рассмотрите портреты Лермонтова в лермонтовской энциклопедии. Какое из этих портретов больше подходит к стихотворению «Родина», аргументируйте свой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20:05:30Z</dcterms:created>
  <dc:creator>User</dc:creator>
  <dc:description/>
  <dc:language>en-US</dc:language>
  <cp:lastModifiedBy>Макаров</cp:lastModifiedBy>
  <dcterms:modified xsi:type="dcterms:W3CDTF">2012-12-03T05:06:41Z</dcterms:modified>
  <cp:revision>25</cp:revision>
  <dc:subject/>
  <dc:title>Тема Родины в творчестве   Михаила Юрьевича  Лермонтова</dc:title>
</cp:coreProperties>
</file>