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camera.wav" ContentType="audio/x-wav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81F-9142-46EA-98DB-7190AD27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337-3DCB-46F0-9F5D-81FCD4ED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6FC-A0CD-4877-ABD3-1E2A5E57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8B35-41D6-4702-B5BD-322779F1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75A3-FDA8-46BC-B316-13CF8F56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230F-1F10-47FB-AA1D-A0173CC3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5405-6B71-4DE1-AA64-6B12FFD8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93D1-C792-4519-B673-4CCBFE29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62EA-0DF7-4CE1-A67B-47F05EE1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DC6E-C548-4081-818A-99E0EC07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1FDA-910C-4DEE-A488-DDADE137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F15E-6B04-4863-BA41-915C25C6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A10E-8188-4608-A675-CFD70E15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3B50-D58E-47FA-A567-FD7E5015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5013-E68B-4088-9966-6FE4AC8A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53A8-FBD5-49DA-A495-4650537F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EA2F-4AE1-4612-9E35-0633180B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71D46-EA20-4962-8AF8-A2E689B4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3483A-6E6D-4DA0-A989-804D47C8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67AEB-7B07-464C-A425-E67B238C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65F3A-3634-42C5-8610-28140C30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C9C89-3F95-4243-879E-0E264817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0E0E-A24D-4375-9A2C-439A7506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FCF2F-FAAD-4983-819B-1F362F26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E7711-AB6F-4732-A794-4122F29C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E1A8D-247C-4FB3-8174-FFA6CCC0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89EF1-F7D6-4FB8-B7A0-5666C337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9EC9F-2196-42F7-89B7-6678E040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A10F1-1F63-4B39-AC1C-45B909D7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E6408-0717-4367-B1EB-CA7C4D5C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62139-6F89-464C-B848-68DE559E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5AB0D-0D03-4959-BA95-BA84A766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F03B4-4E72-4B63-978F-246BC620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2C8-E6E2-44E5-A328-7A7A1319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30A92-B375-434B-881F-92EA4774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FE1C8-15E8-4E69-A724-73094945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236F8-A96C-4D0D-A815-6E6826F6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C85E5-FA34-46D2-9CCB-E6B6C6A8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8C4F2-4FA0-43EC-92C5-24AA4583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4966A-056C-47AC-AD66-7A098608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8CEB5-5162-4CDD-B1F2-8E00AFCE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38BCA-FDA2-4A51-9EDA-3CACF142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ADFEE-E869-4CD5-90C3-A123E468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A07-66FD-4F07-B644-05F8F49C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08E-5C07-49FA-BDE0-43768DFD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4AC-FB26-4C70-A0FC-12B39426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3FE-9AF3-4B38-AB06-FE6C11ED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149C-449C-4920-BBDB-81CB66F8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F1FC-EA3A-49C0-91C4-412B30DA586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34B9-1362-4F1C-B2E0-2D939C1397F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4A56-191B-4C7B-B17C-A6868FF3A71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C165-D61C-43CC-898E-D4B06BB0F76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74680" y="1133640"/>
            <a:ext cx="8820000" cy="2431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4" descr="C:\Program Files\Microsoft Office\MEDIA\CAGCAT10\j0301252.wmf"/>
          <p:cNvPicPr/>
          <p:nvPr/>
        </p:nvPicPr>
        <p:blipFill>
          <a:blip r:embed="rId1"/>
          <a:stretch/>
        </p:blipFill>
        <p:spPr>
          <a:xfrm>
            <a:off x="6143760" y="4429080"/>
            <a:ext cx="2247840" cy="1922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згадайте кроссворд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286000" y="1000080"/>
          <a:ext cx="5286240" cy="3000600"/>
        </p:xfrm>
        <a:graphic>
          <a:graphicData uri="http://schemas.openxmlformats.org/drawingml/2006/table">
            <a:tbl>
              <a:tblPr/>
              <a:tblGrid>
                <a:gridCol w="414360"/>
                <a:gridCol w="466560"/>
                <a:gridCol w="439920"/>
                <a:gridCol w="441360"/>
                <a:gridCol w="439560"/>
                <a:gridCol w="441360"/>
                <a:gridCol w="441360"/>
                <a:gridCol w="439920"/>
                <a:gridCol w="441000"/>
                <a:gridCol w="439920"/>
                <a:gridCol w="441360"/>
                <a:gridCol w="439560"/>
              </a:tblGrid>
              <a:tr h="428760"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5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6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81"/>
          <p:cNvSpPr/>
          <p:nvPr/>
        </p:nvSpPr>
        <p:spPr>
          <a:xfrm>
            <a:off x="214200" y="404568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горизонт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Сумма длин сторон геометрическ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Инструмент для измерения длины отрез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авило, записанное с помощью бук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ройденный пу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Арифметическое действ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Число, на которое нельзя де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те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571760"/>
          <a:ext cx="8472600" cy="4503600"/>
        </p:xfrm>
        <a:graphic>
          <a:graphicData uri="http://schemas.openxmlformats.org/drawingml/2006/table">
            <a:tbl>
              <a:tblPr/>
              <a:tblGrid>
                <a:gridCol w="706320"/>
                <a:gridCol w="551160"/>
                <a:gridCol w="860400"/>
                <a:gridCol w="706320"/>
                <a:gridCol w="706320"/>
                <a:gridCol w="706680"/>
                <a:gridCol w="704520"/>
                <a:gridCol w="706680"/>
                <a:gridCol w="706320"/>
                <a:gridCol w="706320"/>
                <a:gridCol w="704880"/>
                <a:gridCol w="706680"/>
              </a:tblGrid>
              <a:tr h="650880"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5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6 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6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стный сч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и вычислите: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! = 3 · 2 · 1 = 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! =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! =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! =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920" y="7045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акие измерения надо провести, чтобы найти площадь прямоугольника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                       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       </a:t>
            </a: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 = a · b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Прямоугольник 3"/>
          <p:cNvSpPr/>
          <p:nvPr/>
        </p:nvSpPr>
        <p:spPr>
          <a:xfrm>
            <a:off x="1714680" y="2643120"/>
            <a:ext cx="5500440" cy="2000160"/>
          </a:xfrm>
          <a:prstGeom prst="rect">
            <a:avLst/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3840" y="1643040"/>
            <a:ext cx="86439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Площадь квадрата равна квадрату его стороны:</a:t>
            </a: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                  </a:t>
            </a: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a                               </a:t>
            </a: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</a:t>
            </a:r>
            <a:r>
              <a:rPr b="0" i="1" lang="ru-RU" sz="6000" spc="-1" strike="noStrike">
                <a:solidFill>
                  <a:srgbClr val="ff0000"/>
                </a:solidFill>
                <a:latin typeface="Constantia"/>
              </a:rPr>
              <a:t> = а</a:t>
            </a:r>
            <a:r>
              <a:rPr b="0" i="1" lang="ru-RU" sz="6000" spc="-1" strike="noStrike" baseline="30000">
                <a:solidFill>
                  <a:srgbClr val="ff0000"/>
                </a:solidFill>
                <a:latin typeface="Constanti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                            </a:t>
            </a: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Прямоугольник 3"/>
          <p:cNvSpPr/>
          <p:nvPr/>
        </p:nvSpPr>
        <p:spPr>
          <a:xfrm>
            <a:off x="2786040" y="3000240"/>
            <a:ext cx="2143080" cy="20718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 u="sng">
                <a:solidFill>
                  <a:srgbClr val="04617b"/>
                </a:solidFill>
                <a:uFillTx/>
                <a:latin typeface="Calibri"/>
              </a:rPr>
              <a:t>Свойства площадей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400" y="119664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786240" indent="-78624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Площади равных фигур равны.</a:t>
            </a: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Их периметры тоже равн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 algn="ctr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 algn="ctr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1 = S2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1 = </a:t>
            </a: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Равнобедренный треугольник 3"/>
          <p:cNvSpPr/>
          <p:nvPr/>
        </p:nvSpPr>
        <p:spPr>
          <a:xfrm>
            <a:off x="714240" y="2571840"/>
            <a:ext cx="2928960" cy="23572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Равнобедренный треугольник 4"/>
          <p:cNvSpPr/>
          <p:nvPr/>
        </p:nvSpPr>
        <p:spPr>
          <a:xfrm>
            <a:off x="5072040" y="2428920"/>
            <a:ext cx="2928960" cy="2357280"/>
          </a:xfrm>
          <a:prstGeom prst="triangle">
            <a:avLst>
              <a:gd name="adj" fmla="val 50000"/>
            </a:avLst>
          </a:prstGeom>
          <a:solidFill>
            <a:srgbClr val="55a83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4617b"/>
                </a:solidFill>
                <a:uFillTx/>
                <a:latin typeface="Calibri"/>
              </a:rPr>
              <a:t>Свойства площадей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2. Площадь всей фигуры равна сумме площадей ее часте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 = S1 + S2 + S3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1214280" y="3286080"/>
            <a:ext cx="1714680" cy="1857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2928960" y="3286080"/>
            <a:ext cx="1714320" cy="1857600"/>
          </a:xfrm>
          <a:prstGeom prst="rect">
            <a:avLst/>
          </a:prstGeom>
          <a:solidFill>
            <a:srgbClr val="10cf9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4643280" y="3286080"/>
            <a:ext cx="1714680" cy="1857600"/>
          </a:xfrm>
          <a:prstGeom prst="rect">
            <a:avLst/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ведем итоги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Запишите формулу площади прямоугольни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Запишите формулу площади квадрат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Какие свойства площадей вы запомнили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4:26:00Z</dcterms:created>
  <dc:creator>Admin</dc:creator>
  <dc:description/>
  <dc:language>en-US</dc:language>
  <cp:lastModifiedBy>Макаров</cp:lastModifiedBy>
  <dcterms:modified xsi:type="dcterms:W3CDTF">2012-12-03T05:02:39Z</dcterms:modified>
  <cp:revision>14</cp:revision>
  <dc:subject/>
  <dc:title>08.12</dc:title>
</cp:coreProperties>
</file>