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67B0-2AC6-4DCF-922F-3795320D27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3C6E-3C7A-4DF1-8D03-F366D8E13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8A18-B556-4037-85DB-0C3416A05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C6D9-72F4-45D5-9C22-280E93A583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E6D6-4437-4E22-AFAA-9D8474F73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8F3-D89B-4756-A7D2-0597DD4DBD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629A-0B51-45E8-B25B-608FB6E88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B4AB-6E6D-4C26-8B02-4DB0740225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C913-949C-4FA2-896A-BB6A1B41E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A4F6-D335-47E7-B841-3ED9145E22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42A-2034-4964-8BB7-67DADC2F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3D6-BB0E-4986-95C4-C79FF5B8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BC5-669F-45D5-9207-A0BA4599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40D-C011-438E-9ABE-5E751E4D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AA72-B2EF-4660-B271-3D1F786B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D7A3-F812-431C-AAC6-DBB584E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5B1A-AD56-4233-871F-E13315CD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138C-A664-492E-AFC7-41F714D7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8DCB-1FDA-4667-9E79-CF200E8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18C8-A3A6-4A82-9647-FED2E2A6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6F01-F59E-4A9C-A091-558BE8EC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69E-587B-421D-B0FD-E9E46D98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B711-84D4-426B-B7D2-832F554A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DB2C-BDFC-4E07-9D38-B9DCC677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A869-F5B8-4350-A75C-BED68D90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901A-AFD8-4D0F-BC07-D58C5559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FCA3-2BA7-4EF9-9ECE-A6DC52DD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82A-A7B0-4422-B95B-E5BF46D5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601-B795-4BFF-8052-AC8A26EB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B7B-D47B-4ED0-8398-27018C5B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4029-2309-405E-8478-2E5E7397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EBB-59F4-4431-9634-9B3D2C00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EFD-D541-4998-AB84-CF4DB31F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B019-F67A-4581-8A93-32141F85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472A-9C13-4830-AABC-4283B4C69D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1F11-345C-45C7-9678-DD38F4EE21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0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2276640"/>
            <a:ext cx="262404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итель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ф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348000" y="2276640"/>
            <a:ext cx="222408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156360" y="2257560"/>
            <a:ext cx="2736720" cy="113184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785880" y="3933720"/>
            <a:ext cx="3143160" cy="1130400"/>
          </a:xfrm>
          <a:prstGeom prst="rect">
            <a:avLst/>
          </a:prstGeom>
          <a:solidFill>
            <a:srgbClr val="a0a40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географ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AutoShape 6"/>
          <p:cNvCxnSpPr>
            <a:stCxn id="90" idx="0"/>
          </p:cNvCxnSpPr>
          <p:nvPr/>
        </p:nvCxnSpPr>
        <p:spPr>
          <a:xfrm flipV="1">
            <a:off x="4460040" y="2261880"/>
            <a:ext cx="30240" cy="15120"/>
          </a:xfrm>
          <a:prstGeom prst="straightConnector1">
            <a:avLst/>
          </a:prstGeom>
          <a:ln w="9360">
            <a:solidFill>
              <a:srgbClr val="808000"/>
            </a:solidFill>
            <a:miter/>
          </a:ln>
        </p:spPr>
      </p:cxnSp>
      <p:sp>
        <p:nvSpPr>
          <p:cNvPr id="94" name="Line 7"/>
          <p:cNvSpPr/>
          <p:nvPr/>
        </p:nvSpPr>
        <p:spPr>
          <a:xfrm>
            <a:off x="4486320" y="1300320"/>
            <a:ext cx="293688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1743120" y="1300320"/>
            <a:ext cx="274320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486320" y="1300320"/>
            <a:ext cx="0" cy="9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560680" y="466560"/>
            <a:ext cx="3851280" cy="1283040"/>
          </a:xfrm>
          <a:prstGeom prst="rect">
            <a:avLst/>
          </a:prstGeom>
          <a:solidFill>
            <a:srgbClr val="d2be2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5286240" y="3929040"/>
            <a:ext cx="3214800" cy="1143000"/>
          </a:xfrm>
          <a:prstGeom prst="rect">
            <a:avLst/>
          </a:prstGeom>
          <a:solidFill>
            <a:srgbClr val="a0a40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лекулярно-ген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3"/>
          <p:cNvSpPr/>
          <p:nvPr/>
        </p:nvSpPr>
        <p:spPr>
          <a:xfrm flipH="1">
            <a:off x="314280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8"/>
          <p:cNvSpPr/>
          <p:nvPr/>
        </p:nvSpPr>
        <p:spPr>
          <a:xfrm>
            <a:off x="5785560" y="1714680"/>
            <a:ext cx="71640" cy="22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928960" y="95076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ауны и флоры различных островов также отличаются от материковых, причем, чем раньше была потеряна связь с материком и чем дальше они расположены друг от друга, тем больше разница между обитателями островов и матер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2.Особенности флоры и фауны островов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(Мадагаскар,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Галапагосские  остров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игуана"/>
          <p:cNvPicPr/>
          <p:nvPr/>
        </p:nvPicPr>
        <p:blipFill>
          <a:blip r:embed="rId1"/>
          <a:stretch/>
        </p:blipFill>
        <p:spPr>
          <a:xfrm>
            <a:off x="324000" y="1916280"/>
            <a:ext cx="2879640" cy="20890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44" name="Прямоугольник 12"/>
          <p:cNvSpPr/>
          <p:nvPr/>
        </p:nvSpPr>
        <p:spPr>
          <a:xfrm>
            <a:off x="3924360" y="1989000"/>
            <a:ext cx="49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Следы геологического единства Южной Америки, Африки, острова Мадагаскар сохраняются в современной фауне. Например, ящерицы-игуаны Мадагаскара и Южной Аме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3"/>
          <p:cNvSpPr/>
          <p:nvPr/>
        </p:nvSpPr>
        <p:spPr>
          <a:xfrm>
            <a:off x="971640" y="148428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Иг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2879640" cy="216036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7"/>
          <p:cNvSpPr/>
          <p:nvPr/>
        </p:nvSpPr>
        <p:spPr>
          <a:xfrm>
            <a:off x="250920" y="407664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Кошачий лем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4067280" y="4581360"/>
            <a:ext cx="48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Лемуры — семейство эндемичных приматов Мадагаскара, насчитывающее порядка 75 видов, включая 17 вымер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62120" y="2781360"/>
            <a:ext cx="4097160" cy="318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755640" y="23493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Слоновая черепа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384360" cy="523404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5076720" y="476280"/>
            <a:ext cx="35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алапагосский пинг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7"/>
          <p:cNvSpPr/>
          <p:nvPr/>
        </p:nvSpPr>
        <p:spPr>
          <a:xfrm>
            <a:off x="755640" y="189000"/>
            <a:ext cx="31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Голубоногая ол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928960" y="879480"/>
            <a:ext cx="59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пример, на Мадагаскаре нет высших обезьян, типичных для Африканского континента, но сохранились лемуры. Это объясняется появлением водной преграды между континентом и островом в то время, когда еще не было высших обезья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3"/>
          <a:stretch/>
        </p:blipFill>
        <p:spPr>
          <a:xfrm>
            <a:off x="14292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71680" y="1214280"/>
            <a:ext cx="82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чему эволюционная парадигма признана учеными всего ми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8760" y="2286000"/>
            <a:ext cx="8358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Географические закономерности распределения живых организмов  на Земле отражают состояние континентов, их  расположение в разные исторические периоды и являются убедительными доказательствами эволюции органического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9960" y="189000"/>
            <a:ext cx="81327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571680" y="1071720"/>
            <a:ext cx="814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иогеографические доказательства э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142920" y="3071880"/>
            <a:ext cx="8715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  <a:ea typeface="Arial"/>
              </a:rPr>
              <a:t>Ц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понять,  по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основе данных биогеографии убедиться в том, что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эволюционное учение признано учеными все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heImg" descr="@@94732"/>
          <p:cNvPicPr/>
          <p:nvPr/>
        </p:nvPicPr>
        <p:blipFill>
          <a:blip r:embed="rId1"/>
          <a:stretch/>
        </p:blipFill>
        <p:spPr>
          <a:xfrm>
            <a:off x="6215040" y="0"/>
            <a:ext cx="2786040" cy="185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14200" y="5072040"/>
            <a:ext cx="1428840" cy="159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571760" y="5243400"/>
            <a:ext cx="1450800" cy="16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toy04_15591bi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57680" y="5214960"/>
            <a:ext cx="1285560" cy="14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71524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адания на «3»:   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Ответить на вопросы: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 Что изучает биогеография? Назовите ученых – основоположников биогеографи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 Дайте определение понятию «биогеографическая область». По какому принципу ученые выделяют биографические области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3. Рассмотрите рис. 155. Какие биографические области выделяют ученые? Назовите местонахождения каждой из этих областей.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4. В чем причина сходства или различия флоры и фауны разных биогеографических областей? Приведите примеры, доказывающие сходство или различие различных биогеографических областей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5. Закончите предложение: к биогеографическим доказательствам эволюции органического мира относят _________________________________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000760" y="1049400"/>
            <a:ext cx="37432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ь Земли А.Уоллес разделил на шесть биогеографических обл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вропа, Северная Африка, Северная и Средняя Азия, Япо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у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евер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Эфиоп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фрика к югу от Сахар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ндо-Мала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Южная Азия и Малайский архипелаг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троп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Центральная и Южная Америк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й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4392720" cy="2806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Биогеографические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1"/>
          <a:stretch/>
        </p:blipFill>
        <p:spPr>
          <a:xfrm>
            <a:off x="298440" y="1123920"/>
            <a:ext cx="8416800" cy="537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785440" cy="2647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446040" y="13176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987640" y="81756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уна и флора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ал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еоарктическ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ей сходны, хотя и между ними находится Берингов пролив. Сходство объясняется тем, что в недалеком прошлом существовал сухопутный мост —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Берингов переше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и две области объединены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ларктическ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987640" y="88884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зличия в растительном и животном мире между Неоарктической и Неотропической областями объясняются тем, что Панамский перешеек появился недавно. Только немногие виды сумели проникнуть в Северную Америку (броненосец, опоссум) и из Северной Америки в Юж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4604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Данные био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987640" y="1000080"/>
            <a:ext cx="58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встралия отделилась от остальных материков более 100 млн. лет назад, тогда еще не было плацентарных животных, и изоляция сохранила примитивных яйцекладущих и сумчатых млекопит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743280" cy="321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2286000" cy="2663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"/>
          <p:cNvSpPr/>
          <p:nvPr/>
        </p:nvSpPr>
        <p:spPr>
          <a:xfrm>
            <a:off x="108000" y="28465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льфред Рассел Уоллес (1823-19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5040360" cy="321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2:00:01Z</dcterms:created>
  <dc:creator>Pimenov AV</dc:creator>
  <dc:description/>
  <dc:language>en-US</dc:language>
  <cp:lastModifiedBy> Пользователь</cp:lastModifiedBy>
  <dcterms:modified xsi:type="dcterms:W3CDTF">2012-11-16T03:14:36Z</dcterms:modified>
  <cp:revision>64</cp:revision>
  <dc:subject/>
  <dc:title>Тема: Доказательства эволюции</dc:title>
</cp:coreProperties>
</file>