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F700-77D8-469B-AB53-4B82B0C27E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3507-62DB-430A-90FD-58249CD12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1A8A-41A0-4B9F-AAF7-2FFA6ED263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BA5F-E5C2-4D1F-9CA1-D5774A072A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D7E2-3183-4E04-9902-9785FB15EB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C7A5-C19B-4838-A82B-6CB11A361B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7012-8130-402A-B13E-AA4D685F0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B3BD-68F5-4750-B3B9-463F987A51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5BAF-3FC4-44AA-AF31-02FFF1BE8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5943-E596-4982-B87F-A0AE7EEE86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6D7-4B42-42A5-A3C2-E62E6081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974-42E7-4E6F-B653-BD9AEAAB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E5B-3C2E-4DE6-A8E3-2DF3C136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727-D05C-49BA-B07B-2F1038EE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3835-36F0-4336-8CBF-067B78F5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2619-80AB-4819-83FB-D8B3C62E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2500-D106-48FE-9D2C-C193949C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54A5-0E38-4A6A-BA6D-0F096F09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4A9B-300F-4B2A-8E88-77408E1D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43B2-6DC4-4F77-93DB-28771F6B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A54A-AEE4-4CF4-AE9C-6CE08CB9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874-CA4F-478A-99FD-9B71A85F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86CF-D7CE-438F-8EBA-5CB17E81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7472-80DD-41FA-A801-5F9B5978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5CBC-EF90-4332-AA56-737BE452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919E-0421-4639-8AAD-180F4A63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EB82-5CC9-48E5-ABBC-50976707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402-8751-4D9C-9F51-CA064A78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1C5-8A9B-4656-92BD-F6F2DA7F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6DC-131B-4430-956C-2F3C070A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FF6-82D3-4EF5-BEB0-F1790D56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DBE-FF81-40D9-9F53-9A44584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5CC-ABE6-4C1E-8076-3157DB9C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173-0672-4799-B699-FD089B76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3A7E-4E36-4999-8E8A-226D8AC92BE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CC7A-F160-41AB-A43E-5A4E5ACBA1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0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24000" y="2276640"/>
            <a:ext cx="262404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ф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348000" y="2276640"/>
            <a:ext cx="222408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56360" y="2257560"/>
            <a:ext cx="273672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85880" y="3933720"/>
            <a:ext cx="3143160" cy="113040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геогра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6"/>
          <p:cNvCxnSpPr>
            <a:stCxn id="90" idx="0"/>
          </p:cNvCxnSpPr>
          <p:nvPr/>
        </p:nvCxnSpPr>
        <p:spPr>
          <a:xfrm flipV="1">
            <a:off x="4460040" y="2261880"/>
            <a:ext cx="30240" cy="15120"/>
          </a:xfrm>
          <a:prstGeom prst="straightConnector1">
            <a:avLst/>
          </a:prstGeom>
          <a:ln w="9360">
            <a:solidFill>
              <a:srgbClr val="808000"/>
            </a:solidFill>
            <a:miter/>
          </a:ln>
        </p:spPr>
      </p:cxnSp>
      <p:sp>
        <p:nvSpPr>
          <p:cNvPr id="94" name="Line 7"/>
          <p:cNvSpPr/>
          <p:nvPr/>
        </p:nvSpPr>
        <p:spPr>
          <a:xfrm>
            <a:off x="4486320" y="1300320"/>
            <a:ext cx="293688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743120" y="1300320"/>
            <a:ext cx="274320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486320" y="130032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560680" y="466560"/>
            <a:ext cx="3851280" cy="1283040"/>
          </a:xfrm>
          <a:prstGeom prst="rect">
            <a:avLst/>
          </a:prstGeom>
          <a:solidFill>
            <a:srgbClr val="d2be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5286240" y="3929040"/>
            <a:ext cx="3214800" cy="1143000"/>
          </a:xfrm>
          <a:prstGeom prst="rect">
            <a:avLst/>
          </a:prstGeom>
          <a:solidFill>
            <a:srgbClr val="a0a4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екулярно-ген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 flipH="1">
            <a:off x="314280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8"/>
          <p:cNvSpPr/>
          <p:nvPr/>
        </p:nvSpPr>
        <p:spPr>
          <a:xfrm>
            <a:off x="578556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928960" y="95076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ауны и флоры различных островов также отличаются от материковых, причем, чем раньше была потеряна связь с материком и чем дальше они расположены друг от друга, тем больше разница между обитателями островов и матер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2.Особенности флоры и фауны остров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(Мадагаскар,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Галапагосские  остров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игуана"/>
          <p:cNvPicPr/>
          <p:nvPr/>
        </p:nvPicPr>
        <p:blipFill>
          <a:blip r:embed="rId1"/>
          <a:stretch/>
        </p:blipFill>
        <p:spPr>
          <a:xfrm>
            <a:off x="324000" y="1916280"/>
            <a:ext cx="2879640" cy="2089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44" name="Прямоугольник 12"/>
          <p:cNvSpPr/>
          <p:nvPr/>
        </p:nvSpPr>
        <p:spPr>
          <a:xfrm>
            <a:off x="3924360" y="1989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леды геологического единства Южной Америки, Африки, острова Мадагаскар сохраняются в современной фауне. Например, ящерицы-игуаны Мадагаскара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3"/>
          <p:cNvSpPr/>
          <p:nvPr/>
        </p:nvSpPr>
        <p:spPr>
          <a:xfrm>
            <a:off x="971640" y="148428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г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2879640" cy="21603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250920" y="4076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шачий ле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4067280" y="458136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Лемуры — семейство эндемичных приматов Мадагаскара, насчитывающее порядка 75 видов, включая 17 вымер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62120" y="2781360"/>
            <a:ext cx="4097160" cy="318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755640" y="23493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Слоновая 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384360" cy="52340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5076720" y="47628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алапагос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755640" y="189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олубоногая ол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28960" y="87948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пример, на Мадагаскаре нет высших обезьян, типичных для Африканского континента, но сохранились лемуры. Это объясняется появлением водной преграды между континентом и островом в то время, когда еще не было высших обезь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3"/>
          <a:stretch/>
        </p:blipFill>
        <p:spPr>
          <a:xfrm>
            <a:off x="14292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71680" y="1214280"/>
            <a:ext cx="82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ему эволюционная парадигма признана учеными всего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8760" y="2286000"/>
            <a:ext cx="8358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Географические закономерности распределения живых организмов  на Земле отражают состояние континентов, их  расположение в разные исторические периоды и являются убедительными доказательствами эволюции органического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71680" y="1071720"/>
            <a:ext cx="814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иогеографические доказательства э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42920" y="3071880"/>
            <a:ext cx="8715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Ц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понять,  поч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убедиться в том, что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эволюционное учение признано учеными вс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heImg" descr="@@94732"/>
          <p:cNvPicPr/>
          <p:nvPr/>
        </p:nvPicPr>
        <p:blipFill>
          <a:blip r:embed="rId1"/>
          <a:stretch/>
        </p:blipFill>
        <p:spPr>
          <a:xfrm>
            <a:off x="6215040" y="0"/>
            <a:ext cx="2786040" cy="185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14200" y="5072040"/>
            <a:ext cx="1428840" cy="159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571760" y="5243400"/>
            <a:ext cx="1450800" cy="16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toy04_15591bi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57680" y="5214960"/>
            <a:ext cx="128556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7152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Задания на «3»:   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Ответить на вопросы: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 Что изучает биогеография? Назовите ученых – основоположников биогеографи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 Дайте определение понятию «биогеографическая область». По какому принципу ученые выделяют биографические области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3. Рассмотрите рис. 155. Какие биографические области выделяют ученые? Назовите местонахождения каждой из этих областей.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4. В чем причина сходства или различия флоры и фауны разных биогеографических областей? Приведите примеры, доказывающие сходство или различие различных биогеографических областей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5. Закончите предложение: к биогеографическим доказательствам эволюции органического мира относят _________________________________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000760" y="1049400"/>
            <a:ext cx="374328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ь Земли А.Уоллес разделил на шесть биогеографических обл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вропа, Северная Африка, Северная и Средняя Азия, Япо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евер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фиоп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фрика к югу от Сахар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до-Мала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Южная Азия и Малайский архипела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троп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Центральная и Юж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392720" cy="280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иогеографические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1"/>
          <a:stretch/>
        </p:blipFill>
        <p:spPr>
          <a:xfrm>
            <a:off x="298440" y="1123920"/>
            <a:ext cx="8416800" cy="537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785440" cy="2647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987640" y="81756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уна и флор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ей сходны, хотя и между ними находится Берингов пролив. Сходство объясняется тем, что в недалеком прошлом существовал сухопутный мост —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ерингов переше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 две области объединены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оларкт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987640" y="88884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личия в растительном и животном мире между Неоарктической и Неотропической областями объясняются тем, что Панамский перешеек появился недавно. Только немногие виды сумели проникнуть в Северную Америку (броненосец, опоссум) и из Северной Америки в Юж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987640" y="100008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я отделилась от остальных материков более 100 млн. лет назад, тогда еще не было плацентарных животных, и изоляция сохранила примитивных яйцекладущих и сумчатых млекопит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2:00:01Z</dcterms:created>
  <dc:creator>Pimenov AV</dc:creator>
  <dc:description/>
  <dc:language>en-US</dc:language>
  <cp:lastModifiedBy> Пользователь</cp:lastModifiedBy>
  <dcterms:modified xsi:type="dcterms:W3CDTF">2012-11-16T03:14:36Z</dcterms:modified>
  <cp:revision>64</cp:revision>
  <dc:subject/>
  <dc:title>Тема: Доказательства эволюции</dc:title>
</cp:coreProperties>
</file>