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53A7-F00A-486E-9315-6163AABF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04C5-4276-429B-9813-CDFFD6B9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48D5-DAAE-44CD-8A7F-0DCCFED8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A4D1-2BA3-4EE7-952E-A9EF6332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572E-2522-4FE7-B855-0EFC629B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307F-C1DF-40FE-844B-EC1C38F6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447F-7E7E-4E93-AAB8-101EE079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43CC-580A-440D-AE97-B25BE60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14BB-5C19-4089-AC37-F92564F0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186E-12A0-4A0E-B7DE-67C51108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4AA2-CE9E-478A-90CB-EA465CA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0DCC-C7F2-4F15-8859-7B2D6880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65FF-0FCB-4F92-BD33-87D1FFCD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C2E6-9D5A-44B5-A6E0-555B5A70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B2F9-E494-4A77-B08D-A81DCCE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397E-1040-4A3B-9A1E-9C817082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A19E-2D73-4A82-97D2-C1436A10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3569-C0A9-40E1-836B-AD51EDFF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47B4-2891-41BA-A09A-42847467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BCEF-CA05-41D5-BCA2-4970EC12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4D13-4828-47D9-B8FA-0B92A5D6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1209-49AC-44BA-B0BF-3001C8E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D32E-669F-4B6E-875B-045557C1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B3C1-2C29-4269-9BD4-E96B0818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B79A-238C-456C-B7D0-1867C39194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269E-4DBF-4B47-8631-5AD3919FE0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9636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АНТОН ПАВЛОВИЧ ЧЕХОВ</a:t>
            </a:r>
            <a:br>
              <a:rPr sz="5400"/>
            </a:b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                  (1860-1904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08440" cy="53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П. Чехов родился в 1860 году в городе Таганроге, в семье торгов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76 году отец Чехова разорился и переехал с семьей в Москву, а Антон остался. Он учился в гимназии. Писательский талант у Чехова открылся в гимн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 лет Чехов поступил на медицинский факультет Московского университета, после его окончания получил звание вр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туденческие годы Чехов начинает писать маленькие рассказы. Эти произведения приносят ему популяр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90-е годы произведения Чехова были известны не только в России, но и в других европейских стра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тема рассказов, повестей, пьес Чехова, - это жизнь обыкновенны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 театрах ставятся пьес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А.П. Чехо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Чайка» (1895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Дядя Ваня» (1896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Три сестры» (1901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Вишневый сад» (1903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ти произведения оказали огромное влияние на развитие мировой театральной драматургии ХХ ве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есной 1904 года здоровье Чехова ухудшилось. По совету врачей он отправляется на лечение в немецкий курортный город Баденвейлер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м он скончал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А.П. Чехов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–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семирно известный писател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настоящее время имя А.П. Чехова является одним из самых популярных в мировой литературе, а пьесы великого драматурга идут на сценах всех континен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6:35Z</dcterms:created>
  <dc:creator>Русинов Р.</dc:creator>
  <dc:description/>
  <dc:language>en-US</dc:language>
  <cp:lastModifiedBy>Русинов Р.</cp:lastModifiedBy>
  <dcterms:modified xsi:type="dcterms:W3CDTF">2012-12-04T16:10:34Z</dcterms:modified>
  <cp:revision>3</cp:revision>
  <dc:subject/>
  <dc:title>АНТОН ПАВЛОВИЧ ЧЕХОВ (1860-1904)</dc:title>
</cp:coreProperties>
</file>