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FAAD-6185-4463-891F-A200ADF0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2B706-431D-48D4-BA72-6BEF40E3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19AB0-76D9-47F4-A22B-A4E72DA3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D42D-5498-4E00-B18E-50D18B1F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63EA-B553-4762-9236-CE5521C8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2C32-88B9-4611-B1E5-129A2E25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8A09-01E8-46FA-97BD-A1F14FDB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01A0-1607-455F-880B-4AD5A9D0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6FB6-6EF1-4439-944B-17F8D214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5758-55BA-4A5F-8653-DCC0AE82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7107-84E5-420A-A97C-A7C99F09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2DC1F-1F81-41CE-AA9C-8592B79D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104E-8364-4ED8-959D-24C784A7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1B6D-156A-4AD6-8509-EC28A4A8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59BC-A3C0-4620-BA13-95BDDF2B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6781-DE02-427F-9D3E-31ED7993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9D8F-A109-4893-B951-8373ECC3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B36D0-8BE6-4022-8508-1B31A425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ED673-2CB4-474B-BDBC-52EB5217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66B30-3A83-4602-A60E-61AAEC9C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487E-210B-41F2-B253-7B059ED2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D0AA6-A081-45A6-92E1-4F3567A5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2CE4-64EA-4DC6-9F1F-70741CC9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E45B2-B6ED-4BB2-A9DC-3F08EE83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357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e51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A7F0-A3C9-4906-855A-867E8AF0CCE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357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e51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00CD-2BB7-49F7-BA3B-D40832DBA68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396360" y="3500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АНТОН ПАВЛОВИЧ ЧЕХОВ</a:t>
            </a:r>
            <a:br>
              <a:rPr sz="5400"/>
            </a:b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                  (1860-1904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3808440" cy="539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.П. Чехов родился в 1860 году в городе Таганроге, в семье торгов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876 году отец Чехова разорился и переехал с семьей в Москву, а Антон остался. Он учился в гимназии. Писательский талант у Чехова открылся в гимназ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9 лет Чехов поступил на медицинский факультет Московского университета, после его окончания получил звание врач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69228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студенческие годы Чехов начинает писать маленькие рассказы. Эти произведения приносят ему популяр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90-е годы произведения Чехова были известны не только в России, но и в других европейских стран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ная тема рассказов, повестей, пьес Чехова, - это жизнь обыкновенных люд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 театрах ставятся пьесы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А.П. Чехов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Чайка» (1895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Дядя Ваня» (1896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Три сестры» (1901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Вишневый сад» (1903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Эти произведения оказали огромное влияние на развитие мировой театральной драматургии ХХ ве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есной 1904 года здоровье Чехова ухудшилось. По совету врачей он отправляется на лечение в немецкий курортный город Баденвейлер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ам он скончал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А.П. Чехов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–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семирно известный писател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 настоящее время имя А.П. Чехова является одним из самых популярных в мировой литературе, а пьесы великого драматурга идут на сценах всех континент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4:46:35Z</dcterms:created>
  <dc:creator>Русинов Р.</dc:creator>
  <dc:description/>
  <dc:language>en-US</dc:language>
  <cp:lastModifiedBy>Русинов Р.</cp:lastModifiedBy>
  <dcterms:modified xsi:type="dcterms:W3CDTF">2012-12-04T16:10:34Z</dcterms:modified>
  <cp:revision>3</cp:revision>
  <dc:subject/>
  <dc:title>АНТОН ПАВЛОВИЧ ЧЕХОВ (1860-1904)</dc:title>
</cp:coreProperties>
</file>