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43BBB-B9A9-4D7F-BFB9-69CCBD77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02B40-726C-45D9-A1EC-942B7D58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7B89D-3569-420F-B5F7-2973A2CF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2EF8-C47B-4A25-8548-2605153E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7350-65EB-4F92-A6BF-99090F52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88EA-9F56-42BE-A5BE-8A4B6D01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4B4EB-CF0D-4414-98E4-530DB380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C28C-EF1E-4580-9223-129C7750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F103-A7A9-478D-A6E0-D440A4F5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9AC9-97DA-4E7B-83D4-90C7AC2A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24C5-F328-4D21-8060-484E5D70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9E2CF-178E-49F6-A6DF-86E793D5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595D-150E-46D1-B53E-83789FE6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7B8F-B871-4613-B27F-904F32189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4848-542A-4E17-9AC0-EA348C02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0BC8-4418-41C4-9473-9F1A909F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E1B6-66E2-4ACE-B3BC-35C809BF7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E1CAF-4F33-4031-9A52-D4801924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364C6-BCDB-495B-9221-A2B0278A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FC068-1E3C-4D29-BF72-F3B684AA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89DFE-8643-4670-ACCA-843A36A56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EF95A-1519-4126-9173-1AE0E20D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7EFD-92FC-43D5-996E-E7BF6AEF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FDDE0-E361-44D1-8DD7-DEE0BA00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9EF91-3E10-4312-ADA3-A973A22AF57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e617d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357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3e516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506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50000">
                  <a:srgbClr val="4d6487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5068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50688c"/>
                </a:gs>
                <a:gs pos="100000">
                  <a:srgbClr val="6e87a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95c79"/>
                </a:gs>
                <a:gs pos="100000">
                  <a:srgbClr val="4458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928D-F0E1-43A5-8AA3-4117B7EE30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396360" y="3500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АНТОН ПАВЛОВИЧ ЧЕХОВ</a:t>
            </a:r>
            <a:br>
              <a:rPr sz="5400"/>
            </a:b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                  (1860-1904)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3808440" cy="539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.П. Чехов родился в 1860 году в городе Таганроге, в семье торгов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876 году отец Чехова разорился и переехал с семьей в Москву, а Антон остался. Он учился в гимназии. Писательский талант у Чехова открылся в гимназ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19 лет Чехов поступил на медицинский факультет Московского университета, после его окончания получил звание вра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8713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студенческие годы Чехов начинает писать маленькие рассказы. Эти произведения приносят ему популяр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90-е годы произведения Чехова были известны не только в России, но и в других европейских стран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новная тема рассказов, повестей, пьес Чехова, - это жизнь обыкновенных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 театрах ставятся пьесы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А.П. Чехова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820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Чайка» (1895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Дядя Ваня» (1896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Три сестры» (1901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«Вишневый сад» (1903 г.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Эти произведения оказали огромное влияние на развитие мировой театральной драматургии ХХ век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есной 1904 года здоровье Чехова ухудшилось. По совету врачей он отправляется на лечение в немецкий курортный город Баденвейлер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м он скончалс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3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3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А.П. Чехов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–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всемирно известный писател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36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настоящее время имя А.П. Чехова является одним из самых популярных в мировой литературе, а пьесы великого драматурга идут на сценах всех континентов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3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14:46:35Z</dcterms:created>
  <dc:creator>Русинов Р.</dc:creator>
  <dc:description/>
  <dc:language>en-US</dc:language>
  <cp:lastModifiedBy>Русинов Р.</cp:lastModifiedBy>
  <dcterms:modified xsi:type="dcterms:W3CDTF">2012-12-04T16:10:34Z</dcterms:modified>
  <cp:revision>3</cp:revision>
  <dc:subject/>
  <dc:title>АНТОН ПАВЛОВИЧ ЧЕХОВ (1860-1904)</dc:title>
</cp:coreProperties>
</file>