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07FD0-78A5-4AC5-A29A-5E1652E7F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4055E-2B18-41C7-9419-D287BDFDF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D23E9-A14F-4579-B8ED-6E91227A5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E637D-F952-4655-8A38-C2905003C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B19CA-ED83-472D-AB71-007A57CB0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B4687-CABE-41CF-B298-EC1FA733A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59AD6-9A41-45F5-8F5E-C097008A2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D2F7E-720C-4253-AD77-D88266CC2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B9226-2DA0-4777-AACA-FC39108B5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7AE68-0C14-45C7-BE2E-6CD73D7A3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6763F-E318-4890-A546-ABD508A0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088C1-8627-42E9-BF90-C8259997A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99D13-C747-4A16-99A0-8F817856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8624F-D6CC-47A8-9483-2FDDE3B0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0A2A1-2B82-4078-BA89-9419A14D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4B66B-41A6-40AE-9107-AB8797272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CCC95-7733-4F1E-8C59-BF8DAB64E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1FC47-796C-4BAD-8D51-9E74CCD4E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734CF-1DBA-42D4-BA01-497B595A5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F1A61-FD26-4F37-886A-61B9C7881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FD0FB-F997-4B67-A89A-04E207D61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932D7-B965-458F-B746-D6603C07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C9B60-5D52-487D-999B-5C3F92CB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77798-36A1-44C0-B6AF-7704011B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e617d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e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35776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3e516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487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445876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487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4458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45876"/>
                </a:gs>
                <a:gs pos="50000">
                  <a:srgbClr val="495c79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AB396-CECD-449B-B4C4-A242A0BD4C6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e617d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e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35776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3e516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487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445876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487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4458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45876"/>
                </a:gs>
                <a:gs pos="50000">
                  <a:srgbClr val="495c79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CBEE6-A905-406D-AEB1-DCFBAECEAD8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9396360" y="3500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24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Tahoma"/>
              </a:rPr>
              <a:t>АНТОН ПАВЛОВИЧ ЧЕХОВ</a:t>
            </a:r>
            <a:br>
              <a:rPr sz="5400"/>
            </a:br>
            <a:r>
              <a:rPr b="0" i="1" lang="en-US" sz="5400" spc="-1" strike="noStrike">
                <a:solidFill>
                  <a:srgbClr val="ffffff"/>
                </a:solidFill>
                <a:latin typeface="Tahoma"/>
              </a:rPr>
              <a:t>                  (1860-1904)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24000" y="1268280"/>
            <a:ext cx="3808440" cy="539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64216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.П. Чехов родился в 1860 году в городе Таганроге, в семье торговц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1876 году отец Чехова разорился и переехал с семьей в Москву, а Антон остался. Он учился в гимназии. Писательский талант у Чехова открылся в гимназ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19 лет Чехов поступил на медицинский факультет Московского университета, после его окончания получил звание врач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78920" y="692280"/>
            <a:ext cx="87138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студенческие годы Чехов начинает писать маленькие рассказы. Эти произведения приносят ему популярнос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90-е годы произведения Чехова были известны не только в России, но и в других европейских страна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сновная тема рассказов, повестей, пьес Чехова, - это жизнь обыкновенных люд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В театрах ставятся пьесы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А.П. Чехов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8200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«Чайка» (1895 г.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100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«Дядя Ваня» (1896 г.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100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«Три сестры» (1901 г.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100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«Вишневый сад» (1903 г.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Эти произведения оказали огромное влияние на развитие мировой театральной драматургии ХХ век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3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3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3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3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3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есной 1904 года здоровье Чехова ухудшилось. По совету врачей он отправляется на лечение в немецкий курортный город Баденвейлер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Там он скончалс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3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3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3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3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3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6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А.П. Чехов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–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всемирно известный писатель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2332080"/>
            <a:ext cx="8229600" cy="36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В настоящее время имя А.П. Чехова является одним из самых популярных в мировой литературе, а пьесы великого драматурга идут на сценах всех континентов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3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4T14:46:35Z</dcterms:created>
  <dc:creator>Русинов Р.</dc:creator>
  <dc:description/>
  <dc:language>en-US</dc:language>
  <cp:lastModifiedBy>Русинов Р.</cp:lastModifiedBy>
  <dcterms:modified xsi:type="dcterms:W3CDTF">2012-12-04T16:10:34Z</dcterms:modified>
  <cp:revision>3</cp:revision>
  <dc:subject/>
  <dc:title>АНТОН ПАВЛОВИЧ ЧЕХОВ (1860-1904)</dc:title>
</cp:coreProperties>
</file>