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D61-11F8-4819-8ABB-109A919D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AE4-68F6-4FF6-B700-17A591E1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768-E221-4ADC-AA6E-6F239B46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DA8-7699-4B2E-A35D-3B6433BE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ED49-4842-4F49-915A-4379EB92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E37B-3D3A-464E-A932-DFC62E44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DBD1-BF0B-4C65-A278-F0FBADDA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D1D5-A653-4F26-A5D4-01996566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065D-7ADC-4E55-A2A0-49806552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930B-9C0C-48F8-AF6B-361D9821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24CD-B7C5-4238-8017-19BDA2DC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935-9A05-4DAD-BCC1-244CCCBD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8C2A-7C20-4593-9D59-5A854F72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0F0C-BE75-4276-A41C-3DEE84DE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1DF3-D05D-4E1F-B7E9-82360DAF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987A-9E0F-4E9D-ABCD-1518C7F8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3D42-3D11-4C02-A860-DBEAE225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CB5-3785-4D25-AC59-7BAD222E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95B-8BB5-4715-8FE1-5EA95FD9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F6F-E117-47EA-B7CA-138C741D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33A-5AF4-4B71-94CA-6FCA5B46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484-A5D3-4FDC-A72B-9552FA28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27D-B7EF-497B-96E8-9F7B1E9C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F5D-61CD-4D92-BEAE-02E24D13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C80A-7375-4830-A791-778799B11E8E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9425-12A1-4E50-94F6-1AC25587D058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ature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8840" y="857160"/>
            <a:ext cx="628632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85640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76100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553572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00120" y="1357200"/>
            <a:ext cx="55976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2484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429160" y="428760"/>
            <a:ext cx="2428920" cy="331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143000" y="357120"/>
            <a:ext cx="2641680" cy="33289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" descr=""/>
          <p:cNvPicPr/>
          <p:nvPr/>
        </p:nvPicPr>
        <p:blipFill>
          <a:blip r:embed="rId3"/>
          <a:stretch/>
        </p:blipFill>
        <p:spPr>
          <a:xfrm>
            <a:off x="712800" y="3767040"/>
            <a:ext cx="821844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</cp:lastModifiedBy>
  <dcterms:modified xsi:type="dcterms:W3CDTF">2012-12-03T14:04:07Z</dcterms:modified>
  <cp:revision>3</cp:revision>
  <dc:subject/>
  <dc:title>Слайд 1</dc:title>
</cp:coreProperties>
</file>