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9FC65-232F-4C81-9F15-1D6917E3A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c1ceeb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1ce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1ce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DB127-4CD1-4497-A956-CCF5278F8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c1ceeb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1ce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1ce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1ce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1ce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F595C-79D0-466C-9F53-8FBB40FBA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c1cee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1ce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1ce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1ce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1ce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1ce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1ce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DD25C-96C8-407A-82D7-40CE53758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21026-6F6F-4ADC-BFC7-2F47FDAF6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c1cee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1ce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79B35-BB00-4F89-B349-24069221C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c1ceeb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1ce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1B954-5916-4C85-8DFF-4DDAA53A0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c1cee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1ceeb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1ce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882A7-E508-432E-ABDD-F10648B53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c1cee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C1B0E-007E-4D96-99AF-C0335E81D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1ce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81E76-E81B-4352-B899-23D1609A1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c1cee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1ceeb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1ceeb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1ce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E7B5C-2C03-4785-ABD9-9F18CC698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c1ceeb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1ce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497D4-810E-4126-B7A2-88F70E036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c1cee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1ceeb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1ceeb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1ce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DCC2D-481A-4FDF-B65E-7AF9C64E5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c1cee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1ceeb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1ceeb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1ce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1605A-FA59-4061-96E4-A4E6E2053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c1cee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1ceeb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1ce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2E439-D974-48B1-96F7-EE228ADF7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c1cee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1ceeb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1ceeb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1ceeb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1ce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8A1D4-6A14-4549-BF53-E4320CC36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c1cee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1ceeb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1ceeb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1ceeb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1ceeb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1ceeb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1ce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C7D29-32E5-4DF2-8C41-736100CFD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c1cee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1ce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CEE82-5FAF-41C5-9892-7EA3C232C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c1cee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1ce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1ce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D1B11-B23C-4972-B7C2-D559A24BE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c1cee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50877-8D0B-4793-9B07-A07CF4BA1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1ce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FE8F2-5BA9-45AA-8FA3-A224B752C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c1ceeb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1ce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1ce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1ce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8F0F5-FA89-447D-9FF4-B6B18022D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c1ceeb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1ce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1ce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1ce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61820-7C76-4E88-AECD-2F1F1847A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c1ceeb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1ce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1ce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1ce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13F68-3568-430A-AC82-9FACFBF70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c1ceeb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c1cee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bdc9e6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1ceeb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c1ceeb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c1ceeb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1ceeb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c1ceeb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c1ceeb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1ceeb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c1ceeb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c1ceeb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1ceeb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c1ceeb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c1ceeb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1ceeb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c1ceeb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c1ceeb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1ceeb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c1ceeb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c1ceeb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1ceeb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c1ce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d97a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d97a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1ceeb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d97a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1B1C6-E580-4612-955D-FFCD80AB30F3}" type="slidenum">
              <a:rPr b="0" lang="ru-RU" sz="1200" spc="-1" strike="noStrike">
                <a:solidFill>
                  <a:srgbClr val="8d97a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c1ceeb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c1ceeb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bdc9e6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1ceeb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c1ceeb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c1ceeb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1ceeb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c1ceeb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c1ceeb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1ceeb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c1ceeb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c1ceeb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1ceeb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c1ceeb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c1ceeb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1ceeb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c1ceeb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c1ceeb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1ceeb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c1ceeb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c1ceeb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1ceeb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c1ceeb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d97a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d97a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1ceeb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d97a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8F32C-8AE4-4015-8332-25EE55A9A123}" type="slidenum">
              <a:rPr b="0" lang="ru-RU" sz="1200" spc="-1" strike="noStrike">
                <a:solidFill>
                  <a:srgbClr val="8d97a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Nature_1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"/>
          <p:cNvPicPr/>
          <p:nvPr/>
        </p:nvPicPr>
        <p:blipFill>
          <a:blip r:embed="rId1"/>
          <a:stretch/>
        </p:blipFill>
        <p:spPr>
          <a:xfrm>
            <a:off x="1428840" y="857160"/>
            <a:ext cx="6286320" cy="4191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"/>
          <p:cNvPicPr/>
          <p:nvPr/>
        </p:nvPicPr>
        <p:blipFill>
          <a:blip r:embed="rId1"/>
          <a:stretch/>
        </p:blipFill>
        <p:spPr>
          <a:xfrm>
            <a:off x="1857240" y="1214280"/>
            <a:ext cx="4856400" cy="3641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1857240" y="1214280"/>
            <a:ext cx="4761000" cy="3570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"/>
          <p:cNvPicPr/>
          <p:nvPr/>
        </p:nvPicPr>
        <p:blipFill>
          <a:blip r:embed="rId1"/>
          <a:stretch/>
        </p:blipFill>
        <p:spPr>
          <a:xfrm>
            <a:off x="1143000" y="1214280"/>
            <a:ext cx="5535720" cy="3641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"/>
          <p:cNvPicPr/>
          <p:nvPr/>
        </p:nvPicPr>
        <p:blipFill>
          <a:blip r:embed="rId1"/>
          <a:stretch/>
        </p:blipFill>
        <p:spPr>
          <a:xfrm>
            <a:off x="1500120" y="1357200"/>
            <a:ext cx="5597640" cy="3498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"/>
          <p:cNvPicPr/>
          <p:nvPr/>
        </p:nvPicPr>
        <p:blipFill>
          <a:blip r:embed="rId1"/>
          <a:stretch/>
        </p:blipFill>
        <p:spPr>
          <a:xfrm>
            <a:off x="1857240" y="1500120"/>
            <a:ext cx="5248440" cy="3498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"/>
          <p:cNvPicPr/>
          <p:nvPr/>
        </p:nvPicPr>
        <p:blipFill>
          <a:blip r:embed="rId1"/>
          <a:stretch/>
        </p:blipFill>
        <p:spPr>
          <a:xfrm>
            <a:off x="5429160" y="428760"/>
            <a:ext cx="2428920" cy="33145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3" descr=""/>
          <p:cNvPicPr/>
          <p:nvPr/>
        </p:nvPicPr>
        <p:blipFill>
          <a:blip r:embed="rId2"/>
          <a:stretch/>
        </p:blipFill>
        <p:spPr>
          <a:xfrm>
            <a:off x="1143000" y="357120"/>
            <a:ext cx="2641680" cy="3328920"/>
          </a:xfrm>
          <a:prstGeom prst="rect">
            <a:avLst/>
          </a:prstGeom>
          <a:ln w="0">
            <a:noFill/>
          </a:ln>
        </p:spPr>
      </p:pic>
      <p:pic>
        <p:nvPicPr>
          <p:cNvPr id="91" name="Прямоугольник 3" descr=""/>
          <p:cNvPicPr/>
          <p:nvPr/>
        </p:nvPicPr>
        <p:blipFill>
          <a:blip r:embed="rId3"/>
          <a:stretch/>
        </p:blipFill>
        <p:spPr>
          <a:xfrm>
            <a:off x="712800" y="3767040"/>
            <a:ext cx="8218440" cy="2511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ea</cp:lastModifiedBy>
  <dcterms:modified xsi:type="dcterms:W3CDTF">2012-12-03T14:04:07Z</dcterms:modified>
  <cp:revision>3</cp:revision>
  <dc:subject/>
  <dc:title>Слайд 1</dc:title>
</cp:coreProperties>
</file>