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D8D-D323-42C3-9DA7-4609F76F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F01-4AF4-4D06-8952-6B03092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1F0-D114-4E38-BB4F-DD1FC5D1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38B-6E8C-4F96-B3C3-6FC2DFC4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84C6-2CE3-468D-92FF-B879FBB2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F6ED-6D10-4D07-8E9F-51075308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6DB6-2168-4163-BA75-BCC46D83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4508-04E7-4E8A-BE1C-A07A7377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A145-167B-4697-8449-A3B74279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ED4D-B665-4418-AC12-AD591B28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E326-1A68-4585-BB35-7D1550EC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106-DB6A-4586-B2F7-EB0CCBA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1223-57E8-4E34-8F26-6E54D9F3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B530-87F5-43CF-B375-EEB3090E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9350-CD6F-43D8-ACD7-1B410EE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4CF1-133A-4C2D-B84E-4BD8EA32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A151-90AE-4834-9699-940368C9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27E-062A-447F-BE18-CBD5B559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29A-C633-4521-A035-F1CDF30F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AD5-FC35-47F0-BAB5-97CB518B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1D9-8D0E-481F-97EE-353B370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529-4642-417B-B46A-9940FC97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15E-52DB-45B2-982D-5210796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97C-5680-4500-B867-7063E782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D0A0-87C4-4F35-831D-A0FE5768881F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45C-61D1-4C47-8221-BE63F9AC9157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ature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8840" y="85716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85640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7610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553572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00120" y="1357200"/>
            <a:ext cx="55976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2484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429160" y="428760"/>
            <a:ext cx="2428920" cy="33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143000" y="357120"/>
            <a:ext cx="2641680" cy="33289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" descr=""/>
          <p:cNvPicPr/>
          <p:nvPr/>
        </p:nvPicPr>
        <p:blipFill>
          <a:blip r:embed="rId3"/>
          <a:stretch/>
        </p:blipFill>
        <p:spPr>
          <a:xfrm>
            <a:off x="712800" y="3767040"/>
            <a:ext cx="821844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</cp:lastModifiedBy>
  <dcterms:modified xsi:type="dcterms:W3CDTF">2012-12-03T14:04:07Z</dcterms:modified>
  <cp:revision>3</cp:revision>
  <dc:subject/>
  <dc:title>Слайд 1</dc:title>
</cp:coreProperties>
</file>