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E83-8630-4BDA-BC09-C80A55AF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D203-518D-48A3-8751-0461AD78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727-5029-4D94-BC64-E6D71A02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A71-348B-4475-9F2E-013C7B18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91AB-5692-4F3E-B1F7-9810DDDD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5E18-A214-4BEA-8FB8-3340F346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4E9B-B51F-478E-B74A-34DEEDB9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A946-2B28-4110-BA8F-CE03E9D1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5A33-D420-4463-8D82-96185D9F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4BCF-DAF5-4B20-AA5A-7F6D6E3C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EAC0-CEA1-4F5D-8A0D-27E9F571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2A0-9218-4EDA-B16C-9BD57FD7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3FFC-4AB4-461D-8D4E-818D05A6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BCBA-243E-4727-AEA0-D94252E6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D2D9-1909-4121-B8CB-3E3CD5F6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63EC-BB40-48E0-8098-2953488F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BBA4-B00B-415E-B296-E0D29287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3D7-619F-44C0-AFE8-6D98BDCB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3AD-C6E1-44EC-99B7-236CF8A9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9EC-0D89-416B-AEF4-73F82E03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03A-D53B-4F22-8DCB-556AD06E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81D-2A8A-4D3D-9B6F-EFA77DF2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CB1-0F00-429D-8A6E-02D5777A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B3A-8E29-4080-9200-9F0B4C22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32D6-1978-49D7-BFDA-A320D86480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6EFE-45E5-4716-B66E-FB58E8ED57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49.radikal.ru/i124/1112/e2/955cf79272a9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talogmineralov.ru/pic/194800131005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deal.by/240438_w640_h640_granite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rimamedia.ru/files/132059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УГОЛЬ"/>
          <p:cNvPicPr/>
          <p:nvPr/>
        </p:nvPicPr>
        <p:blipFill>
          <a:blip r:embed="rId2"/>
          <a:stretch/>
        </p:blipFill>
        <p:spPr>
          <a:xfrm>
            <a:off x="324000" y="981000"/>
            <a:ext cx="2303280" cy="291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СОЛЬ"/>
          <p:cNvPicPr/>
          <p:nvPr/>
        </p:nvPicPr>
        <p:blipFill>
          <a:blip r:embed="rId3"/>
          <a:stretch/>
        </p:blipFill>
        <p:spPr>
          <a:xfrm>
            <a:off x="6227640" y="4508640"/>
            <a:ext cx="2772000" cy="200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ГАЗ 1"/>
          <p:cNvPicPr/>
          <p:nvPr/>
        </p:nvPicPr>
        <p:blipFill>
          <a:blip r:embed="rId4"/>
          <a:stretch/>
        </p:blipFill>
        <p:spPr>
          <a:xfrm>
            <a:off x="3203640" y="4508640"/>
            <a:ext cx="2819160" cy="2027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ИЗВЕСТН 3"/>
          <p:cNvPicPr/>
          <p:nvPr/>
        </p:nvPicPr>
        <p:blipFill>
          <a:blip r:embed="rId5"/>
          <a:stretch/>
        </p:blipFill>
        <p:spPr>
          <a:xfrm>
            <a:off x="250920" y="4508640"/>
            <a:ext cx="2705040" cy="20192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4"/>
          <p:cNvSpPr txBox="1"/>
          <p:nvPr/>
        </p:nvSpPr>
        <p:spPr>
          <a:xfrm>
            <a:off x="3635280" y="476280"/>
            <a:ext cx="475308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ЗЕМНЫЕ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ГАТСТВА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Ювелир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лма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уб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лах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яш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4922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Program Files\Microsoft Office\Media\CntCD1\ClipArt2\j0232149.wmf"/>
          <p:cNvPicPr/>
          <p:nvPr/>
        </p:nvPicPr>
        <p:blipFill>
          <a:blip r:embed="rId2"/>
          <a:stretch/>
        </p:blipFill>
        <p:spPr>
          <a:xfrm>
            <a:off x="5724360" y="2852640"/>
            <a:ext cx="3240360" cy="3384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985680" y="463680"/>
            <a:ext cx="645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184560" y="2637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68360" y="1773360"/>
            <a:ext cx="59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готовь сообщение о то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полезные ископае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бывают в Пермском кра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общение представ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виде кроссвор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ли виктор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ФОН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ЖЕЛЕЗНАЯ РУДА"/>
          <p:cNvPicPr/>
          <p:nvPr/>
        </p:nvPicPr>
        <p:blipFill>
          <a:blip r:embed="rId2"/>
          <a:stretch/>
        </p:blipFill>
        <p:spPr>
          <a:xfrm>
            <a:off x="324000" y="260280"/>
            <a:ext cx="3168360" cy="2067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4140360" y="33336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ЖЕЛЕЗНА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РУ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99120" y="2732040"/>
            <a:ext cx="20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35520" y="3933720"/>
            <a:ext cx="301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919440" y="515772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213080" y="2637000"/>
            <a:ext cx="16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яжел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в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140000" y="4221000"/>
            <a:ext cx="45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изводство чугуна и ст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137480" y="5373720"/>
            <a:ext cx="34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 и закры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167480" y="260280"/>
            <a:ext cx="71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СПОСОБ ДОБЫЧИ ПОЛЕЗНЫХ ИСКОПАЕ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ДОБЫЧА ПЕСКА"/>
          <p:cNvPicPr/>
          <p:nvPr/>
        </p:nvPicPr>
        <p:blipFill>
          <a:blip r:embed="rId2"/>
          <a:stretch/>
        </p:blipFill>
        <p:spPr>
          <a:xfrm>
            <a:off x="611280" y="1052640"/>
            <a:ext cx="2857320" cy="27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ШАХТА 2"/>
          <p:cNvPicPr/>
          <p:nvPr/>
        </p:nvPicPr>
        <p:blipFill>
          <a:blip r:embed="rId3"/>
          <a:stretch/>
        </p:blipFill>
        <p:spPr>
          <a:xfrm>
            <a:off x="4788000" y="3213000"/>
            <a:ext cx="3384360" cy="2855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086120" y="4143240"/>
            <a:ext cx="21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ТКРЫТ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С ПОВЕРХНОСТИ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292720" y="2060640"/>
            <a:ext cx="2592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ЗАКРЫТ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(В ШАХ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ГРАНИТ 1"/>
          <p:cNvPicPr/>
          <p:nvPr/>
        </p:nvPicPr>
        <p:blipFill>
          <a:blip r:embed="rId2"/>
          <a:stretch/>
        </p:blipFill>
        <p:spPr>
          <a:xfrm>
            <a:off x="324000" y="333360"/>
            <a:ext cx="3168360" cy="1941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1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395280" y="2781360"/>
            <a:ext cx="314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611280" y="4076640"/>
            <a:ext cx="292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4419720" y="601560"/>
            <a:ext cx="323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ГРАНИ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1116000" y="5300640"/>
            <a:ext cx="164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4429800" y="2997360"/>
            <a:ext cx="18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4428360" y="4149720"/>
            <a:ext cx="258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ня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строитель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4426920" y="558972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УГОЛЬ"/>
          <p:cNvPicPr/>
          <p:nvPr/>
        </p:nvPicPr>
        <p:blipFill>
          <a:blip r:embed="rId2"/>
          <a:stretch/>
        </p:blipFill>
        <p:spPr>
          <a:xfrm>
            <a:off x="324000" y="189000"/>
            <a:ext cx="3097080" cy="2098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0"/>
          <p:cNvSpPr/>
          <p:nvPr/>
        </p:nvSpPr>
        <p:spPr>
          <a:xfrm>
            <a:off x="468360" y="2565360"/>
            <a:ext cx="30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468360" y="393372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3853440" y="333360"/>
            <a:ext cx="446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КАМЕННЫ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УГО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1135440" y="522936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998160" y="285264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рошо гор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911840" y="460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3924360" y="400536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пли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ырьё для хим.промышл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3921120" y="5516640"/>
            <a:ext cx="35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 и за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ФОН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1" descr="ИЗВЕСТНЯК 22"/>
          <p:cNvPicPr/>
          <p:nvPr/>
        </p:nvPicPr>
        <p:blipFill>
          <a:blip r:embed="rId2"/>
          <a:stretch/>
        </p:blipFill>
        <p:spPr>
          <a:xfrm>
            <a:off x="324000" y="189000"/>
            <a:ext cx="2927160" cy="2193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2"/>
          <p:cNvSpPr/>
          <p:nvPr/>
        </p:nvSpPr>
        <p:spPr>
          <a:xfrm>
            <a:off x="0" y="2852640"/>
            <a:ext cx="314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0" y="4221000"/>
            <a:ext cx="321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3644280" y="620640"/>
            <a:ext cx="483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ИЗВЕСТНЯ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703800" y="558972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279600" y="2924280"/>
            <a:ext cx="56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нее прочная разновидность – м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3275280" y="3933720"/>
            <a:ext cx="402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оитель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учают изве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л используют в школ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лают из него побел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3347280" y="580536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уд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Железная 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6370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оитель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ан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звестня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с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л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997360"/>
            <a:ext cx="428616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орючи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Уго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о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еф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родный га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360" y="1916280"/>
            <a:ext cx="4535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5:23:00Z</dcterms:created>
  <dc:creator>Егорычева</dc:creator>
  <dc:description/>
  <dc:language>en-US</dc:language>
  <cp:lastModifiedBy>Сергей</cp:lastModifiedBy>
  <dcterms:modified xsi:type="dcterms:W3CDTF">2012-12-05T00:39:40Z</dcterms:modified>
  <cp:revision>14</cp:revision>
  <dc:subject/>
  <dc:title>Слайд 1</dc:title>
</cp:coreProperties>
</file>