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693-B0FE-41FF-B9C9-B3255B7E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687-C763-46F6-A3C0-0538CF71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93C0-FC1F-4A49-B202-025DC314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182-B522-4DDA-8676-11C4DC31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CA9F-9A6E-4A56-93EA-EB4E4F4A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0B1C-6E1C-4051-AE08-931AA1B7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5F53-640E-493C-BFE1-69F6BA03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1973-E37A-4F7C-B95F-D661ED13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B369-12DA-4B3A-B168-3C442EC5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2C36-1F56-44E5-9925-472A41A2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FED3-0937-4E57-94F3-9C15F097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A83-7F60-4936-809E-949ADD20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50EC-E6A5-4283-B093-698F0AB0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048E-E033-44E0-87E1-3D3C2BF2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DB7D-3769-47C1-873A-58F8B181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709A-305D-43BD-B790-48A03168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60C1-B525-49FF-8C58-0D00A414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640-584D-4940-8C36-E342DEF1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1121-B355-46E2-A1F5-5A653C03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93A-29BC-4B0C-9D19-5126B6F0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60C-C3F4-4BF5-974B-B0D8B51A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F13-8942-46F2-8D04-49991336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94E0-5678-46FC-BD54-3EC4909C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E096-A0E8-4C38-9079-8CC73D24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EEEA-85D2-4582-8673-EB9D401909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1DCA-7F70-40E5-934F-27D6B805E9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49.radikal.ru/i124/1112/e2/955cf79272a9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atalogmineralov.ru/pic/194800131005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deal.by/240438_w640_h640_granite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rimamedia.ru/files/132059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УГОЛЬ"/>
          <p:cNvPicPr/>
          <p:nvPr/>
        </p:nvPicPr>
        <p:blipFill>
          <a:blip r:embed="rId2"/>
          <a:stretch/>
        </p:blipFill>
        <p:spPr>
          <a:xfrm>
            <a:off x="324000" y="981000"/>
            <a:ext cx="2303280" cy="2919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СОЛЬ"/>
          <p:cNvPicPr/>
          <p:nvPr/>
        </p:nvPicPr>
        <p:blipFill>
          <a:blip r:embed="rId3"/>
          <a:stretch/>
        </p:blipFill>
        <p:spPr>
          <a:xfrm>
            <a:off x="6227640" y="4508640"/>
            <a:ext cx="2772000" cy="200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ГАЗ 1"/>
          <p:cNvPicPr/>
          <p:nvPr/>
        </p:nvPicPr>
        <p:blipFill>
          <a:blip r:embed="rId4"/>
          <a:stretch/>
        </p:blipFill>
        <p:spPr>
          <a:xfrm>
            <a:off x="3203640" y="4508640"/>
            <a:ext cx="2819160" cy="2027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ИЗВЕСТН 3"/>
          <p:cNvPicPr/>
          <p:nvPr/>
        </p:nvPicPr>
        <p:blipFill>
          <a:blip r:embed="rId5"/>
          <a:stretch/>
        </p:blipFill>
        <p:spPr>
          <a:xfrm>
            <a:off x="250920" y="4508640"/>
            <a:ext cx="2705040" cy="2019240"/>
          </a:xfrm>
          <a:prstGeom prst="rect">
            <a:avLst/>
          </a:prstGeom>
          <a:ln w="0">
            <a:noFill/>
          </a:ln>
        </p:spPr>
      </p:pic>
      <p:sp>
        <p:nvSpPr>
          <p:cNvPr id="102" name="WordArt 14"/>
          <p:cNvSpPr txBox="1"/>
          <p:nvPr/>
        </p:nvSpPr>
        <p:spPr>
          <a:xfrm>
            <a:off x="3635280" y="476280"/>
            <a:ext cx="475308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ЗЕМНЫЕ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ГАТСТВА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Ювелирны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алма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уб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алах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яш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4922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0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Program Files\Microsoft Office\Media\CntCD1\ClipArt2\j0232149.wmf"/>
          <p:cNvPicPr/>
          <p:nvPr/>
        </p:nvPicPr>
        <p:blipFill>
          <a:blip r:embed="rId2"/>
          <a:stretch/>
        </p:blipFill>
        <p:spPr>
          <a:xfrm>
            <a:off x="5724360" y="2852640"/>
            <a:ext cx="3240360" cy="3384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985680" y="463680"/>
            <a:ext cx="645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184560" y="2637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468360" y="1773360"/>
            <a:ext cx="59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готовь сообщение о то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полезные ископае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бывают в Пермском кра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общение представ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виде кроссвор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ли виктор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ФОН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ЖЕЛЕЗНАЯ РУДА"/>
          <p:cNvPicPr/>
          <p:nvPr/>
        </p:nvPicPr>
        <p:blipFill>
          <a:blip r:embed="rId2"/>
          <a:stretch/>
        </p:blipFill>
        <p:spPr>
          <a:xfrm>
            <a:off x="324000" y="260280"/>
            <a:ext cx="3168360" cy="2067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4140360" y="33336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ЖЕЛЕЗНА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РУ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99120" y="2732040"/>
            <a:ext cx="207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35520" y="3933720"/>
            <a:ext cx="301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919440" y="5157720"/>
            <a:ext cx="174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213080" y="2637000"/>
            <a:ext cx="160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яжел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ч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авк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4140000" y="4221000"/>
            <a:ext cx="45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изводство чугуна и ст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4137480" y="5373720"/>
            <a:ext cx="34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 и закрыт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167480" y="260280"/>
            <a:ext cx="71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СПОСОБ ДОБЫЧИ ПОЛЕЗНЫХ ИСКОПАЕМ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ДОБЫЧА ПЕСКА"/>
          <p:cNvPicPr/>
          <p:nvPr/>
        </p:nvPicPr>
        <p:blipFill>
          <a:blip r:embed="rId2"/>
          <a:stretch/>
        </p:blipFill>
        <p:spPr>
          <a:xfrm>
            <a:off x="611280" y="1052640"/>
            <a:ext cx="2857320" cy="2771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ШАХТА 2"/>
          <p:cNvPicPr/>
          <p:nvPr/>
        </p:nvPicPr>
        <p:blipFill>
          <a:blip r:embed="rId3"/>
          <a:stretch/>
        </p:blipFill>
        <p:spPr>
          <a:xfrm>
            <a:off x="4788000" y="3213000"/>
            <a:ext cx="3384360" cy="2855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1086120" y="4143240"/>
            <a:ext cx="216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ОТКРЫТ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С ПОВЕРХНОСТИ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292720" y="2060640"/>
            <a:ext cx="2592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ЗАКРЫТ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(В ШАХТА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9" descr="ГРАНИТ 1"/>
          <p:cNvPicPr/>
          <p:nvPr/>
        </p:nvPicPr>
        <p:blipFill>
          <a:blip r:embed="rId2"/>
          <a:stretch/>
        </p:blipFill>
        <p:spPr>
          <a:xfrm>
            <a:off x="324000" y="333360"/>
            <a:ext cx="3168360" cy="19414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1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395280" y="2781360"/>
            <a:ext cx="314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611280" y="4076640"/>
            <a:ext cx="292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4419720" y="601560"/>
            <a:ext cx="323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ГРАНИ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1116000" y="5300640"/>
            <a:ext cx="164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4429800" y="2997360"/>
            <a:ext cx="18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ч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4428360" y="4149720"/>
            <a:ext cx="258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меня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строитель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4426920" y="558972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УГОЛЬ"/>
          <p:cNvPicPr/>
          <p:nvPr/>
        </p:nvPicPr>
        <p:blipFill>
          <a:blip r:embed="rId2"/>
          <a:stretch/>
        </p:blipFill>
        <p:spPr>
          <a:xfrm>
            <a:off x="324000" y="189000"/>
            <a:ext cx="3097080" cy="2098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0"/>
          <p:cNvSpPr/>
          <p:nvPr/>
        </p:nvSpPr>
        <p:spPr>
          <a:xfrm>
            <a:off x="468360" y="2565360"/>
            <a:ext cx="307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468360" y="3933720"/>
            <a:ext cx="307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3853440" y="333360"/>
            <a:ext cx="446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КАМЕННЫЙ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УГО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1135440" y="5229360"/>
            <a:ext cx="174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998160" y="285264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орошо гор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4911840" y="460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3924360" y="400536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пли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ырьё для хим.промышл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3921120" y="5516640"/>
            <a:ext cx="35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 и закрыт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ФОН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1" descr="ИЗВЕСТНЯК 22"/>
          <p:cNvPicPr/>
          <p:nvPr/>
        </p:nvPicPr>
        <p:blipFill>
          <a:blip r:embed="rId2"/>
          <a:stretch/>
        </p:blipFill>
        <p:spPr>
          <a:xfrm>
            <a:off x="324000" y="189000"/>
            <a:ext cx="2927160" cy="2193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2"/>
          <p:cNvSpPr/>
          <p:nvPr/>
        </p:nvSpPr>
        <p:spPr>
          <a:xfrm>
            <a:off x="0" y="2852640"/>
            <a:ext cx="314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0" y="4221000"/>
            <a:ext cx="321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3644280" y="620640"/>
            <a:ext cx="483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ИЗВЕСТНЯ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703800" y="5589720"/>
            <a:ext cx="174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3279600" y="2924280"/>
            <a:ext cx="56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ч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нее прочная разновидность – м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3275280" y="3933720"/>
            <a:ext cx="402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оитель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лучают изве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л используют в школ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лают из него побел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3347280" y="580536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удны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Железная 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6370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роительны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ран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звестня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ес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ли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997360"/>
            <a:ext cx="428616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орючи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Уго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ор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еф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родный га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0360" y="1916280"/>
            <a:ext cx="45352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5:23:00Z</dcterms:created>
  <dc:creator>Егорычева</dc:creator>
  <dc:description/>
  <dc:language>en-US</dc:language>
  <cp:lastModifiedBy>Сергей</cp:lastModifiedBy>
  <dcterms:modified xsi:type="dcterms:W3CDTF">2012-12-05T00:39:40Z</dcterms:modified>
  <cp:revision>14</cp:revision>
  <dc:subject/>
  <dc:title>Слайд 1</dc:title>
</cp:coreProperties>
</file>