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194-CD08-4656-8DD8-2088A99C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90E-2F34-4828-8110-495FD54B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291-7492-443D-94B4-0E969D5A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588-B753-4FD0-A079-44356B12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DE92-0EF2-4236-9EFD-7D3BD079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2167-01F9-4F6D-B451-5F0E81B8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84FE-D0AA-4E22-8981-A75F05B9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27C7-CAE9-4765-BBCB-56B6C7B7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4D73-3E91-47D3-90F8-3541ADBF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B3A8-DCB2-4786-9E6D-34CF751A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C285-1A76-4DEB-B68B-1F905A3D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4C1-F8E9-4FDC-82A7-F33665A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3E64-F715-4C88-B6E0-6154C56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F58F-BB45-49D4-ACB9-0FD1294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7316-97A4-4FFA-B2FC-00E3633B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E2AD-297A-4D8F-8028-A4F87A2E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C32-1E53-4ABF-89B6-4A5E2B85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BB7-FCF2-488D-A7AE-917C4B7C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AB1-F7C2-47AD-8937-FCEB0DA0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A6A-273E-47F4-BA77-44468238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305-737C-4122-99B3-E988D2A5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CAF-B5FF-40E7-98D2-E112030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20F-5DDB-47DB-8E2F-BF5CEDC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351-5968-46D5-8B8D-1A67E5D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4C8-C8A2-4230-8A68-0A08A7367A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A85C-7F49-47C6-8912-CB804DC6C8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49.radikal.ru/i124/1112/e2/955cf79272a9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talogmineralov.ru/pic/19480013100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deal.by/240438_w640_h640_granit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imamedia.ru/files/132059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УГОЛЬ"/>
          <p:cNvPicPr/>
          <p:nvPr/>
        </p:nvPicPr>
        <p:blipFill>
          <a:blip r:embed="rId2"/>
          <a:stretch/>
        </p:blipFill>
        <p:spPr>
          <a:xfrm>
            <a:off x="324000" y="981000"/>
            <a:ext cx="23032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СОЛЬ"/>
          <p:cNvPicPr/>
          <p:nvPr/>
        </p:nvPicPr>
        <p:blipFill>
          <a:blip r:embed="rId3"/>
          <a:stretch/>
        </p:blipFill>
        <p:spPr>
          <a:xfrm>
            <a:off x="6227640" y="4508640"/>
            <a:ext cx="2772000" cy="20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ГАЗ 1"/>
          <p:cNvPicPr/>
          <p:nvPr/>
        </p:nvPicPr>
        <p:blipFill>
          <a:blip r:embed="rId4"/>
          <a:stretch/>
        </p:blipFill>
        <p:spPr>
          <a:xfrm>
            <a:off x="3203640" y="4508640"/>
            <a:ext cx="2819160" cy="202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ИЗВЕСТН 3"/>
          <p:cNvPicPr/>
          <p:nvPr/>
        </p:nvPicPr>
        <p:blipFill>
          <a:blip r:embed="rId5"/>
          <a:stretch/>
        </p:blipFill>
        <p:spPr>
          <a:xfrm>
            <a:off x="250920" y="4508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4"/>
          <p:cNvSpPr txBox="1"/>
          <p:nvPr/>
        </p:nvSpPr>
        <p:spPr>
          <a:xfrm>
            <a:off x="3635280" y="476280"/>
            <a:ext cx="4753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ГАТСТВ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Ювелир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м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б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лах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яш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492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Program Files\Microsoft Office\Media\CntCD1\ClipArt2\j0232149.wmf"/>
          <p:cNvPicPr/>
          <p:nvPr/>
        </p:nvPicPr>
        <p:blipFill>
          <a:blip r:embed="rId2"/>
          <a:stretch/>
        </p:blipFill>
        <p:spPr>
          <a:xfrm>
            <a:off x="5724360" y="2852640"/>
            <a:ext cx="3240360" cy="3384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985680" y="46368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184560" y="2637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68360" y="1773360"/>
            <a:ext cx="59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ь сообщение о то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лезные ископае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ывают в Пермском кра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щение предста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иде кроссво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ли виктор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ЖЕЛЕЗНАЯ РУДА"/>
          <p:cNvPicPr/>
          <p:nvPr/>
        </p:nvPicPr>
        <p:blipFill>
          <a:blip r:embed="rId2"/>
          <a:stretch/>
        </p:blipFill>
        <p:spPr>
          <a:xfrm>
            <a:off x="324000" y="260280"/>
            <a:ext cx="3168360" cy="206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14036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ЖЕЛЕЗН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РУ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99120" y="2732040"/>
            <a:ext cx="20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5520" y="3933720"/>
            <a:ext cx="30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919440" y="5157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3080" y="2637000"/>
            <a:ext cx="16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яжел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в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140000" y="4221000"/>
            <a:ext cx="45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одство чугуна и с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137480" y="5373720"/>
            <a:ext cx="34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67480" y="26028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СПОСОБ ДОБЫЧ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ДОБЫЧА ПЕСКА"/>
          <p:cNvPicPr/>
          <p:nvPr/>
        </p:nvPicPr>
        <p:blipFill>
          <a:blip r:embed="rId2"/>
          <a:stretch/>
        </p:blipFill>
        <p:spPr>
          <a:xfrm>
            <a:off x="611280" y="1052640"/>
            <a:ext cx="285732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ШАХТА 2"/>
          <p:cNvPicPr/>
          <p:nvPr/>
        </p:nvPicPr>
        <p:blipFill>
          <a:blip r:embed="rId3"/>
          <a:stretch/>
        </p:blipFill>
        <p:spPr>
          <a:xfrm>
            <a:off x="4788000" y="3213000"/>
            <a:ext cx="3384360" cy="2855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086120" y="4143240"/>
            <a:ext cx="21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ТКРЫТ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С ПОВЕРХН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92720" y="2060640"/>
            <a:ext cx="2592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КРЫ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(В ШАХ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ГРАНИТ 1"/>
          <p:cNvPicPr/>
          <p:nvPr/>
        </p:nvPicPr>
        <p:blipFill>
          <a:blip r:embed="rId2"/>
          <a:stretch/>
        </p:blipFill>
        <p:spPr>
          <a:xfrm>
            <a:off x="324000" y="333360"/>
            <a:ext cx="3168360" cy="194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395280" y="278136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11280" y="4076640"/>
            <a:ext cx="29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4419720" y="601560"/>
            <a:ext cx="323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ГРАНИ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116000" y="5300640"/>
            <a:ext cx="164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429800" y="2997360"/>
            <a:ext cx="18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428360" y="4149720"/>
            <a:ext cx="25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ня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троите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426920" y="558972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УГОЛЬ"/>
          <p:cNvPicPr/>
          <p:nvPr/>
        </p:nvPicPr>
        <p:blipFill>
          <a:blip r:embed="rId2"/>
          <a:stretch/>
        </p:blipFill>
        <p:spPr>
          <a:xfrm>
            <a:off x="324000" y="189000"/>
            <a:ext cx="3097080" cy="2098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0"/>
          <p:cNvSpPr/>
          <p:nvPr/>
        </p:nvSpPr>
        <p:spPr>
          <a:xfrm>
            <a:off x="468360" y="256536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68360" y="393372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53440" y="333360"/>
            <a:ext cx="44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КАМЕН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УГО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1135440" y="522936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998160" y="285264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о гор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911840" y="460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3924360" y="4005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пли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рьё для хим.промыш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3921120" y="5516640"/>
            <a:ext cx="35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ИЗВЕСТНЯК 22"/>
          <p:cNvPicPr/>
          <p:nvPr/>
        </p:nvPicPr>
        <p:blipFill>
          <a:blip r:embed="rId2"/>
          <a:stretch/>
        </p:blipFill>
        <p:spPr>
          <a:xfrm>
            <a:off x="324000" y="189000"/>
            <a:ext cx="2927160" cy="2193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2"/>
          <p:cNvSpPr/>
          <p:nvPr/>
        </p:nvSpPr>
        <p:spPr>
          <a:xfrm>
            <a:off x="0" y="285264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4221000"/>
            <a:ext cx="32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3644280" y="620640"/>
            <a:ext cx="483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ИЗВЕСТНЯ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703800" y="5589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279600" y="2924280"/>
            <a:ext cx="56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нее прочная разновидность – м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275280" y="3933720"/>
            <a:ext cx="402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учают изв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л используют в шко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ают из него побел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3347280" y="58053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д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елезная 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итель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вестня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с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997360"/>
            <a:ext cx="428616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рючи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ф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родный г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916280"/>
            <a:ext cx="4535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5:23:00Z</dcterms:created>
  <dc:creator>Егорычева</dc:creator>
  <dc:description/>
  <dc:language>en-US</dc:language>
  <cp:lastModifiedBy>Сергей</cp:lastModifiedBy>
  <dcterms:modified xsi:type="dcterms:W3CDTF">2012-12-05T00:39:40Z</dcterms:modified>
  <cp:revision>14</cp:revision>
  <dc:subject/>
  <dc:title>Слайд 1</dc:title>
</cp:coreProperties>
</file>