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EECE-04B4-46AE-8BAA-BCAE26D83A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A8C5-83D0-4F13-8753-4F76CED04C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5CC4-4F6F-4A3A-BF42-B15B5F6B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1BE9-0801-44CE-8DDC-2D1C2014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D3AC-E95C-4C8F-9E5A-935409A33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6D61-2D88-4691-8AB7-49891867B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05AE-B632-4223-A8B6-B57FAEFA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77D5-ABD5-45FD-A908-5EE1A366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F92C-ADB1-486A-81A2-ACDB9224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160B-B85E-429C-AB24-7F825EA4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C8B1-264C-44D4-992E-0BE75CE3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791C-3C50-48E3-8352-22278FBD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C51A-F0BD-4323-9E53-C4AE2E55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A914-AC8C-4BA9-9110-5A08348F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852D-D488-4716-BEC5-3227A8FA98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5334120" y="29887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1295280" y="1219320"/>
            <a:ext cx="5867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4495680" y="129528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066320"/>
            <a:ext cx="84582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1a1a4e"/>
                </a:solidFill>
                <a:latin typeface="Arial"/>
              </a:rPr>
              <a:t>Решение задач по теме «Энергетический обмен в клетке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9"/>
          <p:cNvSpPr/>
          <p:nvPr/>
        </p:nvSpPr>
        <p:spPr>
          <a:xfrm>
            <a:off x="304920" y="3962520"/>
            <a:ext cx="853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a1a4e"/>
                </a:solidFill>
                <a:latin typeface="Arial"/>
              </a:rPr>
              <a:t>Цели урока</a:t>
            </a:r>
            <a:r>
              <a:rPr b="0" lang="ru-RU" sz="2400" spc="-1" strike="noStrike">
                <a:solidFill>
                  <a:srgbClr val="1a1a4e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тизировать  знания об обмене веществ и превращении энерг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иться применять знания об обмене веществ и превращении энергии  при решении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икл Кребс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0" y="571500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ацетил-КоА    4СО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+ 2АТФ+6НАД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+2ФАД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76960" cy="4483080"/>
          </a:xfrm>
          <a:prstGeom prst="rect">
            <a:avLst/>
          </a:prstGeom>
          <a:ln w="0">
            <a:noFill/>
          </a:ln>
        </p:spPr>
      </p:pic>
      <p:sp>
        <p:nvSpPr>
          <p:cNvPr id="89" name="Стрелка вправо 5"/>
          <p:cNvSpPr/>
          <p:nvPr/>
        </p:nvSpPr>
        <p:spPr>
          <a:xfrm>
            <a:off x="2743200" y="5943600"/>
            <a:ext cx="228600" cy="4608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9900"/>
                </a:solidFill>
                <a:latin typeface="Arial"/>
              </a:rPr>
              <a:t>Выделение энергии: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2600 кДж  - на 2 моля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2590560" y="3048120"/>
            <a:ext cx="11430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5334120" y="3048120"/>
            <a:ext cx="11430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1828800" y="42670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5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1143000" y="4952880"/>
            <a:ext cx="358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ссеивается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виде теп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5029560" y="4876920"/>
            <a:ext cx="302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берег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виде АТ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5943600" y="4191120"/>
            <a:ext cx="1219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5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9900"/>
                </a:solidFill>
                <a:latin typeface="Arial"/>
              </a:rPr>
              <a:t>Кислородное расщепление: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+ 6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+ 36АДФ+36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С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+6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 + 36АТФ+36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590400"/>
            <a:ext cx="813924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9900"/>
                </a:solidFill>
                <a:latin typeface="Arial"/>
              </a:rPr>
              <a:t>Суммарное уравнение:</a:t>
            </a:r>
            <a:br>
              <a:rPr sz="5100"/>
            </a:b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06720" y="1600200"/>
            <a:ext cx="86158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+6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+38АДФ+38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143000" y="2819520"/>
            <a:ext cx="680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6С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+ 38АТФ + 44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838080" y="38098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190440"/>
            <a:ext cx="85345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кисление ПВК при  аэробном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ыхании происходит 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хлоропластах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цитоплазме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матриксе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митохондриях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7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7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упенчатость окисления глюкозы позволя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Получить больше энергии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Предохранить клетку от перегрева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Экономнее расходовать кислород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92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Сократить количество получаемой энергии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0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590400"/>
            <a:ext cx="813924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9900"/>
                </a:solidFill>
                <a:latin typeface="Arial"/>
              </a:rPr>
              <a:t>Суммарное уравнение:</a:t>
            </a:r>
            <a:br>
              <a:rPr sz="5100"/>
            </a:b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06720" y="1600200"/>
            <a:ext cx="86158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+6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+38АДФ+38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1143000" y="2438280"/>
            <a:ext cx="680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6С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+ 38АТФ + 44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4"/>
          <p:cNvSpPr/>
          <p:nvPr/>
        </p:nvSpPr>
        <p:spPr>
          <a:xfrm>
            <a:off x="838080" y="3809880"/>
            <a:ext cx="8001000" cy="18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ликоли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+ 2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 2АДФ + НАД      2С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+ 2АТФ +2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 + НАД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нтез АТФ в процессе гликолиза не нуждается в мембранах. Он идёт в пробирке , если имеются все необходимые субстраты и фермен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ля осуществления кислородного процесса необходимо наличие неповреждённых митохондриальных мембра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сщепление в клетке 1 молекулы глюкозы до С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и 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 обеспечивает синтез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38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молекул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АТ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1a1a4e"/>
                </a:solidFill>
                <a:latin typeface="Arial"/>
              </a:rPr>
              <a:t> </a:t>
            </a:r>
            <a:r>
              <a:rPr b="1" lang="ru-RU" sz="5500" spc="-1" strike="noStrike">
                <a:solidFill>
                  <a:srgbClr val="1a1a4e"/>
                </a:solidFill>
                <a:latin typeface="Arial"/>
              </a:rPr>
              <a:t>Метаболизм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 flipH="1" flipV="1">
            <a:off x="364680" y="5105160"/>
            <a:ext cx="18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650480" y="5333040"/>
            <a:ext cx="32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 flipH="1">
            <a:off x="2286000" y="1371600"/>
            <a:ext cx="1371600" cy="1295280"/>
          </a:xfrm>
          <a:prstGeom prst="line">
            <a:avLst/>
          </a:prstGeom>
          <a:ln w="38160">
            <a:solidFill>
              <a:srgbClr val="2c2c8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4876920" y="1371600"/>
            <a:ext cx="1218960" cy="1371600"/>
          </a:xfrm>
          <a:prstGeom prst="line">
            <a:avLst/>
          </a:prstGeom>
          <a:ln w="38160">
            <a:solidFill>
              <a:srgbClr val="2c2c8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09480" y="3352680"/>
            <a:ext cx="358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a1a4e"/>
                </a:solidFill>
                <a:latin typeface="Arial"/>
              </a:rPr>
              <a:t>Пластический обм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990720" y="44197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ссимиля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990720" y="274320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_Анаболизм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4800600" y="3352680"/>
            <a:ext cx="4572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a1a4e"/>
                </a:solidFill>
                <a:latin typeface="Arial"/>
              </a:rPr>
              <a:t>Энергетиче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a1a4e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1a1a4e"/>
                </a:solidFill>
                <a:latin typeface="Arial"/>
              </a:rPr>
              <a:t>обм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4876920" y="441972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иссимиляция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4800600" y="28195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табол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5"/>
          <p:cNvSpPr txBox="1"/>
          <p:nvPr/>
        </p:nvSpPr>
        <p:spPr>
          <a:xfrm>
            <a:off x="990720" y="1447920"/>
            <a:ext cx="77724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 вним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тапы энергетического обмен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1. Подготовитель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2. Бескислород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3. Кислородное расщеп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9900"/>
                </a:solidFill>
                <a:latin typeface="Arial"/>
              </a:rPr>
              <a:t>Гликолиз: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80880" y="1803240"/>
            <a:ext cx="8534520" cy="29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+ 2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+ 2АДФ + НАД      2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+ 2АТФ +2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 + НАДН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право 11"/>
          <p:cNvSpPr/>
          <p:nvPr/>
        </p:nvSpPr>
        <p:spPr>
          <a:xfrm>
            <a:off x="1981080" y="2819520"/>
            <a:ext cx="4572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Энергия 200кд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33520" y="2590920"/>
            <a:ext cx="365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0%  выделяется  в   виде теп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4876920" y="2895480"/>
            <a:ext cx="3809880" cy="14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0%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дет на синте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Т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 flipH="1">
            <a:off x="2361960" y="1295280"/>
            <a:ext cx="144756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>
            <a:off x="4876920" y="1295280"/>
            <a:ext cx="167616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первом этапе своего расщепления глюкоз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окисляется до углекислого газа и 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не изменя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подвергается брож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расщепляется до двух трёхуглеродных   молеку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7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"/>
          <p:cNvSpPr/>
          <p:nvPr/>
        </p:nvSpPr>
        <p:spPr>
          <a:xfrm>
            <a:off x="609480" y="45720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молекул глюкозы необходимо расщепить без участия кислорода, чтобы получить 12 молекул АТФ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203480" y="2763720"/>
            <a:ext cx="2759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)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)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)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) 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9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9900"/>
                </a:solidFill>
                <a:latin typeface="Arial"/>
              </a:rPr>
              <a:t>Стадии аэробного дыхания: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677960"/>
            <a:ext cx="800244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) Декарбоксил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) Цикл Креб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) Электронтранспортная цеп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карбоксил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+ 2КоА  + 2НА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С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+ 2Ацетил-КоА + 2НАД*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7467480" y="472428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4"/>
          <p:cNvSpPr/>
          <p:nvPr/>
        </p:nvSpPr>
        <p:spPr>
          <a:xfrm>
            <a:off x="609480" y="1371600"/>
            <a:ext cx="7543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2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2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юкоза                    ПВК                   Молочна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2590920" y="17524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6"/>
          <p:cNvSpPr/>
          <p:nvPr/>
        </p:nvSpPr>
        <p:spPr>
          <a:xfrm>
            <a:off x="5181480" y="1676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Пользователь</cp:lastModifiedBy>
  <dcterms:modified xsi:type="dcterms:W3CDTF">2012-12-04T02:54:52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