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D3DC-979B-49E8-971B-FBDB3D90C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9608-B192-44B4-9773-AA9574AE4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465-953A-48F6-83E9-6555134F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D75-785B-4733-82B9-0C49C7C6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DF2-4A3D-4220-8F03-436869F6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6B6-E273-43DA-90DC-25F92553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2C4-2711-4C51-A80F-58E9D8CB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D93-4824-45A7-BD0C-907003A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27C-DA6B-4422-9928-ADAEDFC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0C1-347D-4574-A2C7-DBA1D9EB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8EE-8839-45BC-855A-95908A9A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AD3-EBE9-4CE7-A4D1-4037439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572-85BA-4586-8095-402486D8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628-5F13-4F25-837B-6F736EA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8684-84FA-4FCB-88D6-4C53B6B44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334120" y="2988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1219320"/>
            <a:ext cx="58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495680" y="12952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1a1a4e"/>
                </a:solidFill>
                <a:latin typeface="Arial"/>
              </a:rPr>
              <a:t>Решение задач по теме «Энергетический обмен в клетк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4e"/>
                </a:solidFill>
                <a:latin typeface="Arial"/>
              </a:rPr>
              <a:t>Цели урока</a:t>
            </a:r>
            <a:r>
              <a:rPr b="0" lang="ru-RU" sz="2400" spc="-1" strike="noStrike">
                <a:solidFill>
                  <a:srgbClr val="1a1a4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 знания об обмене веществ и превращении энер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рименять знания об обмене веществ и превращении энергии  при реш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Креб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57150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ацетил-КоА    4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2АТФ+6Н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2Ф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8308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5"/>
          <p:cNvSpPr/>
          <p:nvPr/>
        </p:nvSpPr>
        <p:spPr>
          <a:xfrm>
            <a:off x="2743200" y="5943600"/>
            <a:ext cx="2286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Выделение энергии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2600 кДж  - на 2 мол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590560" y="3048120"/>
            <a:ext cx="11430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334120" y="304812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828800" y="4267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43000" y="4952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сеивается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029560" y="4876920"/>
            <a:ext cx="30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г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943600" y="419112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Кислородное расщепление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6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36АДФ+3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+ 36АТФ+3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143000" y="281952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3809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90440"/>
            <a:ext cx="8534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исление ПВК при  аэробно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ыхании происходит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лоропласта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атрикс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итохондрия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пенчатость окисления глюкозы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олучить больше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едохранить клетку от перегре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Экономнее расходовать кислор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ократить количество получаемой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143000" y="243828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38080" y="3809880"/>
            <a:ext cx="8001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ик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2АДФ + НАД      2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тез АТФ в процессе гликолиза не нуждается в мембранах. Он идёт в пробирке , если имеются все необходимые субстраты и ферм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осуществления кислородного процесса необходимо наличие неповреждённых митохондриальных мемб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щепление в клетке 1 молекулы глюкозы до 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обеспечивает синтез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лекул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Т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Метаболиз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 flipH="1" flipV="1">
            <a:off x="364680" y="51051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50480" y="5333040"/>
            <a:ext cx="32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2286000" y="1371600"/>
            <a:ext cx="1371600" cy="129528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876920" y="1371600"/>
            <a:ext cx="1218960" cy="137160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3352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Пластический 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27432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_Анаболизм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335268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Энерг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a4e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76920" y="4419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симиляция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80060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аб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1447920"/>
            <a:ext cx="777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энергетического об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. Бескислор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3. Кислородное расщ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Гликолиз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803240"/>
            <a:ext cx="85345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ДФ + НАД      2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1"/>
          <p:cNvSpPr/>
          <p:nvPr/>
        </p:nvSpPr>
        <p:spPr>
          <a:xfrm>
            <a:off x="1981080" y="28195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Энергия 200кд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25909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%  выделяется  в  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876920" y="2895480"/>
            <a:ext cx="38098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т на синте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2361960" y="1295280"/>
            <a:ext cx="14475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876920" y="1295280"/>
            <a:ext cx="16761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первом этапе своего расщепления глюко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кисляется до углекислого газа 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одвергается бр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щепляется до двух трёхуглеродных  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09480" y="4572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лекул глюкозы необходимо расщепить без участия кислорода, чтобы получить 12 молекул АТ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03480" y="2763720"/>
            <a:ext cx="275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)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)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)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тадии аэробного дыхания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677960"/>
            <a:ext cx="800244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Цикл Креб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Электронтранспортная ц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КоА  + 2Н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Ацетил-КоА + 2НАД*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467480" y="4724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1371600"/>
            <a:ext cx="754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юкоза                    ПВК                   Молоч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2590920" y="1752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181480" y="1676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Пользователь</cp:lastModifiedBy>
  <dcterms:modified xsi:type="dcterms:W3CDTF">2012-12-04T02:54:5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