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9122-66B4-4ED2-9E0B-FEC64B182B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D6D5-9A73-4E6B-BDEE-171160531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753-6E19-44F1-B7B3-B4E88320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E47-63BC-42CD-A3FE-ABF0D41D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C8C-53D1-4CE4-9A62-D75B37A8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AAC-0010-4153-8F1D-84A2C513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173-5E37-4CEF-BCFF-3A0A6CB0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3E5-6DC6-4108-A422-ECED29AB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1C0-9D2A-4EFC-94E4-FE03E6DD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5E3-FF07-4AA7-A815-DEBA33CD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B15F-8C8E-4E1A-A1AC-98463A8E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092-50C1-400B-8B54-B70D4299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8F2-D820-42A9-86B7-3E9EEDA0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F4F-BFB0-4257-9140-056BC9BE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9636-2800-449E-B8E5-4FB200EE1C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5334120" y="2988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295280" y="1219320"/>
            <a:ext cx="5867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495680" y="12952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1a1a4e"/>
                </a:solidFill>
                <a:latin typeface="Arial"/>
              </a:rPr>
              <a:t>Решение задач по теме «Энергетический обмен в клетке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304920" y="39625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1a4e"/>
                </a:solidFill>
                <a:latin typeface="Arial"/>
              </a:rPr>
              <a:t>Цели урока</a:t>
            </a:r>
            <a:r>
              <a:rPr b="0" lang="ru-RU" sz="2400" spc="-1" strike="noStrike">
                <a:solidFill>
                  <a:srgbClr val="1a1a4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зировать  знания об обмене веществ и превращении энерг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ся применять знания об обмене веществ и превращении энергии  при решении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Креб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57150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ацетил-КоА    4СО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2АТФ+6НАД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2ФАД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448308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право 5"/>
          <p:cNvSpPr/>
          <p:nvPr/>
        </p:nvSpPr>
        <p:spPr>
          <a:xfrm>
            <a:off x="2743200" y="5943600"/>
            <a:ext cx="228600" cy="4608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Выделение энергии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2600 кДж  - на 2 моля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590560" y="3048120"/>
            <a:ext cx="11430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5334120" y="304812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828800" y="42670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143000" y="495288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сеивается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виде теп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5029560" y="4876920"/>
            <a:ext cx="30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берег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виде АТ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943600" y="4191120"/>
            <a:ext cx="1219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Кислородное расщепление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6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36АДФ+36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6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+ 36АТФ+3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590400"/>
            <a:ext cx="813924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уммарное уравнение: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06720" y="1600200"/>
            <a:ext cx="8615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6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38АДФ+38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143000" y="281952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38АТФ + 44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838080" y="3809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90440"/>
            <a:ext cx="8534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исление ПВК при  аэробном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ыхании происходит 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хлоропласта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матрикс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митохондрия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упенчатость окисления глюкозы позволя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олучить больше энерги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редохранить клетку от перегрев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Экономнее расходовать кислород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Сократить количество получаемой энерги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590400"/>
            <a:ext cx="813924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уммарное уравнение: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06720" y="1600200"/>
            <a:ext cx="8615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6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38АДФ+38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143000" y="243828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38АТФ + 44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838080" y="3809880"/>
            <a:ext cx="800100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ико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2АДФ + НАД      2С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2АТФ +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+ НАД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тез АТФ в процессе гликолиза не нуждается в мембранах. Он идёт в пробирке , если имеются все необходимые субстраты и фермен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ля осуществления кислородного процесса необходимо наличие неповреждённых митохондриальных мемб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щепление в клетке 1 молекулы глюкозы до 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 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обеспечивает синтез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3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молекул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Т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1a1a4e"/>
                </a:solidFill>
                <a:latin typeface="Arial"/>
              </a:rPr>
              <a:t> </a:t>
            </a:r>
            <a:r>
              <a:rPr b="1" lang="ru-RU" sz="5500" spc="-1" strike="noStrike">
                <a:solidFill>
                  <a:srgbClr val="1a1a4e"/>
                </a:solidFill>
                <a:latin typeface="Arial"/>
              </a:rPr>
              <a:t>Метаболизм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 flipH="1" flipV="1">
            <a:off x="364680" y="5105160"/>
            <a:ext cx="18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50480" y="5333040"/>
            <a:ext cx="32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H="1">
            <a:off x="2286000" y="1371600"/>
            <a:ext cx="1371600" cy="1295280"/>
          </a:xfrm>
          <a:prstGeom prst="line">
            <a:avLst/>
          </a:prstGeom>
          <a:ln w="38160">
            <a:solidFill>
              <a:srgbClr val="2c2c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876920" y="1371600"/>
            <a:ext cx="1218960" cy="1371600"/>
          </a:xfrm>
          <a:prstGeom prst="line">
            <a:avLst/>
          </a:prstGeom>
          <a:ln w="38160">
            <a:solidFill>
              <a:srgbClr val="2c2c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09480" y="335268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Пластический об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99072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сими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990720" y="274320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_Анаболизм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800600" y="3352680"/>
            <a:ext cx="4572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Энергет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a1a4e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об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876920" y="44197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иссимиляция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800600" y="2819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або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5"/>
          <p:cNvSpPr txBox="1"/>
          <p:nvPr/>
        </p:nvSpPr>
        <p:spPr>
          <a:xfrm>
            <a:off x="990720" y="1447920"/>
            <a:ext cx="7772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вним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пы энергетического обме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1. Подготови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2. Бескислород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3. Кислородное расщ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Гликолиз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880" y="1803240"/>
            <a:ext cx="853452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АДФ + НАД      2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АТФ +2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 + НАДН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11"/>
          <p:cNvSpPr/>
          <p:nvPr/>
        </p:nvSpPr>
        <p:spPr>
          <a:xfrm>
            <a:off x="1981080" y="2819520"/>
            <a:ext cx="4572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Энергия 200кд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259092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0%  выделяется  в   виде теп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876920" y="2895480"/>
            <a:ext cx="380988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дет на синте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Т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 flipH="1">
            <a:off x="2361960" y="1295280"/>
            <a:ext cx="144756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876920" y="1295280"/>
            <a:ext cx="167616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первом этапе своего расщепления глюко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окисляется до углекислого газа и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 измен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подвергается брож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расщепляется до двух трёхуглеродных   молеку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609480" y="4572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молекул глюкозы необходимо расщепить без участия кислорода, чтобы получить 12 молекул АТФ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203480" y="2763720"/>
            <a:ext cx="2759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)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)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)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)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тадии аэробного дыхания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677960"/>
            <a:ext cx="800244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Декарбокси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Цикл Креб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 Электронтранспортная цеп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2КоА  + 2НА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2Ацетил-КоА + 2НАД*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7467480" y="47242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609480" y="1371600"/>
            <a:ext cx="7543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2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2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юкоза                    ПВК                   Молоч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2590920" y="1752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5181480" y="1676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Пользователь</cp:lastModifiedBy>
  <dcterms:modified xsi:type="dcterms:W3CDTF">2012-12-04T02:54:5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