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5F92-132F-49A3-8798-302D596187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EF1E-ECBD-4BC9-9607-C31824F99D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B6E-C030-4EE3-89FE-7AF750B9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0C1-8AB6-44DF-A7A5-0901ABE4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747-59E7-4CD9-8EA2-45993003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B08E-7E98-46F8-8844-C8FF84CE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A28F-0375-4C0B-8FF3-810B5CF3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2E4-7778-4814-871F-56AFE82D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A55-CADE-4077-8E65-0C47C055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B7E-2B1A-4823-B618-389B99D5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F14-0A3E-420E-8ADA-6906947B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3C11-BCBA-41F2-A9BD-A390A204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FF1-D6E7-4711-B41C-A3E37BCD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4CB-479F-426D-9A61-9B76BA92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2035-F674-4C82-8CEF-2A982D3128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5334120" y="2988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1295280" y="1219320"/>
            <a:ext cx="5867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495680" y="12952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1a1a4e"/>
                </a:solidFill>
                <a:latin typeface="Arial"/>
              </a:rPr>
              <a:t>Решение задач по теме «Энергетический обмен в клетке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304920" y="396252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1a4e"/>
                </a:solidFill>
                <a:latin typeface="Arial"/>
              </a:rPr>
              <a:t>Цели урока</a:t>
            </a:r>
            <a:r>
              <a:rPr b="0" lang="ru-RU" sz="2400" spc="-1" strike="noStrike">
                <a:solidFill>
                  <a:srgbClr val="1a1a4e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тизировать  знания об обмене веществ и превращении энерг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ся применять знания об обмене веществ и превращении энергии  при решении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 Креб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57150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ацетил-КоА    4СО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2АТФ+6НАД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2ФАД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448308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право 5"/>
          <p:cNvSpPr/>
          <p:nvPr/>
        </p:nvSpPr>
        <p:spPr>
          <a:xfrm>
            <a:off x="2743200" y="5943600"/>
            <a:ext cx="228600" cy="4608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Выделение энергии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2600 кДж  - на 2 моля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2590560" y="3048120"/>
            <a:ext cx="11430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5334120" y="304812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828800" y="42670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143000" y="495288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сеивается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виде теп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5029560" y="4876920"/>
            <a:ext cx="302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берег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виде АТ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943600" y="4191120"/>
            <a:ext cx="1219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Кислородное расщепление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6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36АДФ+36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6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 + 36АТФ+3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590400"/>
            <a:ext cx="813924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уммарное уравнение: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06720" y="1600200"/>
            <a:ext cx="8615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6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38АДФ+38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143000" y="281952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38АТФ + 44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838080" y="3809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190440"/>
            <a:ext cx="8534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исление ПВК при  аэробном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ыхании происходит 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хлоропласта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цитоплазм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матрикс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митохондрия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упенчатость окисления глюкозы позволя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Получить больше энерги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Предохранить клетку от перегрев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Экономнее расходовать кислород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Сократить количество получаемой энерги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590400"/>
            <a:ext cx="813924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уммарное уравнение: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06720" y="1600200"/>
            <a:ext cx="8615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6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38АДФ+38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143000" y="243828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38АТФ + 44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838080" y="3809880"/>
            <a:ext cx="800100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ико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2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 2АДФ + НАД      2С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2АТФ +2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+ НАД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нтез АТФ в процессе гликолиза не нуждается в мембранах. Он идёт в пробирке , если имеются все необходимые субстраты и фермен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ля осуществления кислородного процесса необходимо наличие неповреждённых митохондриальных мемб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щепление в клетке 1 молекулы глюкозы до 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 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 обеспечивает синтез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38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молекул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Т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1a1a4e"/>
                </a:solidFill>
                <a:latin typeface="Arial"/>
              </a:rPr>
              <a:t> </a:t>
            </a:r>
            <a:r>
              <a:rPr b="1" lang="ru-RU" sz="5500" spc="-1" strike="noStrike">
                <a:solidFill>
                  <a:srgbClr val="1a1a4e"/>
                </a:solidFill>
                <a:latin typeface="Arial"/>
              </a:rPr>
              <a:t>Метаболизм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 flipH="1" flipV="1">
            <a:off x="364680" y="5105160"/>
            <a:ext cx="18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50480" y="5333040"/>
            <a:ext cx="32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H="1">
            <a:off x="2286000" y="1371600"/>
            <a:ext cx="1371600" cy="1295280"/>
          </a:xfrm>
          <a:prstGeom prst="line">
            <a:avLst/>
          </a:prstGeom>
          <a:ln w="38160">
            <a:solidFill>
              <a:srgbClr val="2c2c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876920" y="1371600"/>
            <a:ext cx="1218960" cy="1371600"/>
          </a:xfrm>
          <a:prstGeom prst="line">
            <a:avLst/>
          </a:prstGeom>
          <a:ln w="38160">
            <a:solidFill>
              <a:srgbClr val="2c2c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09480" y="335268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Пластический об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990720" y="4419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сими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990720" y="274320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_Анаболизм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800600" y="3352680"/>
            <a:ext cx="4572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Энергет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a1a4e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об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876920" y="44197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иссимиляция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800600" y="2819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або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5"/>
          <p:cNvSpPr txBox="1"/>
          <p:nvPr/>
        </p:nvSpPr>
        <p:spPr>
          <a:xfrm>
            <a:off x="990720" y="1447920"/>
            <a:ext cx="77724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вним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апы энергетического обме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1. Подготови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2. Бескислород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3. Кислородное расщ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Гликолиз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880" y="1803240"/>
            <a:ext cx="853452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АДФ + НАД      2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АТФ +2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 + НАДН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11"/>
          <p:cNvSpPr/>
          <p:nvPr/>
        </p:nvSpPr>
        <p:spPr>
          <a:xfrm>
            <a:off x="1981080" y="2819520"/>
            <a:ext cx="4572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Энергия 200кд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259092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0%  выделяется  в   виде теп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876920" y="2895480"/>
            <a:ext cx="3809880" cy="14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дет на синте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Т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 flipH="1">
            <a:off x="2361960" y="1295280"/>
            <a:ext cx="144756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4876920" y="1295280"/>
            <a:ext cx="167616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первом этапе своего расщепления глюко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окисляется до углекислого газа и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 измен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подвергается брож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расщепляется до двух трёхуглеродных   молеку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609480" y="4572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молекул глюкозы необходимо расщепить без участия кислорода, чтобы получить 12 молекул АТФ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203480" y="2763720"/>
            <a:ext cx="2759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)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)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)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)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тадии аэробного дыхания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677960"/>
            <a:ext cx="800244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 Декарбоксил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Цикл Креб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 Электронтранспортная цеп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2КоА  + 2НА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2Ацетил-КоА + 2НАД*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7467480" y="47242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609480" y="1371600"/>
            <a:ext cx="7543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2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2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юкоза                    ПВК                   Молоч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2590920" y="1752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5181480" y="1676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Пользователь</cp:lastModifiedBy>
  <dcterms:modified xsi:type="dcterms:W3CDTF">2012-12-04T02:54:52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