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9BD2-8388-4788-8255-DED0C3182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F797-B9CC-4F88-8FE5-138F22109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336-B5FB-442E-B3B6-15CED543C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81B6-50C6-453E-9DC0-F1E99CA1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1A4A-4F92-4152-9026-BBCB68332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966A9-F99A-4079-939D-1B2874D7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039D-CBCA-4B16-BA38-DD4305C7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EE3A-718F-4A8D-801C-37A47C6F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EC335-92D3-4E35-A2B7-0E8F0869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D443-6FFA-4098-A293-040D74D9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67E1-7BA8-40F3-AEF0-8B4CBE5A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56D8-4909-400F-94A3-883703C9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BEB6-EEEF-4228-8254-20258955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14B0F-0C13-4FE0-B0ED-9553E57D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CC72-FBD6-49BF-8EAE-4F9550550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44DFA-2A59-431B-ADE6-8896CC595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8884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628600" y="405108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54908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58884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628600" y="4575240"/>
            <a:ext cx="194220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D3607-94BF-4BCA-B87A-4E30359D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B10-9D22-4B51-B39C-3F56778C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B430-4045-440C-A0D0-58850881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194A-A009-49EC-9C44-B549B5ED0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371600" y="1510920"/>
            <a:ext cx="6400800" cy="1053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6D4A-C930-4779-950D-5AB232D7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62A6-1A19-40FB-AA8B-A9BB5005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40400" y="457524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0DD0-A4B1-45A8-A56C-32FEB735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4908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0400" y="4051080"/>
            <a:ext cx="29437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549080" y="4575240"/>
            <a:ext cx="6032520" cy="4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268-43F8-44E9-8D69-5E3A7B5B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B2D8-75CE-4189-AC5D-594F248B985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90274-0F00-40B9-BF46-2A51F5E6155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4.wmf"/><Relationship Id="rId21" Type="http://schemas.openxmlformats.org/officeDocument/2006/relationships/image" Target="../media/image4.wmf"/><Relationship Id="rId22" Type="http://schemas.openxmlformats.org/officeDocument/2006/relationships/image" Target="../media/image4.wmf"/><Relationship Id="rId23" Type="http://schemas.openxmlformats.org/officeDocument/2006/relationships/image" Target="../media/image4.wmf"/><Relationship Id="rId2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95280" y="1557360"/>
            <a:ext cx="8424720" cy="32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 общее кратное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 общий делитель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124000" y="765000"/>
            <a:ext cx="0" cy="374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8" name=""/>
          <p:cNvSpPr/>
          <p:nvPr/>
        </p:nvSpPr>
        <p:spPr>
          <a:xfrm>
            <a:off x="6372360" y="907920"/>
            <a:ext cx="0" cy="3457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588000" y="105264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580000" y="2060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547640" y="587700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2*3=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476360" y="5229360"/>
            <a:ext cx="5040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 (6,3)=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116000" y="907920"/>
            <a:ext cx="5032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6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187280" y="1916280"/>
            <a:ext cx="454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484360" y="1989000"/>
            <a:ext cx="4539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3366ff"/>
                </a:solidFill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3366ff"/>
              </a:solidFill>
              <a:latin typeface="Impact"/>
              <a:ea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580000" y="981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7408800" cy="1368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Нахождение наименьшего общего кратного натуральных чисел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250920" y="1700280"/>
            <a:ext cx="73310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обавить к ним недостающие множители из разложений остальных чисел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получившихся множител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360" y="189000"/>
            <a:ext cx="6624720" cy="1800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          </a:t>
            </a:r>
            <a:r>
              <a:rPr b="0" lang="en-US" sz="4800" spc="-1" strike="noStrike">
                <a:solidFill>
                  <a:srgbClr val="3366ff"/>
                </a:solidFill>
                <a:latin typeface="Comic Sans MS"/>
              </a:rPr>
              <a:t>Блиц-</a:t>
            </a:r>
            <a:r>
              <a:rPr b="0" lang="en-US" sz="4400" spc="-1" strike="noStrike">
                <a:solidFill>
                  <a:srgbClr val="3366ff"/>
                </a:solidFill>
                <a:latin typeface="Comic Sans MS"/>
              </a:rPr>
              <a:t>опрос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2991960"/>
            <a:ext cx="5761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66ff"/>
                </a:solidFill>
                <a:latin typeface="Comic Sans MS"/>
              </a:rPr>
              <a:t>Отметь знаком «+» правильные утверждения и знаком «-» ошиб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508360" y="189000"/>
            <a:ext cx="1368360" cy="288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324000" y="836280"/>
            <a:ext cx="770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1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 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кратн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2) Если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делится на число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, значит,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в</a:t>
            </a: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 – делитель </a:t>
            </a:r>
            <a:r>
              <a:rPr b="0" i="1" lang="en-US" sz="2400" spc="-1" strike="noStrike">
                <a:solidFill>
                  <a:srgbClr val="3366ff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3) 8 кратно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4) Число 36 является наименьшим общим кратным   чисел 12 и 3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5) Числа 22, 44, 66, 88 кратны  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6) НОД(8;16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7) НОК(16;32) = 3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8) Число 18 кратно 6, значит НОД(18;6) = 18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Comic Sans MS"/>
              </a:rPr>
              <a:t>9) Если два числа взаимно простые, то их наименьшее общее кратное равно произведению данных чисе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337440" cy="10796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оверь себя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3995640" y="1773360"/>
          <a:ext cx="4032000" cy="4752360"/>
        </p:xfrm>
        <a:graphic>
          <a:graphicData uri="http://schemas.openxmlformats.org/drawingml/2006/table">
            <a:tbl>
              <a:tblPr/>
              <a:tblGrid>
                <a:gridCol w="2058480"/>
                <a:gridCol w="1973520"/>
              </a:tblGrid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ff"/>
                          </a:solidFill>
                          <a:latin typeface="Comic Sans MS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1763640" y="2133720"/>
            <a:ext cx="6048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2276640"/>
            <a:ext cx="777744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Делителем натурального числа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называют натуральное число, на которое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  делится без остат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12:  1,2,3,4,6,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116000" y="907920"/>
            <a:ext cx="7056360" cy="34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больший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ий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         </a:t>
            </a: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литель  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900000" y="692280"/>
            <a:ext cx="1584000" cy="1131840"/>
            <a:chOff x="900000" y="692280"/>
            <a:chExt cx="1584000" cy="1131840"/>
          </a:xfrm>
        </p:grpSpPr>
        <p:pic>
          <p:nvPicPr>
            <p:cNvPr id="157" name="" descr=""/>
            <p:cNvPicPr/>
            <p:nvPr/>
          </p:nvPicPr>
          <p:blipFill>
            <a:blip r:embed="rId1"/>
            <a:stretch/>
          </p:blipFill>
          <p:spPr>
            <a:xfrm>
              <a:off x="90000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" descr=""/>
            <p:cNvPicPr/>
            <p:nvPr/>
          </p:nvPicPr>
          <p:blipFill>
            <a:blip r:embed="rId2"/>
            <a:stretch/>
          </p:blipFill>
          <p:spPr>
            <a:xfrm>
              <a:off x="1331640" y="692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" name=""/>
          <p:cNvGrpSpPr/>
          <p:nvPr/>
        </p:nvGrpSpPr>
        <p:grpSpPr>
          <a:xfrm>
            <a:off x="684360" y="1916280"/>
            <a:ext cx="1584000" cy="1131840"/>
            <a:chOff x="684360" y="1916280"/>
            <a:chExt cx="1584000" cy="11318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68436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4"/>
            <a:stretch/>
          </p:blipFill>
          <p:spPr>
            <a:xfrm>
              <a:off x="1116000" y="1916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"/>
          <p:cNvGrpSpPr/>
          <p:nvPr/>
        </p:nvGrpSpPr>
        <p:grpSpPr>
          <a:xfrm>
            <a:off x="395280" y="1197000"/>
            <a:ext cx="1584000" cy="1131840"/>
            <a:chOff x="395280" y="1197000"/>
            <a:chExt cx="1584000" cy="1131840"/>
          </a:xfrm>
        </p:grpSpPr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39528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826920" y="119700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"/>
          <p:cNvGrpSpPr/>
          <p:nvPr/>
        </p:nvGrpSpPr>
        <p:grpSpPr>
          <a:xfrm>
            <a:off x="1187280" y="1268280"/>
            <a:ext cx="1584000" cy="1131840"/>
            <a:chOff x="1187280" y="1268280"/>
            <a:chExt cx="1584000" cy="1131840"/>
          </a:xfrm>
        </p:grpSpPr>
        <p:pic>
          <p:nvPicPr>
            <p:cNvPr id="166" name="" descr=""/>
            <p:cNvPicPr/>
            <p:nvPr/>
          </p:nvPicPr>
          <p:blipFill>
            <a:blip r:embed="rId7"/>
            <a:stretch/>
          </p:blipFill>
          <p:spPr>
            <a:xfrm>
              <a:off x="118728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8"/>
            <a:stretch/>
          </p:blipFill>
          <p:spPr>
            <a:xfrm>
              <a:off x="1618920" y="126828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8" name="" descr=""/>
          <p:cNvPicPr/>
          <p:nvPr/>
        </p:nvPicPr>
        <p:blipFill>
          <a:blip r:embed="rId9"/>
          <a:stretch/>
        </p:blipFill>
        <p:spPr>
          <a:xfrm>
            <a:off x="5724360" y="1052640"/>
            <a:ext cx="1812960" cy="184464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4643280" y="1125360"/>
            <a:ext cx="1812960" cy="1845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1"/>
          <a:stretch/>
        </p:blipFill>
        <p:spPr>
          <a:xfrm>
            <a:off x="7020000" y="1125360"/>
            <a:ext cx="1812960" cy="1845000"/>
          </a:xfrm>
          <a:prstGeom prst="rect">
            <a:avLst/>
          </a:prstGeom>
          <a:ln w="0">
            <a:noFill/>
          </a:ln>
        </p:spPr>
      </p:pic>
      <p:grpSp>
        <p:nvGrpSpPr>
          <p:cNvPr id="171" name=""/>
          <p:cNvGrpSpPr/>
          <p:nvPr/>
        </p:nvGrpSpPr>
        <p:grpSpPr>
          <a:xfrm>
            <a:off x="1619280" y="1844640"/>
            <a:ext cx="1584000" cy="1131840"/>
            <a:chOff x="1619280" y="1844640"/>
            <a:chExt cx="1584000" cy="1131840"/>
          </a:xfrm>
        </p:grpSpPr>
        <p:pic>
          <p:nvPicPr>
            <p:cNvPr id="172" name="" descr=""/>
            <p:cNvPicPr/>
            <p:nvPr/>
          </p:nvPicPr>
          <p:blipFill>
            <a:blip r:embed="rId12"/>
            <a:stretch/>
          </p:blipFill>
          <p:spPr>
            <a:xfrm>
              <a:off x="161928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3"/>
            <a:stretch/>
          </p:blipFill>
          <p:spPr>
            <a:xfrm>
              <a:off x="2050920" y="1844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4" name=""/>
          <p:cNvGrpSpPr/>
          <p:nvPr/>
        </p:nvGrpSpPr>
        <p:grpSpPr>
          <a:xfrm>
            <a:off x="1979640" y="836640"/>
            <a:ext cx="1584000" cy="1131840"/>
            <a:chOff x="1979640" y="836640"/>
            <a:chExt cx="1584000" cy="1131840"/>
          </a:xfrm>
        </p:grpSpPr>
        <p:pic>
          <p:nvPicPr>
            <p:cNvPr id="175" name="" descr=""/>
            <p:cNvPicPr/>
            <p:nvPr/>
          </p:nvPicPr>
          <p:blipFill>
            <a:blip r:embed="rId14"/>
            <a:stretch/>
          </p:blipFill>
          <p:spPr>
            <a:xfrm>
              <a:off x="197964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5"/>
            <a:stretch/>
          </p:blipFill>
          <p:spPr>
            <a:xfrm>
              <a:off x="2411280" y="836640"/>
              <a:ext cx="1152360" cy="11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"/>
          <p:cNvSpPr txBox="1"/>
          <p:nvPr/>
        </p:nvSpPr>
        <p:spPr>
          <a:xfrm>
            <a:off x="7667640" y="3429000"/>
            <a:ext cx="503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332000" y="3573360"/>
            <a:ext cx="1079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1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0"/>
          <a:stretch/>
        </p:blipFill>
        <p:spPr>
          <a:xfrm>
            <a:off x="219564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1"/>
          <a:stretch/>
        </p:blipFill>
        <p:spPr>
          <a:xfrm>
            <a:off x="3276720" y="5300640"/>
            <a:ext cx="1303200" cy="15573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2"/>
          <a:stretch/>
        </p:blipFill>
        <p:spPr>
          <a:xfrm>
            <a:off x="4356000" y="5300640"/>
            <a:ext cx="1303560" cy="1557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3"/>
          <a:stretch/>
        </p:blipFill>
        <p:spPr>
          <a:xfrm>
            <a:off x="5435640" y="5300640"/>
            <a:ext cx="1303200" cy="1557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627280" y="2997360"/>
            <a:ext cx="45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 какое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наибольшее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количество ребят можно разделить поровну 12 яблок и 9 конф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971640" y="836640"/>
            <a:ext cx="792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"/>
          <p:cNvSpPr/>
          <p:nvPr/>
        </p:nvSpPr>
        <p:spPr>
          <a:xfrm>
            <a:off x="2195640" y="692280"/>
            <a:ext cx="0" cy="4752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484360" y="90792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411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7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728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2411280" y="2997360"/>
            <a:ext cx="432000" cy="64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258920" y="400536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219640" y="836640"/>
            <a:ext cx="720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3" name=""/>
          <p:cNvSpPr/>
          <p:nvPr/>
        </p:nvSpPr>
        <p:spPr>
          <a:xfrm>
            <a:off x="6372360" y="765000"/>
            <a:ext cx="0" cy="4753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6659640" y="907920"/>
            <a:ext cx="4316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64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588000" y="1989000"/>
            <a:ext cx="432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435640" y="3068640"/>
            <a:ext cx="43344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/>
          <p:nvPr/>
        </p:nvSpPr>
        <p:spPr>
          <a:xfrm>
            <a:off x="2340000" y="3716280"/>
            <a:ext cx="7192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403280" y="5877000"/>
            <a:ext cx="5184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Д (9,12)=3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/>
          <p:nvPr/>
        </p:nvSpPr>
        <p:spPr>
          <a:xfrm>
            <a:off x="6588000" y="1557360"/>
            <a:ext cx="648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684360" y="333360"/>
            <a:ext cx="799128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3366ff"/>
                </a:solidFill>
                <a:uFillTx/>
                <a:latin typeface="Arial"/>
              </a:rPr>
              <a:t>Нахождение наибольшего общего делител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азложить числа на простые множител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исать множители, входящие в разложение одного из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черкнуть те, которые не входят в разложение других чисе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Найти произведение оставшихся множ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10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5" dur="10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1116000" y="836640"/>
            <a:ext cx="6335640" cy="36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именьше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е    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ратное           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203640" y="5661000"/>
            <a:ext cx="2232000" cy="71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О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1763640" y="189000"/>
            <a:ext cx="4766760" cy="3680280"/>
            <a:chOff x="1763640" y="189000"/>
            <a:chExt cx="4766760" cy="3680280"/>
          </a:xfrm>
        </p:grpSpPr>
        <p:pic>
          <p:nvPicPr>
            <p:cNvPr id="205" name="" descr=""/>
            <p:cNvPicPr/>
            <p:nvPr/>
          </p:nvPicPr>
          <p:blipFill>
            <a:blip r:embed="rId1"/>
            <a:stretch/>
          </p:blipFill>
          <p:spPr>
            <a:xfrm rot="1392600">
              <a:off x="4427280" y="47592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2"/>
            <a:stretch/>
          </p:blipFill>
          <p:spPr>
            <a:xfrm>
              <a:off x="3203640" y="18900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3"/>
            <a:stretch/>
          </p:blipFill>
          <p:spPr>
            <a:xfrm>
              <a:off x="1763640" y="549360"/>
              <a:ext cx="1812960" cy="184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4"/>
            <a:stretch/>
          </p:blipFill>
          <p:spPr>
            <a:xfrm rot="19855200">
              <a:off x="3347640" y="1700280"/>
              <a:ext cx="1812960" cy="184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9" name=""/>
          <p:cNvSpPr/>
          <p:nvPr/>
        </p:nvSpPr>
        <p:spPr>
          <a:xfrm rot="16200000">
            <a:off x="3996360" y="1195560"/>
            <a:ext cx="358920" cy="4392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0" y="4525920"/>
            <a:ext cx="3203640" cy="19875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6"/>
          <a:stretch/>
        </p:blipFill>
        <p:spPr>
          <a:xfrm>
            <a:off x="5940360" y="4317840"/>
            <a:ext cx="2759040" cy="2300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 rot="5400000">
            <a:off x="1140480" y="3691440"/>
            <a:ext cx="617400" cy="524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3" name=""/>
          <p:cNvSpPr txBox="1"/>
          <p:nvPr/>
        </p:nvSpPr>
        <p:spPr>
          <a:xfrm rot="5400000">
            <a:off x="7045920" y="3691800"/>
            <a:ext cx="61740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627280" y="3860640"/>
            <a:ext cx="3673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акое количество конфет нужно взять, чтобы их можно было поделить и между тремя, и между шестью детьми поровн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9T18:25:03Z</dcterms:created>
  <dc:creator>Loner-XP</dc:creator>
  <dc:description/>
  <dc:language>en-US</dc:language>
  <cp:lastModifiedBy>*****</cp:lastModifiedBy>
  <dcterms:modified xsi:type="dcterms:W3CDTF">2011-10-07T10:38:37Z</dcterms:modified>
  <cp:revision>19</cp:revision>
  <dc:subject/>
  <dc:title>Слайд 1</dc:title>
</cp:coreProperties>
</file>