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ADE-1BBE-459F-A73E-34858618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A3A-6228-4DE6-8730-62EB650C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E00-5F39-4221-A154-6166AE93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E58-3E9E-4E1F-8B8F-6E041CB7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369D-2FB7-49FB-B14A-1842B52F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97EF-9523-4030-A8BC-91DEDC4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4521-4D37-4D5E-857D-9B41025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6509-B2C9-4A9A-A82F-496463C1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1741-62C7-430C-A57A-649E01CB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32DB-D1D3-44F4-9B76-8E3FD7AD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298F-C290-4BF3-A302-CA72054D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330-8C89-4A34-B7D1-73A7578C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CD5D-67D6-475A-9114-B4202A23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6115-6A8B-4220-898F-5F833F6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7DA2-5AD1-448A-B25B-9D69D7DA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3EE4-49C7-4A9E-888F-2F922D2C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6164-0323-4D7F-AC62-1A81395C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367-D5C4-4C12-B36F-C1CCEE4B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DEA-B40E-455D-94F7-48627FEF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B49-6842-4DD1-B672-AC89A60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381-2B5E-462A-9E8D-107DC591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5D3-538E-453D-9C99-37498873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473-DB06-459B-8813-D386BF95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F2A-5C54-4E0F-BA5D-03A2FE8D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B036-76EF-4845-ACAE-694A172CCD1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F0E-F72C-46E5-B15D-CD18CD53F4A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5280" y="1557360"/>
            <a:ext cx="84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 общее кратно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 общий делител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24000" y="765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907920"/>
            <a:ext cx="0" cy="345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88000" y="105264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580000" y="2060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47640" y="587700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2*3=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76360" y="522936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16000" y="90792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87280" y="1916280"/>
            <a:ext cx="454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484360" y="1989000"/>
            <a:ext cx="45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580000" y="981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0880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Нахождение наименьшего общего кратного натуральных чисел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7331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ть к ним недостающие множители из разложений остальных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получившихся множит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624720" cy="18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          </a:t>
            </a: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Блиц-</a:t>
            </a: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опрос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299196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Отметь знаком «+» правильные утверждения и знаком «-» ошиб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1368360" cy="2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770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1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кратн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2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– делитель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3) 8 кратно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4) Число 36 является наименьшим общим кратным   чисел 12 и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5) Числа 22, 44, 66, 88 кратны  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6) НОД(8;16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7) НОК(16;32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8) Число 18 кратно 6, значит НОД(18;6) = 1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9) Если два числа взаимно простые, то их наименьшее общее кратное равно произведению данны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107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95640" y="1773360"/>
          <a:ext cx="4032000" cy="4752360"/>
        </p:xfrm>
        <a:graphic>
          <a:graphicData uri="http://schemas.openxmlformats.org/drawingml/2006/table">
            <a:tbl>
              <a:tblPr/>
              <a:tblGrid>
                <a:gridCol w="2058480"/>
                <a:gridCol w="197352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63640" y="2133720"/>
            <a:ext cx="60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2276640"/>
            <a:ext cx="7777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елителем натурального числа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называют натуральное число, на которо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делится без оста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2:  1,2,3,4,6,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16000" y="907920"/>
            <a:ext cx="7056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ий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ь  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00000" y="692280"/>
            <a:ext cx="1584000" cy="1131840"/>
            <a:chOff x="900000" y="692280"/>
            <a:chExt cx="1584000" cy="11318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90000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33164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684360" y="1916280"/>
            <a:ext cx="1584000" cy="1131840"/>
            <a:chOff x="684360" y="1916280"/>
            <a:chExt cx="1584000" cy="11318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68436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11600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95280" y="1197000"/>
            <a:ext cx="1584000" cy="1131840"/>
            <a:chOff x="395280" y="1197000"/>
            <a:chExt cx="1584000" cy="113184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39528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82692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187280" y="1268280"/>
            <a:ext cx="1584000" cy="1131840"/>
            <a:chOff x="1187280" y="1268280"/>
            <a:chExt cx="1584000" cy="113184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118728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8"/>
            <a:stretch/>
          </p:blipFill>
          <p:spPr>
            <a:xfrm>
              <a:off x="161892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724360" y="1052640"/>
            <a:ext cx="1812960" cy="184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4643280" y="1125360"/>
            <a:ext cx="1812960" cy="184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020000" y="1125360"/>
            <a:ext cx="1812960" cy="18450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1619280" y="1844640"/>
            <a:ext cx="1584000" cy="1131840"/>
            <a:chOff x="1619280" y="1844640"/>
            <a:chExt cx="1584000" cy="1131840"/>
          </a:xfrm>
        </p:grpSpPr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161928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205092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1979640" y="836640"/>
            <a:ext cx="1584000" cy="1131840"/>
            <a:chOff x="1979640" y="836640"/>
            <a:chExt cx="1584000" cy="1131840"/>
          </a:xfrm>
        </p:grpSpPr>
        <p:pic>
          <p:nvPicPr>
            <p:cNvPr id="175" name="" descr=""/>
            <p:cNvPicPr/>
            <p:nvPr/>
          </p:nvPicPr>
          <p:blipFill>
            <a:blip r:embed="rId14"/>
            <a:stretch/>
          </p:blipFill>
          <p:spPr>
            <a:xfrm>
              <a:off x="197964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5"/>
            <a:stretch/>
          </p:blipFill>
          <p:spPr>
            <a:xfrm>
              <a:off x="241128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 txBox="1"/>
          <p:nvPr/>
        </p:nvSpPr>
        <p:spPr>
          <a:xfrm>
            <a:off x="7667640" y="342900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32000" y="3573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>
            <a:off x="219564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>
            <a:off x="327672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2"/>
          <a:stretch/>
        </p:blipFill>
        <p:spPr>
          <a:xfrm>
            <a:off x="4356000" y="5300640"/>
            <a:ext cx="1303560" cy="15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5435640" y="5300640"/>
            <a:ext cx="1303200" cy="155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27280" y="2997360"/>
            <a:ext cx="45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акое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ьше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личество ребят можно разделить поровну 12 яблок и 9 конф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71640" y="836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692280"/>
            <a:ext cx="0" cy="47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1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400536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19640" y="83664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765000"/>
            <a:ext cx="0" cy="47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659640" y="90792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64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88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35640" y="3068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371628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587700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 (9,12)=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5573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360" y="333360"/>
            <a:ext cx="799128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Нахождение наибольшего общего дел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черкнуть те, которые не входят в разложение других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оставшихся множ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116000" y="836640"/>
            <a:ext cx="63356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ное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763640" y="189000"/>
            <a:ext cx="4766760" cy="3680280"/>
            <a:chOff x="1763640" y="189000"/>
            <a:chExt cx="4766760" cy="36802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 rot="1392600">
              <a:off x="4427280" y="47592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203640" y="18900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1763640" y="54936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 rot="19855200">
              <a:off x="3347640" y="1700280"/>
              <a:ext cx="181296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 rot="16200000">
            <a:off x="3996360" y="1195560"/>
            <a:ext cx="358920" cy="439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4525920"/>
            <a:ext cx="3203640" cy="1987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940360" y="4317840"/>
            <a:ext cx="2759040" cy="2300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 rot="5400000">
            <a:off x="1140480" y="3691440"/>
            <a:ext cx="6174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5400000">
            <a:off x="7045920" y="3691800"/>
            <a:ext cx="617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3860640"/>
            <a:ext cx="367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ое количество конфет нужно взять, чтобы их можно было поделить и между тремя, и между шестью детьми поров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25:03Z</dcterms:created>
  <dc:creator>Loner-XP</dc:creator>
  <dc:description/>
  <dc:language>en-US</dc:language>
  <cp:lastModifiedBy>*****</cp:lastModifiedBy>
  <dcterms:modified xsi:type="dcterms:W3CDTF">2011-10-07T10:38:37Z</dcterms:modified>
  <cp:revision>19</cp:revision>
  <dc:subject/>
  <dc:title>Слайд 1</dc:title>
</cp:coreProperties>
</file>