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F9D7-DAA2-4AC9-9463-5064F14E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2989-F276-498F-8CA1-1BD777C3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9CA1-847F-43A5-8CF1-274470CB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4029-39F2-4212-A907-B24D5A58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8735-BA76-4070-B71B-77191169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8EF8-D998-47A6-AD6A-C5254390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01AD-246A-4992-A69E-0E1E582C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BA7D-0FAC-4A11-890E-E2EEF79B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5CAA-7B07-4466-9289-02FEA6C4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5561-2B2B-4869-9F8C-7807F723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B61E-6539-4E25-B0A5-18C0A850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FE62-CF42-42AB-AC7B-96F3743C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BD2A-226C-4D14-9360-736E5A7A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0581-B95D-4B62-A28D-03AB7067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CC82-E964-40D7-BCFD-E643696F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8F5D-09EC-4B59-B699-F4191A91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3592-3C89-43CC-8CE1-F85782AB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9A6F-BA5F-40F5-ABDB-BDF3F0F6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98E5-629B-4484-96BA-4DD6EB44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8DD3-1794-4E7A-B21A-A6A70569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5676-D418-48BB-A546-259C9751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2990-F754-4ABB-A866-EBE9B568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27C9-3894-4A26-BCF6-F3508F30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62D8-9F94-47F5-96AB-741F191C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3324-1097-4432-BEF3-5EAF8C02B63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33EC-6711-4539-9D93-722AAB5AC98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Правописание частицы не с глаголами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Что такое не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 какой части речи относится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ак пишется не с глаголами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Творческая работа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евочек  __  дёргать за косичк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__   драться     на  перемена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 уроках    __ говорить с сосед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__      приходить вовремя на занят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8627" t="20665" r="-4446" b="16670"/>
          <a:stretch/>
        </p:blipFill>
        <p:spPr>
          <a:xfrm>
            <a:off x="1187280" y="2492280"/>
            <a:ext cx="2592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А теперь проверим!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Девочек </a:t>
            </a: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не _ дёргать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за косич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Не _ драться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на переменах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На уроках </a:t>
            </a: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не _ говорить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с соседо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риходить вовремя на занят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Вывод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Частица 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не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придаёт отрицательный смысл слову или  всему предложению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Правило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Отрицательная частица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не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с глаголами пишется раздельно: не _ читал, не _ прыга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Раздельное написание частицы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с глаголами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орфограмма-пробе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Запомни!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Не с глаголами пиши  раздельно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Например: не __ хотел, не __ знал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Только помни об исключениях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Ненавидел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негодовал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ома: С.130, упр.224,225;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правило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42920" y="2133720"/>
            <a:ext cx="698508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7:19:27Z</dcterms:created>
  <dc:creator>Оксана</dc:creator>
  <dc:description/>
  <dc:language>en-US</dc:language>
  <cp:lastModifiedBy>Пользователь</cp:lastModifiedBy>
  <dcterms:modified xsi:type="dcterms:W3CDTF">2012-12-03T17:19:06Z</dcterms:modified>
  <cp:revision>8</cp:revision>
  <dc:subject/>
  <dc:title>Открытый урок русского языка</dc:title>
</cp:coreProperties>
</file>