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8340-7E4E-4A34-AE29-15422D184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07A9-796D-4E83-B5D0-FA5A44F7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7278-996B-494A-9897-F97DA5ED6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2E43-83FD-495C-8AC6-7CCAB8E83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12B7-4B09-470D-9330-4DD9C812D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9A26-5F59-4BF7-925B-E0CDA8C5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C0B9-B81A-47B6-8244-F3E8CD99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4ABF-CB41-4C86-BC8F-26685C4F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2D01B-AC85-4217-9929-672D4814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DD2F-5853-43CC-B729-2F99B6B6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ACE4-C8F6-494B-9AA2-17ADC410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7A71-FA4C-406E-99CE-CC91D2EF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A159-A647-4B6F-9E9D-51FC59C0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FBDE-E71A-46C3-9245-4ADED20F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856BB-58EC-4DDE-9DB1-477D5E29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96E0-6A43-46DD-9717-5E9C5EBCF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B5F88-B592-489F-93C5-F5CE57189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48FB-D148-4097-B868-47161190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7306-FECC-4E15-BAFC-712C63FC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206A-7F6B-4032-A901-63B0251B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6C47-3124-4A00-8863-978155A1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D5C9-D492-4F01-B603-2CBACBA6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7256-C8ED-4648-95FF-126E1BD0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BF10-E99C-4983-A985-FDC37A02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6F1E-E574-40CA-A321-5234F4E6033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D5C9-5947-4EC1-97C5-935032216CC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Правописание частицы не с глаголами.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Что такое не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К какой части речи относится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Как пишется не с глаголами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"/>
              </a:rPr>
              <a:t>Творческая работа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евочек  __  дёргать за косичк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__   драться     на  перемена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На уроках    __ говорить с соседо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__      приходить вовремя на занят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18627" t="20665" r="-4446" b="16670"/>
          <a:stretch/>
        </p:blipFill>
        <p:spPr>
          <a:xfrm>
            <a:off x="1187280" y="2492280"/>
            <a:ext cx="2592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А теперь проверим!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Девочек </a:t>
            </a: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не _ дёргать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за косич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Не _ драться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на переменах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На уроках </a:t>
            </a: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не _ говорить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с соседом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Приходить вовремя на занят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Вывод: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Частица </a:t>
            </a: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не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придаёт отрицательный смысл слову или  всему предложению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Правило: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Отрицательная частица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не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с глаголами пишется раздельно: не _ читал, не _ прыгал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Раздельное написание частицы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не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 с глаголами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орфограмма-пробел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Запомни!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Не с глаголами пиши  раздельно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Например: не __ хотел, не __ знал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Только помни об исключениях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</a:rPr>
              <a:t>Ненавидел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</a:rPr>
              <a:t>негодовал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ома: С.130, упр.224,225;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     правило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42920" y="2133720"/>
            <a:ext cx="698508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7:19:27Z</dcterms:created>
  <dc:creator>Оксана</dc:creator>
  <dc:description/>
  <dc:language>en-US</dc:language>
  <cp:lastModifiedBy>Пользователь</cp:lastModifiedBy>
  <dcterms:modified xsi:type="dcterms:W3CDTF">2012-12-03T17:19:06Z</dcterms:modified>
  <cp:revision>8</cp:revision>
  <dc:subject/>
  <dc:title>Открытый урок русского языка</dc:title>
</cp:coreProperties>
</file>