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81A-BE7E-463A-8E1D-637FA035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1D7-D82B-44D4-BE91-6BE5FDE9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ADB-1165-4150-A92B-BF1CC776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F31-996B-4167-95E1-A12BD819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0937-2752-45DD-AB7D-6834B15B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A310-DD54-4A4B-BA5E-0A79D55F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17B9-0723-4060-88C9-0E6FDFA2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F4BA-4BF4-4FA2-8838-3BFFECE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3A98-BBA2-427D-B732-0F3D8969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5D44-75A4-44D6-B009-01E43040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BC9D-ABBE-4135-8DBB-3519079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CE6-D845-4398-BCE2-C5435A73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050A-6310-4EE7-B94F-1994505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4DE4-6172-411D-BC12-8906283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B5D-8402-4915-876E-3DF36FBC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52A6-A319-4717-99FC-BA02A1FA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7BB-5014-422C-85E7-8CBE7B5F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242-4956-469B-9ECA-22522311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B68-F7C7-4F3E-94EF-E828C0AA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7AD-D437-491A-B956-69502C6A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61A-737A-4B53-9D3E-9BE52A0D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7FC-92DC-44F5-9D6A-CC4F45C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787-914A-49CD-A40C-9AD2A39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9DC-5171-4F4C-B641-8EE09C1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9958-AD2E-4F10-98FD-71E9A97F3E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8A56-3B5A-4F7C-836D-EAD479AAD0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134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Тема: Возведение в степень произведения и степени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овтор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полните пропуски так, чтобы утверждения были вер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возведение в степень положительного числа получается  _______________________ чис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четным показателем _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нечетным показателем 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умножении степеней с __________     основание _____________________________,  а показатели степеней ________________________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делении степеней с _____________ основание ____________, а из показателя степени  делимого 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________________________________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84240"/>
            <a:ext cx="86421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Свойства степен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 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, чт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&gt;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ых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извольного натуральн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)=a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льных натуральных чисел       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)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206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7164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436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7164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9236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33200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3573360"/>
                <a:ext cx="12708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206064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76360" y="206064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26920" y="4365720"/>
                <a:ext cx="1969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87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03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48360" y="530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80000" y="530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4360" y="573408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87280" y="573408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0000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0328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Итог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дите ошиб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=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a=a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y)=y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)=a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1600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69236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35160" y="2349360"/>
                <a:ext cx="1843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42920" y="3213000"/>
                <a:ext cx="185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0328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4221000"/>
                <a:ext cx="17496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4221000"/>
                <a:ext cx="166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4149720"/>
                <a:ext cx="183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4764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800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1:35Z</dcterms:created>
  <dc:creator>Loner-XP</dc:creator>
  <dc:description/>
  <dc:language>en-US</dc:language>
  <cp:lastModifiedBy>Loner-XP</cp:lastModifiedBy>
  <dcterms:modified xsi:type="dcterms:W3CDTF">2012-12-06T17:53:38Z</dcterms:modified>
  <cp:revision>11</cp:revision>
  <dc:subject/>
  <dc:title>Слайд 1</dc:title>
</cp:coreProperties>
</file>