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BADF-2889-4403-8EB8-F17131FF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FA6D-D5F0-4138-92F2-81D7CABD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C624-D66B-4DE3-A88F-60CDE773B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4CB4-E8BB-41D0-B9F2-67747DE2D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A057-1E4D-4B03-9392-50205EA17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750E-BFAB-40D1-98FA-63C0DFE4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8E8E-39A7-4F88-B44E-75BFA26E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8305-91A9-43E1-B50A-A078EA0D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20F8-6AE0-4FD9-858C-C821E303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1C19-E6ED-43FF-A5C5-8C1B7F17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6AC7-E331-487E-97A5-3196926B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DAC5-F452-4188-A307-B7E95DCD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4955-142B-4EAA-BF75-B1ADAB71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CC2F-89B3-4444-95CF-6502BD3C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7ED2-C94B-45A3-A9E1-AEC32F46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6616-995F-4817-A125-7D2F3508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9EED-0F37-4F96-AE7B-B95AE44A6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B5D4-BE44-46DA-AE6C-3523DC46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3AA4-3DAC-418C-9799-B0EB6488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C53A-66AB-4ED5-9154-87CA162F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22A0-F1E9-47CA-9979-05411114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7C7E-F06E-436B-93A4-CE7D5F00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A474-149B-4267-9ECA-06E61D97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2496-B009-4AD0-A534-162AB30D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2A12-CC15-46A4-AD83-A9FFE056BC1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CBF5-C437-424C-989E-4E2B37F34D0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8134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Тема: Возведение в степень произведения и степени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Повторение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Тес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аполните пропуски так, чтобы утверждения были верны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При возведение в степень положительного числа получается  _______________________ числ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тепень отрицательного числа с четным показателем ___________ числ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тепень отрицательного числа с нечетным показателем __________ числ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При умножении степеней с __________     основание _____________________________,  а показатели степеней ________________________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При делении степеней с _____________ основание ____________, а из показателя степени  делимого _________________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________________________________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84240"/>
            <a:ext cx="864216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Свойства степеней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994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любого числа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произвольных натуральных чисел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любого числ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0 и произвольных натуральных чисел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х, что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&gt;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любых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оизвольного натурального числа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b)=a 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любого числа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оизвольных натуральных чисел       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)=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11280" y="2060640"/>
                <a:ext cx="21564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971640" y="206064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84360" y="3500280"/>
                <a:ext cx="215640" cy="1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971640" y="350028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692360" y="350028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332000" y="3500280"/>
                <a:ext cx="215640" cy="1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547640" y="3573360"/>
                <a:ext cx="127080" cy="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58920" y="2060640"/>
                <a:ext cx="21600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692360" y="206064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476360" y="2060640"/>
                <a:ext cx="21420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826920" y="4365720"/>
                <a:ext cx="1969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187280" y="443700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03280" y="443700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148360" y="5300640"/>
                <a:ext cx="21564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580000" y="530064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84360" y="5734080"/>
                <a:ext cx="21564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187280" y="5734080"/>
                <a:ext cx="21600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900000" y="573408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403280" y="573408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Итог уро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2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йдите ошибк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x=x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: a=a 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y)=y 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ab)=ab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116000" y="2421000"/>
                <a:ext cx="1270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692360" y="2421000"/>
                <a:ext cx="1270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135160" y="2349360"/>
                <a:ext cx="18432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042920" y="3213000"/>
                <a:ext cx="1857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403280" y="3213000"/>
                <a:ext cx="1954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187280" y="4221000"/>
                <a:ext cx="174960" cy="2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332000" y="4221000"/>
                <a:ext cx="1666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835280" y="4149720"/>
                <a:ext cx="1839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547640" y="5013360"/>
                <a:ext cx="15084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908000" y="5013360"/>
                <a:ext cx="15084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124000" y="3213000"/>
                <a:ext cx="1954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16:01:35Z</dcterms:created>
  <dc:creator>Loner-XP</dc:creator>
  <dc:description/>
  <dc:language>en-US</dc:language>
  <cp:lastModifiedBy>Loner-XP</cp:lastModifiedBy>
  <dcterms:modified xsi:type="dcterms:W3CDTF">2012-12-06T17:53:38Z</dcterms:modified>
  <cp:revision>11</cp:revision>
  <dc:subject/>
  <dc:title>Слайд 1</dc:title>
</cp:coreProperties>
</file>