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E80-9027-434F-9BDC-468F29FD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4CB-E74A-4ECF-A9B4-50B33FC9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7EA-54D5-45EC-ACC3-4705260A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250-27F6-4416-98C5-99BA160A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385B-7643-44FF-A22A-652C4937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CB9C-3687-4F2A-98D2-A1E64F30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53FC-20FE-4356-BAA2-9E855A23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AA8F-FC73-450C-8ABF-60812E2E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B73D-CD8B-4971-80F5-445666EA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F4A3-A309-4665-9E42-40CD9836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6104-CB84-4E94-A39A-A237A0DA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6C3-602A-4145-8689-D8AAE389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F5A1-CAC1-493C-A573-46C389BD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542F-E2BE-4F7F-9C2F-4C569B69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94AB-1605-4A58-94DD-A35D6EA7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21CF-71E4-4912-9DA3-8A700631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44AD-0689-44FC-A916-21FFF5F4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FB6-B6F9-4E7E-8A35-2647ED05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364-39C7-4939-9DEB-B29984FE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B2A-8770-4922-8919-D47BE7D4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1D2-DAA3-479E-BA56-A79C1AFE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9E3-E1E3-41B1-991A-67BACE7A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2C2-C47A-499B-AB1F-343FA0C0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770-0579-45CC-BCD8-997CF25D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1FD2-575A-40A7-A88A-BC1A4E22B21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0396-DB99-4B66-9131-A97A636DE1E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134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Тема: Возведение в степень произведения и степени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Повторе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Тес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полните пропуски так, чтобы утверждения были верны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При возведение в степень положительного числа получается  _______________________ чис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тепень отрицательного числа с четным показателем ___________ числ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тепень отрицательного числа с нечетным показателем __________ числ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При умножении степеней с __________     основание _____________________________,  а показатели степеней ________________________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При делении степеней с _____________ основание ____________, а из показателя степени  делимого 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________________________________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84240"/>
            <a:ext cx="864216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Свойства степене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любого чис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произвольных натуральных чисе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любого числ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0 и произвольных натуральных чисе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х, чт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&gt;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ых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извольного натурального чис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b)=a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го чис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извольных натуральных чисел       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)=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11280" y="2060640"/>
                <a:ext cx="215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71640" y="206064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4360" y="3500280"/>
                <a:ext cx="215640" cy="1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71640" y="35002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92360" y="35002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332000" y="3500280"/>
                <a:ext cx="215640" cy="1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47640" y="3573360"/>
                <a:ext cx="12708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58920" y="2060640"/>
                <a:ext cx="21600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06064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76360" y="2060640"/>
                <a:ext cx="214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26920" y="4365720"/>
                <a:ext cx="1969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87280" y="443700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03280" y="443700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48360" y="5300640"/>
                <a:ext cx="215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580000" y="530064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84360" y="5734080"/>
                <a:ext cx="2156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87280" y="5734080"/>
                <a:ext cx="21600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900000" y="57340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03280" y="5734080"/>
                <a:ext cx="1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Итог уро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йдите ошибк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x=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: a=a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y)=y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b)=a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16000" y="24210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692360" y="242100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135160" y="2349360"/>
                <a:ext cx="18432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042920" y="3213000"/>
                <a:ext cx="185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403280" y="3213000"/>
                <a:ext cx="195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87280" y="4221000"/>
                <a:ext cx="17496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32000" y="4221000"/>
                <a:ext cx="166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835280" y="4149720"/>
                <a:ext cx="1839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547640" y="5013360"/>
                <a:ext cx="1508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8000" y="5013360"/>
                <a:ext cx="1508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124000" y="3213000"/>
                <a:ext cx="195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6:01:35Z</dcterms:created>
  <dc:creator>Loner-XP</dc:creator>
  <dc:description/>
  <dc:language>en-US</dc:language>
  <cp:lastModifiedBy>Loner-XP</cp:lastModifiedBy>
  <dcterms:modified xsi:type="dcterms:W3CDTF">2012-12-06T17:53:38Z</dcterms:modified>
  <cp:revision>11</cp:revision>
  <dc:subject/>
  <dc:title>Слайд 1</dc:title>
</cp:coreProperties>
</file>