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96C-CF54-4C2C-B376-4B14CA53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97A-F023-4CD5-B00D-DEFA54A9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963-DC20-4C4B-8C26-FBEA9244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08E-54FA-4B05-9FC0-E1AF5B7A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67F-FD74-460A-ADFC-D195735D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4C7-FE78-45EC-8571-18B6FC61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275-C0D4-40B3-93B9-7D3D9102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853-C11B-4988-8BED-37A1672F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F79-3CC8-4009-84BB-CAD764ED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201-2C7B-4816-A29E-05E9C21E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507-35B7-4A55-BB7F-0706372B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9AC-7D41-4C7B-BEA6-03EA81BE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50F0-5473-40EA-9C6C-604D803BF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7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5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5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пк</cp:lastModifiedBy>
  <dcterms:modified xsi:type="dcterms:W3CDTF">2012-12-02T17:36:42Z</dcterms:modified>
  <cp:revision>10</cp:revision>
  <dc:subject/>
  <dc:title>Слайд 1</dc:title>
</cp:coreProperties>
</file>