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153-3BBD-4B8D-B163-002B5B2F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A05-E45B-44ED-83F8-F4CEC506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658-CF6E-4310-98AD-2F0CE899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04C-4712-4864-AECE-4B5677A2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0B1-E948-48E3-8B6C-084F04F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384-1EED-4C4E-9519-9104DC66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C20-FA05-44AB-B61A-2FA8FED4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7D0-B8FB-46F4-A037-CC398C4E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67E-3D50-48F7-AAFB-E0B76288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40D-73C7-4F83-B996-2161BEA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C7E-F89B-45C1-B0EE-CBBB61F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D1F-00D4-449E-8956-52A4FCB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207-1BFC-4AE1-8701-761B59D4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62028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е жан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сказк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басн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46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но не груз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врозь хоть бро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иметь муж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равлять свои оши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уметь прощ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0:08:32Z</dcterms:created>
  <dc:creator>Школа</dc:creator>
  <dc:description/>
  <dc:language>en-US</dc:language>
  <cp:lastModifiedBy>Школа</cp:lastModifiedBy>
  <dcterms:modified xsi:type="dcterms:W3CDTF">2009-11-25T10:08:42Z</dcterms:modified>
  <cp:revision>1</cp:revision>
  <dc:subject/>
  <dc:title>Слайд 1</dc:title>
</cp:coreProperties>
</file>