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3FF-546D-401D-A48B-B2C43CA0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D9A-1C02-4DF3-AC7B-288A327A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3CA-7EEC-4323-9222-D9DEE59A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A49-868E-46D8-B3E2-10FE2E67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7F5-F431-4DE5-AFB9-2F764D98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492-34D9-4D9C-A922-A5351F73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7276-2A34-4CB0-A14F-A282053C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4AF-9BFE-4A53-AA83-A3456DEB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21B-6DDE-483C-A5FA-F7595D3F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EA6-7F92-4418-BE55-EC022D8E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BD2-481A-4A8E-85DE-00BB4901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BEA-0C43-44B9-BF05-A67559AB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BF1A-EB3D-465A-A751-7648EC9A7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382920" cy="2590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12"/>
          <p:cNvSpPr txBox="1"/>
          <p:nvPr/>
        </p:nvSpPr>
        <p:spPr>
          <a:xfrm>
            <a:off x="900000" y="1628640"/>
            <a:ext cx="7559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6048720" cy="4052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79280" y="5516640"/>
            <a:ext cx="864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– хорошие родители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рмят птенцов оба родителя. Они носят своим прожорливым чадам различных насекомых, их личинок, червей, слизней, улиток и прочую мелкую живность. Через пару недель скворчата вылетают из гнезда, а еще спустя 5-7 дней становятся совершенно самостоятель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179280" y="587700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незда свои скворцы устраивают в дуплах или скворечниках. Внешний слой гнезда составляет разнообразная растительная ветошь, лоток выстилает самец пер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761080" cy="405792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395280" y="5229360"/>
            <a:ext cx="835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августе и сентябре скворцы собираются в стаи, которые выбирают себе укромное место для ночевки. Порой в таких скоплениях тысячи и даже сотни тысяч пт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и уже не пользуются дуплами, а ночуют открыто - в тростниках, на кустах и в лесу на деревь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здней осенью скворцы отлетают на ю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5473440" cy="3816360"/>
          </a:xfrm>
          <a:prstGeom prst="rect">
            <a:avLst/>
          </a:prstGeom>
          <a:ln w="0">
            <a:noFill/>
          </a:ln>
        </p:spPr>
      </p:pic>
      <p:sp>
        <p:nvSpPr>
          <p:cNvPr id="79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3168720" cy="2276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622160" y="357336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уйвол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572000" y="4869000"/>
            <a:ext cx="100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3"/>
          <a:stretch/>
        </p:blipFill>
        <p:spPr>
          <a:xfrm>
            <a:off x="5796000" y="1197000"/>
            <a:ext cx="2133720" cy="2232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6014880" y="350028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л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1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5796000" y="4005360"/>
            <a:ext cx="2089080" cy="2303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3"/>
          <p:cNvSpPr/>
          <p:nvPr/>
        </p:nvSpPr>
        <p:spPr>
          <a:xfrm>
            <a:off x="5943240" y="63086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ёрн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"/>
          <p:cNvPicPr/>
          <p:nvPr/>
        </p:nvPicPr>
        <p:blipFill>
          <a:blip r:embed="rId5"/>
          <a:stretch/>
        </p:blipFill>
        <p:spPr>
          <a:xfrm>
            <a:off x="1187280" y="4005360"/>
            <a:ext cx="3097440" cy="22460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5"/>
          <p:cNvSpPr/>
          <p:nvPr/>
        </p:nvSpPr>
        <p:spPr>
          <a:xfrm>
            <a:off x="1552680" y="630864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иннохвост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2305080" cy="2271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3419640" y="1268280"/>
            <a:ext cx="1814400" cy="230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3206520" y="364500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ёжк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119240" y="3573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4"/>
          <a:stretch/>
        </p:blipFill>
        <p:spPr>
          <a:xfrm>
            <a:off x="1116000" y="4149720"/>
            <a:ext cx="3024360" cy="215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5"/>
          <a:stretch/>
        </p:blipFill>
        <p:spPr>
          <a:xfrm>
            <a:off x="5867280" y="1268280"/>
            <a:ext cx="2917800" cy="3745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1694520" y="630864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5657400" y="52293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умрудный блестящи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998160" y="2565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24000" y="4813560"/>
            <a:ext cx="882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крупная птица, длина которой около 230 мм, а вес -7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ёрное оперение с металлическим блеском с белыми крапин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ло у птицы массив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ея коротк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ногах 4 пальца с изогнутыми когт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трый, тонкий и длинный клюв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вост короткий, почти прямой на конце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824360" cy="3311640"/>
          </a:xfrm>
          <a:prstGeom prst="rect">
            <a:avLst/>
          </a:prstGeom>
          <a:ln w="0">
            <a:noFill/>
          </a:ln>
        </p:spPr>
      </p:pic>
      <p:sp>
        <p:nvSpPr>
          <p:cNvPr id="45" name="WordArt 8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398880" y="2349360"/>
            <a:ext cx="2048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жная Аф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лан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6265800" cy="4703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3427560" y="6093000"/>
            <a:ext cx="42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нашей стране обитают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6 видов скворц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684720" y="19162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Об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250920" y="5299200"/>
            <a:ext cx="88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имуют на юге нашей страны. Скворцы – самцы прилетают первыми в середине ма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вые дни после прилёта скворцы держатся в стаях. Гнёзда скворцы устраивают в дуплах, под крышами домов, охотно селятся в сделанных человеком скворечни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2050920" y="1268280"/>
            <a:ext cx="5042160" cy="3662640"/>
          </a:xfrm>
          <a:prstGeom prst="rect">
            <a:avLst/>
          </a:prstGeom>
          <a:ln w="0">
            <a:noFill/>
          </a:ln>
        </p:spPr>
      </p:pic>
      <p:sp>
        <p:nvSpPr>
          <p:cNvPr id="53" name="WordArt 12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3065040" y="5013360"/>
            <a:ext cx="30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 - перелётные птиц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50920" y="566100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воречники люди вешают на деревьях или устанавливают на высоких шестах.  В выборе жилья скворцы разборчи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561672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79280" y="544500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итанные человеком скворцы без труда обучаются произносить отдельные слова и несложные фразы и развлекают хозяев то телефонным звонком, то дверным скрипом, то собачьим ла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1763640" y="1197000"/>
            <a:ext cx="5545080" cy="3743280"/>
          </a:xfrm>
          <a:prstGeom prst="rect">
            <a:avLst/>
          </a:prstGeom>
          <a:ln w="0">
            <a:noFill/>
          </a:ln>
        </p:spPr>
      </p:pic>
      <p:sp>
        <p:nvSpPr>
          <p:cNvPr id="60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250920" y="2276640"/>
            <a:ext cx="4681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ита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лгонос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усениц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уговым мотыль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изн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лит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ранч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ждевыми червя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3492360" y="1557360"/>
            <a:ext cx="4608720" cy="33145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324000" y="551664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- исключительно крепкие и неприхотливые птицы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Кормятся чаще  всего на земле. Отыскивая пищу, ходят большими шагами, всюду всовывают свой длинный клюв и, раскрывая его, раздвигают растительную ветошь в поисках различных беспозвоноч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250920" y="2205000"/>
            <a:ext cx="482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Скворцы - певчие птицы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ладают широким диапазоном звуков, которые могут включать в себя свисты, скрипы, мяуканье, различные шумы и дребезж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ворцы могут подражать и человеческому голосу, а живя в неволе, заучивают отдельные слова и короткие предложения. Песня у скворцов громкая и по-весеннему веселая, но не слишком мелодич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73440" cy="3600360"/>
          </a:xfrm>
          <a:prstGeom prst="rect">
            <a:avLst/>
          </a:prstGeom>
          <a:ln w="0">
            <a:noFill/>
          </a:ln>
        </p:spPr>
      </p:pic>
      <p:sp>
        <p:nvSpPr>
          <p:cNvPr id="67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5545080" cy="4149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250920" y="6021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дке - 7 красивых  голубых яиц.  Их высиживает самка в течение 14 дн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6:43:43Z</dcterms:created>
  <dc:creator>Галина</dc:creator>
  <dc:description/>
  <dc:language>en-US</dc:language>
  <cp:lastModifiedBy>пк</cp:lastModifiedBy>
  <dcterms:modified xsi:type="dcterms:W3CDTF">2012-12-02T17:36:42Z</dcterms:modified>
  <cp:revision>10</cp:revision>
  <dc:subject/>
  <dc:title>Слайд 1</dc:title>
</cp:coreProperties>
</file>