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A0B-7953-4729-BB85-424F5904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C15-F3C6-4CCB-B72C-4C4DE52D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C41-6086-46D7-BD32-1009B75A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115-6E58-4A67-80F9-C7512DF0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677-B9DA-4548-B64A-C7A225B9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AB2-7179-4FDF-8877-33CBC2ED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827-CDBF-4156-B6D8-A7908A62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358-42DA-42E0-AA1A-2E2739B7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0C5-BD66-43D4-BD15-DE409219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A91-2505-4815-96BA-39A3EB75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8A8-6FF6-477F-B6E7-7FA89907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CAB-D9CA-4BBE-8668-883CD6F8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AA1A-A38C-4581-AB14-9191BDECA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7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5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5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пк</cp:lastModifiedBy>
  <dcterms:modified xsi:type="dcterms:W3CDTF">2012-12-02T17:36:42Z</dcterms:modified>
  <cp:revision>10</cp:revision>
  <dc:subject/>
  <dc:title>Слайд 1</dc:title>
</cp:coreProperties>
</file>