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597-C274-4D73-A15B-0C9B5AC5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7BE-5C1C-45DD-857A-0CF9CC8C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919-BC08-4C77-AD34-2AFAB66F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D5A-5BFE-4761-9535-61BEEB49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587-FE09-4E21-9CF6-900C1435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7C8-FCBA-402C-9A0A-47705F64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2D3-736D-41CA-8F1C-75146DEF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FE7-40A8-4DE5-8774-B88019CC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ADD-A74F-4F2F-B9A2-D0F686B3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BF5-64E5-457C-BF20-9A5977E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494-69F6-4724-A60A-5F1573C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CEE-BEAF-4C48-9FDA-3AEB116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6AB-3283-446F-AB21-CC3BCB04A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620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е жан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сказка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басн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жно не груз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врозь хоть бро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иметь муж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равлять свои оши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 уметь прощ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0:08:32Z</dcterms:created>
  <dc:creator>Школа</dc:creator>
  <dc:description/>
  <dc:language>en-US</dc:language>
  <cp:lastModifiedBy>Школа</cp:lastModifiedBy>
  <dcterms:modified xsi:type="dcterms:W3CDTF">2009-11-25T10:08:42Z</dcterms:modified>
  <cp:revision>1</cp:revision>
  <dc:subject/>
  <dc:title>Слайд 1</dc:title>
</cp:coreProperties>
</file>