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E56A-3060-4002-AA9A-0AB92594F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AF3B-70E8-456D-9790-47A2AA4A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08EB-8834-458D-9761-75C9202BC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20C8-9626-429F-B424-3A69770CF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278F-FCE7-437E-929B-172EC4DB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E389-5273-40FC-9630-D8B7F6BF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EBA5-3C2E-40BB-A90F-F502A999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A134-2552-4113-A93E-B3894873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11EE-15BC-4F09-B24B-9786B5D5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66DB-CB70-4F51-ABE1-D7079C01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10E3-37EE-42F9-9900-F83B002F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2528-97CD-4281-9C42-3981099F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6F45-FEC1-4CE0-AC27-29D0C911C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468360" y="3357720"/>
            <a:ext cx="3382920" cy="2590560"/>
          </a:xfrm>
          <a:prstGeom prst="rect">
            <a:avLst/>
          </a:prstGeom>
          <a:ln w="0">
            <a:noFill/>
          </a:ln>
        </p:spPr>
      </p:pic>
      <p:sp>
        <p:nvSpPr>
          <p:cNvPr id="42" name="WordArt 12"/>
          <p:cNvSpPr txBox="1"/>
          <p:nvPr/>
        </p:nvSpPr>
        <p:spPr>
          <a:xfrm>
            <a:off x="900000" y="1628640"/>
            <a:ext cx="7559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1547640" y="1268280"/>
            <a:ext cx="6048720" cy="40528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179280" y="5516640"/>
            <a:ext cx="864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Скворцы – хорошие родители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рмят птенцов оба родителя. Они носят своим прожорливым чадам различных насекомых, их личинок, червей, слизней, улиток и прочую мелкую живность. Через пару недель скворчата вылетают из гнезда, а еще спустя 5-7 дней становятся совершенно самостоятельны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179280" y="5877000"/>
            <a:ext cx="849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незда свои скворцы устраивают в дуплах или скворечниках. Внешний слой гнезда составляет разнообразная растительная ветошь, лоток выстилает самец перь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5761080" cy="4057920"/>
          </a:xfrm>
          <a:prstGeom prst="rect">
            <a:avLst/>
          </a:prstGeom>
          <a:ln w="0">
            <a:noFill/>
          </a:ln>
        </p:spPr>
      </p:pic>
      <p:sp>
        <p:nvSpPr>
          <p:cNvPr id="76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395280" y="5229360"/>
            <a:ext cx="8353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августе и сентябре скворцы собираются в стаи, которые выбирают себе укромное место для ночевки. Порой в таких скоплениях тысячи и даже сотни тысяч пти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ни уже не пользуются дуплами, а ночуют открыто - в тростниках, на кустах и в лесу на деревь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здней осенью скворцы отлетают на ю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2"/>
          <a:stretch/>
        </p:blipFill>
        <p:spPr>
          <a:xfrm>
            <a:off x="1835280" y="1268280"/>
            <a:ext cx="5473440" cy="3816360"/>
          </a:xfrm>
          <a:prstGeom prst="rect">
            <a:avLst/>
          </a:prstGeom>
          <a:ln w="0">
            <a:noFill/>
          </a:ln>
        </p:spPr>
      </p:pic>
      <p:sp>
        <p:nvSpPr>
          <p:cNvPr id="79" name="WordArt 9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1187280" y="1197000"/>
            <a:ext cx="3168720" cy="22762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1622160" y="3573360"/>
            <a:ext cx="21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уйволов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4572000" y="4869000"/>
            <a:ext cx="1008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"/>
          <p:cNvPicPr/>
          <p:nvPr/>
        </p:nvPicPr>
        <p:blipFill>
          <a:blip r:embed="rId3"/>
          <a:stretch/>
        </p:blipFill>
        <p:spPr>
          <a:xfrm>
            <a:off x="5796000" y="1197000"/>
            <a:ext cx="2133720" cy="2232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9"/>
          <p:cNvSpPr/>
          <p:nvPr/>
        </p:nvSpPr>
        <p:spPr>
          <a:xfrm>
            <a:off x="6014880" y="3500280"/>
            <a:ext cx="16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л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11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6" name="Picture 12" descr=""/>
          <p:cNvPicPr/>
          <p:nvPr/>
        </p:nvPicPr>
        <p:blipFill>
          <a:blip r:embed="rId4"/>
          <a:stretch/>
        </p:blipFill>
        <p:spPr>
          <a:xfrm>
            <a:off x="5796000" y="4005360"/>
            <a:ext cx="2089080" cy="23032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3"/>
          <p:cNvSpPr/>
          <p:nvPr/>
        </p:nvSpPr>
        <p:spPr>
          <a:xfrm>
            <a:off x="5943240" y="630864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ёрн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4" descr=""/>
          <p:cNvPicPr/>
          <p:nvPr/>
        </p:nvPicPr>
        <p:blipFill>
          <a:blip r:embed="rId5"/>
          <a:stretch/>
        </p:blipFill>
        <p:spPr>
          <a:xfrm>
            <a:off x="1187280" y="4005360"/>
            <a:ext cx="3097440" cy="22460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5"/>
          <p:cNvSpPr/>
          <p:nvPr/>
        </p:nvSpPr>
        <p:spPr>
          <a:xfrm>
            <a:off x="1552680" y="6308640"/>
            <a:ext cx="24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иннохвост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2305080" cy="2271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3"/>
          <a:stretch/>
        </p:blipFill>
        <p:spPr>
          <a:xfrm>
            <a:off x="3419640" y="1268280"/>
            <a:ext cx="1814400" cy="2305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7"/>
          <p:cNvSpPr/>
          <p:nvPr/>
        </p:nvSpPr>
        <p:spPr>
          <a:xfrm>
            <a:off x="3206520" y="364500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рёжков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1119240" y="35733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й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9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4"/>
          <a:stretch/>
        </p:blipFill>
        <p:spPr>
          <a:xfrm>
            <a:off x="1116000" y="4149720"/>
            <a:ext cx="3024360" cy="2158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"/>
          <p:cNvPicPr/>
          <p:nvPr/>
        </p:nvPicPr>
        <p:blipFill>
          <a:blip r:embed="rId5"/>
          <a:stretch/>
        </p:blipFill>
        <p:spPr>
          <a:xfrm>
            <a:off x="5867280" y="1268280"/>
            <a:ext cx="2917800" cy="37450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2"/>
          <p:cNvSpPr/>
          <p:nvPr/>
        </p:nvSpPr>
        <p:spPr>
          <a:xfrm>
            <a:off x="1694520" y="6308640"/>
            <a:ext cx="181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зов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5657400" y="5229360"/>
            <a:ext cx="32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зумрудный блестящи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3998160" y="256536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324000" y="4813560"/>
            <a:ext cx="8820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крупная птица, длина которой около 230 мм, а вес -75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ёрное оперение с металлическим блеском с белыми крапинк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ело у птицы массивно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Шея коротк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ногах 4 пальца с изогнутыми когтя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стрый, тонкий и длинный клюв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Хвост короткий, почти прямой на конце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2195640" y="1268280"/>
            <a:ext cx="4824360" cy="3311640"/>
          </a:xfrm>
          <a:prstGeom prst="rect">
            <a:avLst/>
          </a:prstGeom>
          <a:ln w="0">
            <a:noFill/>
          </a:ln>
        </p:spPr>
      </p:pic>
      <p:sp>
        <p:nvSpPr>
          <p:cNvPr id="45" name="WordArt 8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398880" y="2349360"/>
            <a:ext cx="2048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вро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з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верная Амер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стра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Южная Афр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елланд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2484360" y="1268280"/>
            <a:ext cx="6265800" cy="47037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8"/>
          <p:cNvSpPr/>
          <p:nvPr/>
        </p:nvSpPr>
        <p:spPr>
          <a:xfrm>
            <a:off x="3427560" y="6093000"/>
            <a:ext cx="429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нашей стране обитают 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6 видов скворц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9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684720" y="191628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Об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250920" y="5299200"/>
            <a:ext cx="88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имуют на юге нашей страны. Скворцы – самцы прилетают первыми в середине мар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рвые дни после прилёта скворцы держатся в стаях. Гнёзда скворцы устраивают в дуплах, под крышами домов, охотно селятся в сделанных человеком скворечни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2050920" y="1268280"/>
            <a:ext cx="5042160" cy="3662640"/>
          </a:xfrm>
          <a:prstGeom prst="rect">
            <a:avLst/>
          </a:prstGeom>
          <a:ln w="0">
            <a:noFill/>
          </a:ln>
        </p:spPr>
      </p:pic>
      <p:sp>
        <p:nvSpPr>
          <p:cNvPr id="53" name="WordArt 12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3065040" y="5013360"/>
            <a:ext cx="30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Скворцы  - перелётные птиц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250920" y="5661000"/>
            <a:ext cx="864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кворечники люди вешают на деревьях или устанавливают на высоких шестах.  В выборе жилья скворцы разборчив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1547640" y="1341360"/>
            <a:ext cx="5616720" cy="3657600"/>
          </a:xfrm>
          <a:prstGeom prst="rect">
            <a:avLst/>
          </a:prstGeom>
          <a:ln w="0">
            <a:noFill/>
          </a:ln>
        </p:spPr>
      </p:pic>
      <p:sp>
        <p:nvSpPr>
          <p:cNvPr id="57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179280" y="5445000"/>
            <a:ext cx="864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спитанные человеком скворцы без труда обучаются произносить отдельные слова и несложные фразы и развлекают хозяев то телефонным звонком, то дверным скрипом, то собачьим ла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1763640" y="1197000"/>
            <a:ext cx="5545080" cy="3743280"/>
          </a:xfrm>
          <a:prstGeom prst="rect">
            <a:avLst/>
          </a:prstGeom>
          <a:ln w="0">
            <a:noFill/>
          </a:ln>
        </p:spPr>
      </p:pic>
      <p:sp>
        <p:nvSpPr>
          <p:cNvPr id="60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250920" y="2276640"/>
            <a:ext cx="4681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итаю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олгоноси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усениц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уговым мотыль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лизн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лит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аранч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ождевыми червя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2"/>
          <a:stretch/>
        </p:blipFill>
        <p:spPr>
          <a:xfrm>
            <a:off x="3492360" y="1557360"/>
            <a:ext cx="4608720" cy="33145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9"/>
          <p:cNvSpPr/>
          <p:nvPr/>
        </p:nvSpPr>
        <p:spPr>
          <a:xfrm>
            <a:off x="324000" y="551664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Скворцы - исключительно крепкие и неприхотливые птицы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Кормятся чаще  всего на земле. Отыскивая пищу, ходят большими шагами, всюду всовывают свой длинный клюв и, раскрывая его, раздвигают растительную ветошь в поисках различных беспозвоноч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10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250920" y="2205000"/>
            <a:ext cx="4824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Скворцы - певчие птицы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ладают широким диапазоном звуков, которые могут включать в себя свисты, скрипы, мяуканье, различные шумы и дребезж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кворцы могут подражать и человеческому голосу, а живя в неволе, заучивают отдельные слова и короткие предложения. Песня у скворцов громкая и по-весеннему веселая, но не слишком мелодичн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"/>
          <p:cNvPicPr/>
          <p:nvPr/>
        </p:nvPicPr>
        <p:blipFill>
          <a:blip r:embed="rId2"/>
          <a:stretch/>
        </p:blipFill>
        <p:spPr>
          <a:xfrm>
            <a:off x="5219640" y="1844640"/>
            <a:ext cx="3673440" cy="3600360"/>
          </a:xfrm>
          <a:prstGeom prst="rect">
            <a:avLst/>
          </a:prstGeom>
          <a:ln w="0">
            <a:noFill/>
          </a:ln>
        </p:spPr>
      </p:pic>
      <p:sp>
        <p:nvSpPr>
          <p:cNvPr id="67" name="WordArt 10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979640" y="1341360"/>
            <a:ext cx="5545080" cy="41497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250920" y="6021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адке - 7 красивых  голубых яиц.  Их высиживает самка в течение 14 дн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16:43:43Z</dcterms:created>
  <dc:creator>Галина</dc:creator>
  <dc:description/>
  <dc:language>en-US</dc:language>
  <cp:lastModifiedBy>пк</cp:lastModifiedBy>
  <dcterms:modified xsi:type="dcterms:W3CDTF">2012-12-02T17:36:42Z</dcterms:modified>
  <cp:revision>10</cp:revision>
  <dc:subject/>
  <dc:title>Слайд 1</dc:title>
</cp:coreProperties>
</file>