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069-DA20-48BA-9256-59A66C3C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438-5C5C-4434-B775-4A7277F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DC8-2CFA-46EF-B824-DA2314AE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6DC-9A75-4831-AEA6-BD047875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4FA-507A-47F1-96DC-A094D05A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BF9-0719-49E0-94D4-7AF45422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EF2-D5C6-485E-9AE8-401765BA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C66-2FF6-474F-818C-1CAA1EF2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A25-A0BE-46D1-B754-31090BD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F19-7165-439B-8A33-9806AB9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CDB-2E4C-48AE-A10D-020AEEC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712-6F66-4EF9-AC72-72A3E800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723-A7EC-41B2-ABE0-CEEEECFC1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е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сказк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басн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но не груз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врозь хоть бро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иметь му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равлять свои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уметь прощ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0:08:32Z</dcterms:created>
  <dc:creator>Школа</dc:creator>
  <dc:description/>
  <dc:language>en-US</dc:language>
  <cp:lastModifiedBy>Школа</cp:lastModifiedBy>
  <dcterms:modified xsi:type="dcterms:W3CDTF">2009-11-25T10:08:42Z</dcterms:modified>
  <cp:revision>1</cp:revision>
  <dc:subject/>
  <dc:title>Слайд 1</dc:title>
</cp:coreProperties>
</file>