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989-A011-414A-AE33-8F7DE294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4F0-A8A5-4F40-8C67-D0B2D10A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04A-4D94-4353-9C1F-1F613623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155-022D-4D98-A9A4-44BD7D67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1DC-B383-456E-9B0C-C8C3BD98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876-8C0F-47F1-BF83-81D77EF2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4A6-B03E-439B-87FB-836BCC98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1FA-539C-471F-829F-1F96A08D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E9C-BFEE-4209-8D92-5808453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C8A-5363-4893-956A-DC5C81F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8CE-4776-4058-9B5D-5E884EE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4AF-868C-4109-9876-BFC458D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07A6-BE47-445E-87B9-D4E965A06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пк</cp:lastModifiedBy>
  <dcterms:modified xsi:type="dcterms:W3CDTF">2012-12-02T17:36:42Z</dcterms:modified>
  <cp:revision>10</cp:revision>
  <dc:subject/>
  <dc:title>Слайд 1</dc:title>
</cp:coreProperties>
</file>