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F4B-7FB5-450C-B390-59CCB35F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877-D82B-45B6-A6B2-43DE238A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B86-9072-4C76-99AE-3A5D3C96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858-2B3F-4B2C-AA1B-DBD7040B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4BB-6947-41E6-84D0-AB6AF6CC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22D-3B89-46B8-9746-8F0B64AC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08E3-E35E-4D54-9F7F-68B83643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970-EB8C-4797-9A7F-BA0BAEE4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B27-291F-49E7-B26C-B9C775CE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F51-8237-487D-A73C-C3CF4A24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200-1EC8-4C9F-9297-6348BCFD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953-2460-4AD1-B222-05DD472C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9102-AF0B-432D-AC1E-9E36DD439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62028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ые жан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сказка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басн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ужно не грузн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врозь хоть бро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ужно иметь муж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равлять свои ошиб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о уметь прощ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0:08:32Z</dcterms:created>
  <dc:creator>Школа</dc:creator>
  <dc:description/>
  <dc:language>en-US</dc:language>
  <cp:lastModifiedBy>Школа</cp:lastModifiedBy>
  <dcterms:modified xsi:type="dcterms:W3CDTF">2009-11-25T10:08:42Z</dcterms:modified>
  <cp:revision>1</cp:revision>
  <dc:subject/>
  <dc:title>Слайд 1</dc:title>
</cp:coreProperties>
</file>