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8.jpeg" ContentType="image/jpeg"/>
  <Override PartName="/ppt/media/image2.gif" ContentType="image/gif"/>
  <Override PartName="/ppt/media/image4.png" ContentType="image/png"/>
  <Override PartName="/ppt/media/image24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5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4B2-66A3-44E0-ACBA-38FF7A7D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10F-9D0F-4FCC-8B8A-6F6B5C4C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C9C-5A2B-428D-970E-D908C855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AA7-FCBB-4C3E-9C1D-3BD9D9BB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037B-CB6C-4EFA-BD9C-CCB385BB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F230-DBCE-4DCD-88FB-3B946ED5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C72D-2A1A-4245-BB76-257DBEA6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8D43-B0FD-4D0C-9134-15182ACC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094F-9120-49C2-BA4E-C3FF7B00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D8A3-84B8-4CC5-8E8D-DF85496C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ECFE-778A-4FDD-9FBB-F43FADC8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C71-A88A-46C0-A14D-238FC099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5739-CE61-4226-8C37-1E578F06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3035-73F2-4BA6-8D77-15753A24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6DE6-2C75-4162-9778-BEA77DA0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CD54-B4EF-4AE0-8986-DC9E0111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2C09-255D-494D-AE38-30A6CBAE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5D9-631C-459E-9663-CC901E0E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DA9-0F59-4938-9572-53BD492A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7AC-A15C-4D5A-8384-27F02D2C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381-735B-4FE3-83E3-0F314750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52D-38FA-45A3-8A8D-CEE18F2C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4EF-0035-4A49-9041-BBD358DE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8BB-C659-4CF0-B6D0-E33C4616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514F-F5F0-4246-87E5-736080CAAC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A013-589B-4608-A208-BB0F1A5933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7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Теорема Пифагор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28560" y="1599840"/>
            <a:ext cx="6257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будет вечной истина, как скоро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 познает слабый человек!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ныне теорема Пифагор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рна, как и в его далекий век.</a:t>
            </a:r>
            <a:br>
              <a:rPr sz="28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Шамис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pifagor"/>
          <p:cNvPicPr/>
          <p:nvPr/>
        </p:nvPicPr>
        <p:blipFill>
          <a:blip r:embed="rId1"/>
          <a:stretch/>
        </p:blipFill>
        <p:spPr>
          <a:xfrm>
            <a:off x="714240" y="1571760"/>
            <a:ext cx="2465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 rot="16200000">
            <a:off x="5544000" y="14464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 rot="16200000">
            <a:off x="2951640" y="288792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 rot="5400000">
            <a:off x="1870560" y="144828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 rot="5400000">
            <a:off x="5544000" y="144684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364000" y="1627200"/>
            <a:ext cx="2519640" cy="251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6804000" y="270828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 rot="10800000">
            <a:off x="3130200" y="1628640"/>
            <a:ext cx="1079640" cy="14400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 rot="10800000">
            <a:off x="6803640" y="27082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1690560" y="2708280"/>
            <a:ext cx="1079640" cy="144000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690560" y="1628640"/>
            <a:ext cx="2519640" cy="251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33344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05236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286160" y="213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00508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42072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957800" y="3284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594180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594180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1981080" y="4221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1333440" y="1916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3565440" y="126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4286160" y="342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7957800" y="2060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7165800" y="1341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7237080" y="4149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5005080" y="2060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2195640" y="476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Смотр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1476360" y="479736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пифагорейцев был распространён способ доказательства теоремы “без слов”. Слушателям представляли чертёж , на котором изображены два равных квадрата со стороной a+b, после чего писали одно слово “Смотри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ифагоровы штаны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о все стороны равны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1" name="Picture 4" descr="5"/>
          <p:cNvPicPr/>
          <p:nvPr/>
        </p:nvPicPr>
        <p:blipFill>
          <a:blip r:embed="rId1"/>
          <a:stretch/>
        </p:blipFill>
        <p:spPr>
          <a:xfrm>
            <a:off x="1549440" y="2276640"/>
            <a:ext cx="66578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м пифагорейским опознавательным знаком был символ здоровья – пентаграмма или пифагорейская звезда. Она представляет собой звёздчатый пятиугольник, образованный диагоналями правильного пятиугольника. 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image42"/>
          <p:cNvPicPr/>
          <p:nvPr/>
        </p:nvPicPr>
        <p:blipFill>
          <a:blip r:embed="rId1"/>
          <a:stretch/>
        </p:blipFill>
        <p:spPr>
          <a:xfrm>
            <a:off x="5292720" y="213372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11280" y="2708280"/>
            <a:ext cx="2736720" cy="2665440"/>
          </a:xfrm>
          <a:prstGeom prst="rect">
            <a:avLst/>
          </a:prstGeom>
          <a:gradFill rotWithShape="0">
            <a:gsLst>
              <a:gs pos="0">
                <a:srgbClr val="426971"/>
              </a:gs>
              <a:gs pos="50000">
                <a:srgbClr val="8fe2f5"/>
              </a:gs>
              <a:gs pos="100000">
                <a:srgbClr val="426971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609480" y="4648320"/>
            <a:ext cx="1981440" cy="7617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09480" y="525780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19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860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479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 rot="5400000">
            <a:off x="-360" y="3276360"/>
            <a:ext cx="1981440" cy="76212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 rot="5400000">
            <a:off x="-360" y="388620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83808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0666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 rot="10800000">
            <a:off x="1371240" y="2666520"/>
            <a:ext cx="1981080" cy="76212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28600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34290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2286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7"/>
          <p:cNvSpPr/>
          <p:nvPr/>
        </p:nvSpPr>
        <p:spPr>
          <a:xfrm rot="16200000">
            <a:off x="1981080" y="4038120"/>
            <a:ext cx="1981080" cy="7617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3526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28954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5909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f91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3859200" y="1628640"/>
            <a:ext cx="4452480" cy="11912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В прямоугольном треуголь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квадрат гипотенузы ра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31f91"/>
                </a:solidFill>
                <a:latin typeface="Times New Roman"/>
              </a:rPr>
              <a:t>сумме квадратов катет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899680" y="2924280"/>
            <a:ext cx="14241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+в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=с</a:t>
            </a:r>
            <a:r>
              <a:rPr b="1" lang="ru-RU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4854600" y="350028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357800" y="40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4716360" y="4365720"/>
            <a:ext cx="7632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4268880" y="3733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4866480" y="40053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+в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6374160" y="400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6659640" y="4365720"/>
            <a:ext cx="75960" cy="759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7013880" y="4005360"/>
            <a:ext cx="17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1"/>
          <p:cNvSpPr/>
          <p:nvPr/>
        </p:nvSpPr>
        <p:spPr>
          <a:xfrm>
            <a:off x="5219640" y="443700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2"/>
          <p:cNvSpPr/>
          <p:nvPr/>
        </p:nvSpPr>
        <p:spPr>
          <a:xfrm flipH="1">
            <a:off x="6300360" y="43657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4859280" y="47242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а+в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4952880" y="52293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2ав+в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2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5816520" y="5877000"/>
            <a:ext cx="12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в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WordArt 36"/>
          <p:cNvGrpSpPr/>
          <p:nvPr/>
        </p:nvGrpSpPr>
        <p:grpSpPr>
          <a:xfrm>
            <a:off x="603360" y="-30240"/>
            <a:ext cx="6675480" cy="1305000"/>
            <a:chOff x="603360" y="-30240"/>
            <a:chExt cx="6675480" cy="1305000"/>
          </a:xfrm>
        </p:grpSpPr>
        <p:pic>
          <p:nvPicPr>
            <p:cNvPr id="229" name="WordArt 36" descr=""/>
            <p:cNvPicPr/>
            <p:nvPr/>
          </p:nvPicPr>
          <p:blipFill>
            <a:blip r:embed="rId1"/>
            <a:stretch/>
          </p:blipFill>
          <p:spPr>
            <a:xfrm>
              <a:off x="603360" y="-30240"/>
              <a:ext cx="66754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1151800">
              <a:off x="611280" y="404640"/>
              <a:ext cx="6661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Теорема Пифаго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37r3"/>
          <p:cNvPicPr/>
          <p:nvPr/>
        </p:nvPicPr>
        <p:blipFill>
          <a:blip r:embed="rId1"/>
          <a:stretch/>
        </p:blipFill>
        <p:spPr>
          <a:xfrm>
            <a:off x="900000" y="120600"/>
            <a:ext cx="719280" cy="68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37r3"/>
          <p:cNvPicPr/>
          <p:nvPr/>
        </p:nvPicPr>
        <p:blipFill>
          <a:blip r:embed="rId2"/>
          <a:stretch/>
        </p:blipFill>
        <p:spPr>
          <a:xfrm>
            <a:off x="7524720" y="115920"/>
            <a:ext cx="723960" cy="687240"/>
          </a:xfrm>
          <a:prstGeom prst="rect">
            <a:avLst/>
          </a:prstGeom>
          <a:ln w="0">
            <a:noFill/>
          </a:ln>
        </p:spPr>
      </p:pic>
      <p:sp>
        <p:nvSpPr>
          <p:cNvPr id="236" name="WordArt 4"/>
          <p:cNvSpPr txBox="1"/>
          <p:nvPr/>
        </p:nvSpPr>
        <p:spPr>
          <a:xfrm>
            <a:off x="1476360" y="357120"/>
            <a:ext cx="623880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Золотые стихи» Пифагора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429000" y="1628640"/>
            <a:ext cx="53578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Никогда не делай того, чего не знаешь, но научись всему, что следует знать, и тогда ты будешь вести спокойную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pp_094"/>
          <p:cNvPicPr/>
          <p:nvPr/>
        </p:nvPicPr>
        <p:blipFill>
          <a:blip r:embed="rId3"/>
          <a:stretch/>
        </p:blipFill>
        <p:spPr>
          <a:xfrm>
            <a:off x="642960" y="1500120"/>
            <a:ext cx="2652840" cy="2952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12m3"/>
          <p:cNvPicPr/>
          <p:nvPr/>
        </p:nvPicPr>
        <p:blipFill>
          <a:blip r:embed="rId4"/>
          <a:stretch/>
        </p:blipFill>
        <p:spPr>
          <a:xfrm>
            <a:off x="6659640" y="4786200"/>
            <a:ext cx="20574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 rot="5400000">
            <a:off x="-2438640" y="28954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ифагоро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 rot="5400000">
            <a:off x="3271320" y="2900160"/>
            <a:ext cx="5562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рой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6934320" y="533520"/>
            <a:ext cx="160020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числ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1447920" y="457200"/>
            <a:ext cx="38862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треугольн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934320" y="928800"/>
            <a:ext cx="149220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+У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6781680" y="2286000"/>
            <a:ext cx="1905120" cy="76212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27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8"/>
          <p:cNvSpPr/>
          <p:nvPr/>
        </p:nvSpPr>
        <p:spPr>
          <a:xfrm>
            <a:off x="6804000" y="3213000"/>
            <a:ext cx="1905120" cy="762120"/>
          </a:xfrm>
          <a:prstGeom prst="ellipse">
            <a:avLst/>
          </a:prstGeom>
          <a:gradFill rotWithShape="0">
            <a:gsLst>
              <a:gs pos="0">
                <a:srgbClr val="762f47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6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6804000" y="4365720"/>
            <a:ext cx="1905120" cy="761760"/>
          </a:xfrm>
          <a:prstGeom prst="ellipse">
            <a:avLst/>
          </a:prstGeom>
          <a:gradFill rotWithShape="0">
            <a:gsLst>
              <a:gs pos="0">
                <a:srgbClr val="762f47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7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24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6804000" y="5516640"/>
            <a:ext cx="1905120" cy="761760"/>
          </a:xfrm>
          <a:prstGeom prst="ellipse">
            <a:avLst/>
          </a:prstGeom>
          <a:gradFill rotWithShape="0">
            <a:gsLst>
              <a:gs pos="0">
                <a:srgbClr val="764776"/>
              </a:gs>
              <a:gs pos="50000">
                <a:srgbClr val="ff99ff"/>
              </a:gs>
              <a:gs pos="100000">
                <a:srgbClr val="764776"/>
              </a:gs>
            </a:gsLst>
            <a:lin ang="27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1" lang="ru-RU" sz="3200" spc="-1" strike="noStrike">
                <a:solidFill>
                  <a:srgbClr val="e8e818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31f91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1981080" y="1295280"/>
            <a:ext cx="2210040" cy="1447920"/>
          </a:xfrm>
          <a:prstGeom prst="rtTriangl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66176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957040" y="1488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31f91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27432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729520" y="278460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3209760" y="955800"/>
            <a:ext cx="124632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+в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с</a:t>
            </a:r>
            <a:r>
              <a:rPr b="1" lang="ru-RU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грек"/>
          <p:cNvPicPr/>
          <p:nvPr/>
        </p:nvPicPr>
        <p:blipFill>
          <a:blip r:embed="rId2"/>
          <a:stretch/>
        </p:blipFill>
        <p:spPr>
          <a:xfrm>
            <a:off x="1763640" y="4005360"/>
            <a:ext cx="3297240" cy="266832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8"/>
          <p:cNvSpPr txBox="1"/>
          <p:nvPr/>
        </p:nvSpPr>
        <p:spPr>
          <a:xfrm>
            <a:off x="1763640" y="3357720"/>
            <a:ext cx="3581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египетский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3930480" y="4508640"/>
            <a:ext cx="942840" cy="459720"/>
          </a:xfrm>
          <a:prstGeom prst="rect">
            <a:avLst/>
          </a:prstGeom>
          <a:noFill/>
          <a:ln w="9360">
            <a:solidFill>
              <a:srgbClr val="b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4240" y="277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акой треугольник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ямоуголь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ак называются его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торо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 прямоугольном треугольнике любой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а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равен гипотенуз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меньше гипотену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больше гипотену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определить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2775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 прямоугольном треугольнике один из острых углов равен 20°. Найдит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торой острый уг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Один из катетов прямоугольного треугольника равен половине гипотенузы,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стрые углы рав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60° и 30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о 45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однозначно определить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14240" y="2775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</a:rPr>
              <a:t>Повторим, проверим, оценим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Сформулируйт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еорему Пифаго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Как иначе называют треугольник со сторонами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3, 4 и 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Решите задачу по чертеж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2" descr="http://festival.1september.ru/articles/576843/img1.gif"/>
          <p:cNvPicPr/>
          <p:nvPr/>
        </p:nvPicPr>
        <p:blipFill>
          <a:blip r:embed="rId1"/>
          <a:stretch/>
        </p:blipFill>
        <p:spPr>
          <a:xfrm>
            <a:off x="1376280" y="3643200"/>
            <a:ext cx="64803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57760" y="3000240"/>
            <a:ext cx="5035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«…Геометрия владеет двумя сокровищами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дно из них- это теорема Пифаг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и другое- деление отрезков в среднем 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райнем отношении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Первое можно сравнить с мерой зол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второе больше напоминает драгоценный камен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еп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0d7bfbb42edcbbc148491e5164e3ef67"/>
          <p:cNvPicPr/>
          <p:nvPr/>
        </p:nvPicPr>
        <p:blipFill>
          <a:blip r:embed="rId1"/>
          <a:stretch/>
        </p:blipFill>
        <p:spPr>
          <a:xfrm>
            <a:off x="7164360" y="765000"/>
            <a:ext cx="1720800" cy="1874880"/>
          </a:xfrm>
          <a:prstGeom prst="rect">
            <a:avLst/>
          </a:prstGeom>
          <a:ln w="0">
            <a:noFill/>
          </a:ln>
        </p:spPr>
      </p:pic>
      <p:grpSp>
        <p:nvGrpSpPr>
          <p:cNvPr id="103" name="WordArt 4"/>
          <p:cNvGrpSpPr/>
          <p:nvPr/>
        </p:nvGrpSpPr>
        <p:grpSpPr>
          <a:xfrm>
            <a:off x="1566720" y="762120"/>
            <a:ext cx="5010120" cy="798480"/>
            <a:chOff x="1566720" y="762120"/>
            <a:chExt cx="5010120" cy="798480"/>
          </a:xfrm>
        </p:grpSpPr>
        <p:pic>
          <p:nvPicPr>
            <p:cNvPr id="104" name="WordArt 4" descr=""/>
            <p:cNvPicPr/>
            <p:nvPr/>
          </p:nvPicPr>
          <p:blipFill>
            <a:blip r:embed="rId2"/>
            <a:stretch/>
          </p:blipFill>
          <p:spPr>
            <a:xfrm>
              <a:off x="1566720" y="762120"/>
              <a:ext cx="50101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571760" y="765000"/>
              <a:ext cx="50004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MS Mincho"/>
                  <a:ea typeface="MS Mincho"/>
                </a:rPr>
                <a:t>теорем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WordArt 5"/>
          <p:cNvGrpSpPr/>
          <p:nvPr/>
        </p:nvGrpSpPr>
        <p:grpSpPr>
          <a:xfrm>
            <a:off x="2766960" y="1768320"/>
            <a:ext cx="3683160" cy="878040"/>
            <a:chOff x="2766960" y="1768320"/>
            <a:chExt cx="3683160" cy="878040"/>
          </a:xfrm>
        </p:grpSpPr>
        <p:pic>
          <p:nvPicPr>
            <p:cNvPr id="107" name="WordArt 5" descr=""/>
            <p:cNvPicPr/>
            <p:nvPr/>
          </p:nvPicPr>
          <p:blipFill>
            <a:blip r:embed="rId3"/>
            <a:stretch/>
          </p:blipFill>
          <p:spPr>
            <a:xfrm>
              <a:off x="2766960" y="1768320"/>
              <a:ext cx="36831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771640" y="1773360"/>
              <a:ext cx="36734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MS Mincho"/>
                  <a:ea typeface="MS Mincho"/>
                </a:rPr>
                <a:t>ПИФАГОР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7" descr="f_index"/>
          <p:cNvPicPr/>
          <p:nvPr/>
        </p:nvPicPr>
        <p:blipFill>
          <a:blip r:embed="rId4"/>
          <a:stretch/>
        </p:blipFill>
        <p:spPr>
          <a:xfrm>
            <a:off x="928800" y="3071880"/>
            <a:ext cx="26431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" dur="1" fill="hold"/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  <p:animClr clrSpc="rgb">
                                <p:cBhvr>
                                  <p:cTn id="14" dur="1" fill="hold"/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51280" y="1500120"/>
            <a:ext cx="5040360" cy="70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менитый древнегреческий философ и математик Пифагор Самосский родился на острове Самос, далеко от Греции в 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ду до н. э. По античным свидетельствам он был красив и обладал незаурядными способностями. Совсем юношей он покинул родину, прошел по дорогам Египта и 12 лет жил в Вавилоне. После возвращения домой Пифагор переселился в Италию, затем в Сицил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-7365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-4680" y="2835360"/>
            <a:ext cx="9153360" cy="1189080"/>
            <a:chOff x="-4680" y="2835360"/>
            <a:chExt cx="9153360" cy="1189080"/>
          </a:xfrm>
        </p:grpSpPr>
        <p:sp>
          <p:nvSpPr>
            <p:cNvPr id="113" name="Rectangle 5"/>
            <p:cNvSpPr/>
            <p:nvPr/>
          </p:nvSpPr>
          <p:spPr>
            <a:xfrm>
              <a:off x="-4680" y="2835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-4680" y="2835360"/>
              <a:ext cx="9153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7" descr="1126_pifagor"/>
          <p:cNvPicPr/>
          <p:nvPr/>
        </p:nvPicPr>
        <p:blipFill>
          <a:blip r:embed="rId1"/>
          <a:stretch/>
        </p:blipFill>
        <p:spPr>
          <a:xfrm>
            <a:off x="1547640" y="1571760"/>
            <a:ext cx="1997280" cy="2228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332720" y="3933720"/>
            <a:ext cx="2109960" cy="3988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580-500 г. до н. 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 rot="5400000">
            <a:off x="-2233800" y="332100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6200000"/>
                </a:gradFill>
                <a:latin typeface="Arial"/>
              </a:rPr>
              <a:t>Из жизни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6200000"/>
              </a:gradFill>
              <a:latin typeface="Arial"/>
              <a:ea typeface="Arial"/>
            </a:endParaRPr>
          </a:p>
        </p:txBody>
      </p:sp>
      <p:pic>
        <p:nvPicPr>
          <p:cNvPr id="118" name="Picture 10" descr="2l2"/>
          <p:cNvPicPr/>
          <p:nvPr/>
        </p:nvPicPr>
        <p:blipFill>
          <a:blip r:embed="rId2"/>
          <a:stretch/>
        </p:blipFill>
        <p:spPr>
          <a:xfrm>
            <a:off x="2714760" y="214200"/>
            <a:ext cx="59655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52240" y="-3102480"/>
            <a:ext cx="203400" cy="69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500" spc="-1" strike="noStrike" u="sng">
              <a:solidFill>
                <a:srgbClr val="ffff00"/>
              </a:solidFill>
              <a:uFillTx/>
              <a:latin typeface="Charlesworth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43280" y="1628640"/>
            <a:ext cx="403884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десь в Кретоне, рождается школа Пифагора. В пифагорейской школе занимались изучением чисел и их свой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 внимания уделяли музыке, живописи, физическому развитию, здоровью. Пифагор и его ученики были трудолюбивы и аскетич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ПиШ"/>
          <p:cNvPicPr/>
          <p:nvPr/>
        </p:nvPicPr>
        <p:blipFill>
          <a:blip r:embed="rId1"/>
          <a:stretch/>
        </p:blipFill>
        <p:spPr>
          <a:xfrm>
            <a:off x="1762200" y="1500120"/>
            <a:ext cx="2604960" cy="38451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 rot="5400000">
            <a:off x="-2233800" y="310500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6200000"/>
                </a:gradFill>
                <a:latin typeface="Arial"/>
              </a:rPr>
              <a:t>Из жизни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6200000"/>
              </a:gradFill>
              <a:latin typeface="Arial"/>
              <a:ea typeface="Arial"/>
            </a:endParaRPr>
          </a:p>
        </p:txBody>
      </p:sp>
      <p:pic>
        <p:nvPicPr>
          <p:cNvPr id="123" name="Picture 7" descr="2l2"/>
          <p:cNvPicPr/>
          <p:nvPr/>
        </p:nvPicPr>
        <p:blipFill>
          <a:blip r:embed="rId2"/>
          <a:stretch/>
        </p:blipFill>
        <p:spPr>
          <a:xfrm>
            <a:off x="2700360" y="285840"/>
            <a:ext cx="59799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3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ать то, что впоследствии не огорчит тебя и не принудит раскаиваться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делай никогда того, что не знаешь, но научись всему, что следует зн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ренебрегай здоровьем своего те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учайся жить просто и без роскош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928800" y="333360"/>
            <a:ext cx="77151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веди Пифаго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7" descr="BEE"/>
          <p:cNvPicPr/>
          <p:nvPr/>
        </p:nvPicPr>
        <p:blipFill>
          <a:blip r:embed="rId3"/>
          <a:stretch/>
        </p:blipFill>
        <p:spPr>
          <a:xfrm>
            <a:off x="1403280" y="5157720"/>
            <a:ext cx="89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050920" y="3284640"/>
            <a:ext cx="6324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будет вечной истина, как ско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ё познает слабый человек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ныне теорема Пиф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ерна, как и в его далекий 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979640" y="3500280"/>
            <a:ext cx="6248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и не в силах свету помеш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могут лишь, закрыв глаза, дрож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страха, что вселил в них Пифаг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050920" y="3357720"/>
            <a:ext cx="5486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ильно было жертвопринош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огам от Пифагора. Сто б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н отдал на закланье и сожж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света луч, пришедший с обл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908000" y="3214800"/>
            <a:ext cx="5715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этому всегда с тех самых п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уть истина рождается на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ыки ревут, её почуя , всл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G00044_"/>
          <p:cNvPicPr/>
          <p:nvPr/>
        </p:nvPicPr>
        <p:blipFill>
          <a:blip r:embed="rId2"/>
          <a:stretch/>
        </p:blipFill>
        <p:spPr>
          <a:xfrm>
            <a:off x="3708360" y="98100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G00044_"/>
          <p:cNvPicPr/>
          <p:nvPr/>
        </p:nvPicPr>
        <p:blipFill>
          <a:blip r:embed="rId3"/>
          <a:stretch/>
        </p:blipFill>
        <p:spPr>
          <a:xfrm>
            <a:off x="6084720" y="1700280"/>
            <a:ext cx="1279800" cy="723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AG00044_"/>
          <p:cNvPicPr/>
          <p:nvPr/>
        </p:nvPicPr>
        <p:blipFill>
          <a:blip r:embed="rId4"/>
          <a:stretch/>
        </p:blipFill>
        <p:spPr>
          <a:xfrm>
            <a:off x="7093080" y="119700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G00044_"/>
          <p:cNvPicPr/>
          <p:nvPr/>
        </p:nvPicPr>
        <p:blipFill>
          <a:blip r:embed="rId5"/>
          <a:stretch/>
        </p:blipFill>
        <p:spPr>
          <a:xfrm>
            <a:off x="2700360" y="692280"/>
            <a:ext cx="1219320" cy="68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AG00044_"/>
          <p:cNvPicPr/>
          <p:nvPr/>
        </p:nvPicPr>
        <p:blipFill>
          <a:blip r:embed="rId6"/>
          <a:stretch/>
        </p:blipFill>
        <p:spPr>
          <a:xfrm>
            <a:off x="6012000" y="765000"/>
            <a:ext cx="1035000" cy="58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G00044_"/>
          <p:cNvPicPr/>
          <p:nvPr/>
        </p:nvPicPr>
        <p:blipFill>
          <a:blip r:embed="rId7"/>
          <a:stretch/>
        </p:blipFill>
        <p:spPr>
          <a:xfrm>
            <a:off x="3492360" y="213372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AG00044_"/>
          <p:cNvPicPr/>
          <p:nvPr/>
        </p:nvPicPr>
        <p:blipFill>
          <a:blip r:embed="rId8"/>
          <a:stretch/>
        </p:blipFill>
        <p:spPr>
          <a:xfrm>
            <a:off x="7308720" y="184464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AG00044_"/>
          <p:cNvPicPr/>
          <p:nvPr/>
        </p:nvPicPr>
        <p:blipFill>
          <a:blip r:embed="rId9"/>
          <a:stretch/>
        </p:blipFill>
        <p:spPr>
          <a:xfrm>
            <a:off x="4140360" y="1413000"/>
            <a:ext cx="1279440" cy="723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AG00044_"/>
          <p:cNvPicPr/>
          <p:nvPr/>
        </p:nvPicPr>
        <p:blipFill>
          <a:blip r:embed="rId10"/>
          <a:stretch/>
        </p:blipFill>
        <p:spPr>
          <a:xfrm>
            <a:off x="5003640" y="90792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G00044_"/>
          <p:cNvPicPr/>
          <p:nvPr/>
        </p:nvPicPr>
        <p:blipFill>
          <a:blip r:embed="rId11"/>
          <a:stretch/>
        </p:blipFill>
        <p:spPr>
          <a:xfrm>
            <a:off x="7236000" y="692280"/>
            <a:ext cx="863280" cy="48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AG00044_"/>
          <p:cNvPicPr/>
          <p:nvPr/>
        </p:nvPicPr>
        <p:blipFill>
          <a:blip r:embed="rId12"/>
          <a:stretch/>
        </p:blipFill>
        <p:spPr>
          <a:xfrm>
            <a:off x="4211640" y="549360"/>
            <a:ext cx="787320" cy="444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AG00044_"/>
          <p:cNvPicPr/>
          <p:nvPr/>
        </p:nvPicPr>
        <p:blipFill>
          <a:blip r:embed="rId13"/>
          <a:stretch/>
        </p:blipFill>
        <p:spPr>
          <a:xfrm>
            <a:off x="6300720" y="1125360"/>
            <a:ext cx="1035000" cy="58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AG00044_"/>
          <p:cNvPicPr/>
          <p:nvPr/>
        </p:nvPicPr>
        <p:blipFill>
          <a:blip r:embed="rId14"/>
          <a:stretch/>
        </p:blipFill>
        <p:spPr>
          <a:xfrm rot="21209400">
            <a:off x="2700360" y="1628280"/>
            <a:ext cx="1036440" cy="5860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20"/>
          <p:cNvSpPr txBox="1"/>
          <p:nvPr/>
        </p:nvSpPr>
        <p:spPr>
          <a:xfrm rot="5400000">
            <a:off x="-1731240" y="2962800"/>
            <a:ext cx="5688360" cy="571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 истории теоремы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Picture 21" descr="2l2"/>
          <p:cNvPicPr/>
          <p:nvPr/>
        </p:nvPicPr>
        <p:blipFill>
          <a:blip r:embed="rId17"/>
          <a:stretch/>
        </p:blipFill>
        <p:spPr>
          <a:xfrm rot="16200000">
            <a:off x="-2783520" y="3332520"/>
            <a:ext cx="6157800" cy="59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AG00044_"/>
          <p:cNvPicPr/>
          <p:nvPr/>
        </p:nvPicPr>
        <p:blipFill>
          <a:blip r:embed="rId18"/>
          <a:stretch/>
        </p:blipFill>
        <p:spPr>
          <a:xfrm>
            <a:off x="5003640" y="1557360"/>
            <a:ext cx="1371600" cy="77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AG00044_"/>
          <p:cNvPicPr/>
          <p:nvPr/>
        </p:nvPicPr>
        <p:blipFill>
          <a:blip r:embed="rId19"/>
          <a:stretch/>
        </p:blipFill>
        <p:spPr>
          <a:xfrm rot="21209400">
            <a:off x="4355640" y="2421000"/>
            <a:ext cx="1036800" cy="58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AG00044_"/>
          <p:cNvPicPr/>
          <p:nvPr/>
        </p:nvPicPr>
        <p:blipFill>
          <a:blip r:embed="rId20"/>
          <a:stretch/>
        </p:blipFill>
        <p:spPr>
          <a:xfrm rot="21209400">
            <a:off x="5572080" y="250668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275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7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15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85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7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" dur="1" fill="hold"/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577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Теорема Пифагора в Египте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132000" y="371628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 2000 лет до н.э. древние египтяне знали о том, что треугольник со сторонами 3, 4, 5 есть прямоугольный  и пользовались этим соотношением для построения прямых углов при сооружении з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J0145707"/>
          <p:cNvPicPr/>
          <p:nvPr/>
        </p:nvPicPr>
        <p:blipFill>
          <a:blip r:embed="rId1"/>
          <a:stretch/>
        </p:blipFill>
        <p:spPr>
          <a:xfrm>
            <a:off x="6443640" y="333360"/>
            <a:ext cx="2349360" cy="364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gipet"/>
          <p:cNvPicPr/>
          <p:nvPr/>
        </p:nvPicPr>
        <p:blipFill>
          <a:blip r:embed="rId2"/>
          <a:stretch/>
        </p:blipFill>
        <p:spPr>
          <a:xfrm>
            <a:off x="179280" y="1557360"/>
            <a:ext cx="30956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Times New Roman"/>
              </a:rPr>
              <a:t>Теорема Пифагора в Кита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755640" y="1916280"/>
          <a:ext cx="3417840" cy="26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417840" cy="26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м Китае за 1100 лет до н.э.  было установлено наглядное доказательство данной теоремы, содержащееся в древнейшем китайском трактате «Чжоу-б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6:56:31Z</dcterms:created>
  <dc:creator>Козлова Н.В</dc:creator>
  <dc:description/>
  <dc:language>en-US</dc:language>
  <cp:lastModifiedBy>Admin</cp:lastModifiedBy>
  <dcterms:modified xsi:type="dcterms:W3CDTF">2012-12-06T17:04:39Z</dcterms:modified>
  <cp:revision>15</cp:revision>
  <dc:subject/>
  <dc:title>Презентация урока геометрии в 8 классе по теме:”Теорема Пифагора”</dc:title>
</cp:coreProperties>
</file>