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75DB-ADC7-4FD2-8182-7ADCB47B9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8EEA-793D-40F4-B885-1298A5C7A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23B3-D9A1-4494-B4F4-9A521B060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3462-D73B-423C-83A9-37608A82F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5D1-3DB6-438B-BA86-0AEF1FA2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3CE-1C2F-41AC-B63C-F6161DA5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D8E-0E91-4518-A8AA-EB209F4A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BBA-7ED5-49AD-9979-8A39D52B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F98A-DAFC-4C55-AA19-9A793498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5C40-03F5-44CB-B37F-4073FE1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00A0-C416-4C3F-A912-F1A58A88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D4B2-205D-49B3-8C15-6C613FE7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9EEA-4C92-40E2-92C7-175D5065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3095-C0F6-46D7-8D89-83332427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2D29-9815-47F8-B545-97F93735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8DE-9227-4BDF-B030-2068C3B4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611B-DBE9-4570-8B58-C27D945A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64BE-D67C-4E37-B2B5-D506F99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E7B6-D5C5-4F89-B5F4-E5D22531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D390-B3D9-45DB-B905-17A44839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2A99-9D60-49A7-A9F8-D0C6FBD0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69C-1DCE-41D9-A922-EB8AEAA4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2C3-638D-4E85-836C-01ACAE00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337-C86D-4E45-A528-7A1607AA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1DF-126B-4D24-8F6E-9B021D3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078-9B6A-4E98-92D8-16B321A2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BFE-B279-4396-9A52-89984B4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516-A9FA-4DB4-B4C8-F1858807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0C67-6204-4FC9-83D1-F0948DA207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9D0-39D3-4498-AF41-A5561AF0B4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-Н- и –НН- в суффиксах прилагательных, причастий, наречий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292720" y="4869000"/>
            <a:ext cx="3533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Ученица на уроке рассея_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366920" y="2349360"/>
            <a:ext cx="3997080" cy="648000"/>
          </a:xfrm>
          <a:custGeom>
            <a:avLst/>
            <a:gdLst>
              <a:gd name="textAreaLeft" fmla="*/ 0 w 3997080"/>
              <a:gd name="textAreaRight" fmla="*/ 3471840 w 3997080"/>
              <a:gd name="textAreaTop" fmla="*/ 60048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8069" y="0"/>
                </a:moveTo>
                <a:lnTo>
                  <a:pt x="14537" y="7941"/>
                </a:lnTo>
                <a:lnTo>
                  <a:pt x="17376" y="7941"/>
                </a:lnTo>
                <a:lnTo>
                  <a:pt x="17376" y="20005"/>
                </a:lnTo>
                <a:lnTo>
                  <a:pt x="0" y="20005"/>
                </a:lnTo>
                <a:lnTo>
                  <a:pt x="0" y="21600"/>
                </a:lnTo>
                <a:lnTo>
                  <a:pt x="18761" y="21600"/>
                </a:lnTo>
                <a:lnTo>
                  <a:pt x="18761" y="7941"/>
                </a:lnTo>
                <a:lnTo>
                  <a:pt x="21600" y="794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52920" y="114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893600" y="2440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708360" y="19162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708360" y="2060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4000" y="3284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а – невнимательная (прилаг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ссея_ы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635280" y="436572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11280" y="5084640"/>
            <a:ext cx="5832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краткое прилагатель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Ученица на уроке рассеян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Объясните разницу правописани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1827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Женщина умна и образованна. – Комиссия уже образова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Говорит подавленно. – Восстание было подавле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Решение поспешно, непродуманно. – Решение никем не продума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cc"/>
                </a:solidFill>
                <a:latin typeface="Arial"/>
              </a:rPr>
              <a:t>Запомнить:</a:t>
            </a:r>
            <a:endParaRPr b="0" lang="en-US" sz="3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званый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азва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виданный неслыхан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жданно-негаданно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или –НН-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чели…ый мёд, пшё…ая каша, со сгущё…ным молоком, масля…ое пятно; картина, рисова…ая масля…ыми красками; глиня…ая ваза; деревя…ое здание; расположились в гости…ице; замече…ые недостатки; кое-как рассова…ые вещи; в платя…ом шкафу; девочка весьма образова…а; даль тума…а; лома…ая линия; серебря…ые и позолоче…ые украшения; ране…ый человек; ране…ый в бою; на утре…ей за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. Правописание имён прилагательных зависит от состава суффик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Organization Chart 6"/>
          <p:cNvGrpSpPr/>
          <p:nvPr/>
        </p:nvGrpSpPr>
        <p:grpSpPr>
          <a:xfrm>
            <a:off x="324000" y="1557360"/>
            <a:ext cx="8568720" cy="5038920"/>
            <a:chOff x="324000" y="1557360"/>
            <a:chExt cx="8568720" cy="503892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769720" y="2409840"/>
              <a:ext cx="1008360" cy="333324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659120" y="3520440"/>
              <a:ext cx="1008360" cy="111168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548520" y="3521160"/>
              <a:ext cx="1008360" cy="111096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1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437560" y="2410200"/>
              <a:ext cx="1008360" cy="333252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2"/>
            <p:cNvSpPr/>
            <p:nvPr/>
          </p:nvSpPr>
          <p:spPr>
            <a:xfrm>
              <a:off x="3655800" y="155736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Verdana"/>
                </a:rPr>
                <a:t>-Н-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2400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И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чел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ьв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254556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А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есч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кож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5"/>
            <p:cNvSpPr/>
            <p:nvPr/>
          </p:nvSpPr>
          <p:spPr>
            <a:xfrm>
              <a:off x="476712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Я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глин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серебр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698868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ю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зелё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сини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6"/>
          <p:cNvGrpSpPr/>
          <p:nvPr/>
        </p:nvGrpSpPr>
        <p:grpSpPr>
          <a:xfrm>
            <a:off x="0" y="268200"/>
            <a:ext cx="9143640" cy="6254280"/>
            <a:chOff x="0" y="268200"/>
            <a:chExt cx="9143640" cy="625428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353040" y="2802240"/>
              <a:ext cx="1251360" cy="11854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3" idx="2"/>
            </p:cNvCxnSpPr>
            <p:nvPr/>
          </p:nvCxnSpPr>
          <p:spPr>
            <a:xfrm flipV="1" rot="16200000">
              <a:off x="5724000" y="1616400"/>
              <a:ext cx="1251360" cy="35568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4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538520" y="2801880"/>
              <a:ext cx="1251360" cy="11862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5"/>
            <p:cNvCxnSpPr>
              <a:stCxn id="119" idx="0"/>
              <a:endCxn id="113" idx="2"/>
            </p:cNvCxnSpPr>
            <p:nvPr/>
          </p:nvCxnSpPr>
          <p:spPr>
            <a:xfrm flipH="1" flipV="1" rot="5400000">
              <a:off x="2167920" y="1617120"/>
              <a:ext cx="1251360" cy="35560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6"/>
            <p:cNvSpPr/>
            <p:nvPr/>
          </p:nvSpPr>
          <p:spPr>
            <a:xfrm>
              <a:off x="3555360" y="26820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4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7"/>
            <p:cNvSpPr/>
            <p:nvPr/>
          </p:nvSpPr>
          <p:spPr>
            <a:xfrm>
              <a:off x="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Основа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на н+н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лунны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весенни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_s2058"/>
            <p:cNvSpPr/>
            <p:nvPr/>
          </p:nvSpPr>
          <p:spPr>
            <a:xfrm>
              <a:off x="47412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Е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родстве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_s2059"/>
            <p:cNvSpPr/>
            <p:nvPr/>
          </p:nvSpPr>
          <p:spPr>
            <a:xfrm>
              <a:off x="71118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стекл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оло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дере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2060"/>
            <p:cNvSpPr/>
            <p:nvPr/>
          </p:nvSpPr>
          <p:spPr>
            <a:xfrm>
              <a:off x="23706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О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станцио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лагатель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ой форме прилагательных столько же –Н-, сколько в полной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– 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- 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причастиях (полных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3" name="Organization Chart 6"/>
          <p:cNvGrpSpPr/>
          <p:nvPr/>
        </p:nvGrpSpPr>
        <p:grpSpPr>
          <a:xfrm>
            <a:off x="0" y="1557360"/>
            <a:ext cx="9143640" cy="5299200"/>
            <a:chOff x="0" y="1557360"/>
            <a:chExt cx="9143640" cy="5299200"/>
          </a:xfrm>
        </p:grpSpPr>
        <p:cxnSp>
          <p:nvCxnSpPr>
            <p:cNvPr id="124" name="_s3076"/>
            <p:cNvCxnSpPr>
              <a:stCxn id="125" idx="0"/>
              <a:endCxn id="126" idx="2"/>
            </p:cNvCxnSpPr>
            <p:nvPr/>
          </p:nvCxnSpPr>
          <p:spPr>
            <a:xfrm flipH="1" flipV="1" rot="5400000">
              <a:off x="3448440" y="3614040"/>
              <a:ext cx="1060560" cy="11854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077"/>
            <p:cNvCxnSpPr>
              <a:stCxn id="128" idx="0"/>
              <a:endCxn id="126" idx="2"/>
            </p:cNvCxnSpPr>
            <p:nvPr/>
          </p:nvCxnSpPr>
          <p:spPr>
            <a:xfrm flipV="1" rot="16200000">
              <a:off x="5819400" y="2428200"/>
              <a:ext cx="1060560" cy="35568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8"/>
            <p:cNvCxnSpPr>
              <a:stCxn id="130" idx="0"/>
              <a:endCxn id="126" idx="2"/>
            </p:cNvCxnSpPr>
            <p:nvPr/>
          </p:nvCxnSpPr>
          <p:spPr>
            <a:xfrm flipV="1" rot="16200000">
              <a:off x="4633920" y="3613680"/>
              <a:ext cx="1060560" cy="11862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9"/>
            <p:cNvCxnSpPr>
              <a:stCxn id="132" idx="0"/>
              <a:endCxn id="126" idx="2"/>
            </p:cNvCxnSpPr>
            <p:nvPr/>
          </p:nvCxnSpPr>
          <p:spPr>
            <a:xfrm flipH="1" flipV="1" rot="5400000">
              <a:off x="2263320" y="2428920"/>
              <a:ext cx="1060560" cy="35560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3080"/>
            <p:cNvSpPr/>
            <p:nvPr/>
          </p:nvSpPr>
          <p:spPr>
            <a:xfrm>
              <a:off x="3555360" y="155736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1"/>
            <p:cNvSpPr/>
            <p:nvPr/>
          </p:nvSpPr>
          <p:spPr>
            <a:xfrm>
              <a:off x="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cc"/>
                  </a:solidFill>
                  <a:latin typeface="Verdana"/>
                </a:rPr>
                <a:t>С</a:t>
              </a: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 пристав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й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роме НЕ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нес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82"/>
            <p:cNvSpPr/>
            <p:nvPr/>
          </p:nvSpPr>
          <p:spPr>
            <a:xfrm>
              <a:off x="47412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висимое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слово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шенный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ем-то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луг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3083"/>
            <p:cNvSpPr/>
            <p:nvPr/>
          </p:nvSpPr>
          <p:spPr>
            <a:xfrm>
              <a:off x="71118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бр. от гл.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ов.в.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реш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3084"/>
            <p:cNvSpPr/>
            <p:nvPr/>
          </p:nvSpPr>
          <p:spPr>
            <a:xfrm>
              <a:off x="23706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 суффикса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м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–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ва-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-ева-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линова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част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их причастиях пишется –Н-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вещи –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вещи 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нареч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наречии пишется столько -Н-, сколько в слове, от которого оно образован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темы – говорить 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ответ – отвечать 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cc"/>
                </a:solidFill>
                <a:latin typeface="Verdana"/>
              </a:rPr>
              <a:t>Он  рассея__о  прислушивался к этому шу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 rot="10512600">
            <a:off x="1393920" y="1916280"/>
            <a:ext cx="3814560" cy="1009440"/>
          </a:xfrm>
          <a:custGeom>
            <a:avLst/>
            <a:gdLst>
              <a:gd name="textAreaLeft" fmla="*/ 558360 w 3814560"/>
              <a:gd name="textAreaRight" fmla="*/ 3256200 w 3814560"/>
              <a:gd name="textAreaTop" fmla="*/ 147600 h 1009440"/>
              <a:gd name="textAreaBottom" fmla="*/ 861840 h 1009440"/>
            </a:gdLst>
            <a:ahLst/>
            <a:rect l="textAreaLeft" t="textAreaTop" r="textAreaRight" b="textAreaBottom"/>
            <a:pathLst>
              <a:path w="21600" h="21600">
                <a:moveTo>
                  <a:pt x="16075" y="12843"/>
                </a:moveTo>
                <a:cubicBezTo>
                  <a:pt x="16328" y="12192"/>
                  <a:pt x="16458" y="11499"/>
                  <a:pt x="16458" y="10800"/>
                </a:cubicBezTo>
                <a:cubicBezTo>
                  <a:pt x="16458" y="7675"/>
                  <a:pt x="13924" y="5142"/>
                  <a:pt x="10800" y="5142"/>
                </a:cubicBezTo>
                <a:cubicBezTo>
                  <a:pt x="7675" y="5142"/>
                  <a:pt x="5142" y="7675"/>
                  <a:pt x="5142" y="10800"/>
                </a:cubicBezTo>
                <a:cubicBezTo>
                  <a:pt x="5141" y="11048"/>
                  <a:pt x="5158" y="11296"/>
                  <a:pt x="5190" y="11542"/>
                </a:cubicBezTo>
                <a:lnTo>
                  <a:pt x="93" y="12217"/>
                </a:lnTo>
                <a:cubicBezTo>
                  <a:pt x="31" y="11747"/>
                  <a:pt x="0" y="1127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134"/>
                  <a:pt x="21352" y="13457"/>
                  <a:pt x="20870" y="14701"/>
                </a:cubicBezTo>
                <a:lnTo>
                  <a:pt x="23388" y="15676"/>
                </a:lnTo>
                <a:lnTo>
                  <a:pt x="16569" y="18687"/>
                </a:lnTo>
                <a:lnTo>
                  <a:pt x="13558" y="11868"/>
                </a:lnTo>
                <a:lnTo>
                  <a:pt x="16075" y="12843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690560" y="299736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? Каким образ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69800" y="1125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13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826920" y="206064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79280" y="3789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о – невнима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реч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изменить грамматическую фор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843280" y="494172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558972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наречие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сеянный - рассе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     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Войско противника было рассея__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403280" y="2349360"/>
            <a:ext cx="6048360" cy="648000"/>
          </a:xfrm>
          <a:custGeom>
            <a:avLst/>
            <a:gdLst>
              <a:gd name="textAreaLeft" fmla="*/ 0 w 6048360"/>
              <a:gd name="textAreaRight" fmla="*/ 5184360 w 6048360"/>
              <a:gd name="textAreaTop" fmla="*/ 59652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7779" y="0"/>
                </a:moveTo>
                <a:lnTo>
                  <a:pt x="13957" y="7200"/>
                </a:lnTo>
                <a:lnTo>
                  <a:pt x="17043" y="7200"/>
                </a:lnTo>
                <a:lnTo>
                  <a:pt x="17043" y="19884"/>
                </a:lnTo>
                <a:lnTo>
                  <a:pt x="0" y="19884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17640" y="2367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189440" y="112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4643280" y="206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4643280" y="220500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26920" y="3789360"/>
            <a:ext cx="7488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о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глагол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а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3851280" y="522936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86880" y="573408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причас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Было рассея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6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6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56:44Z</dcterms:created>
  <dc:creator>USER</dc:creator>
  <dc:description/>
  <dc:language>en-US</dc:language>
  <cp:lastModifiedBy>Макаров</cp:lastModifiedBy>
  <dcterms:modified xsi:type="dcterms:W3CDTF">2012-12-08T02:02:24Z</dcterms:modified>
  <cp:revision>5</cp:revision>
  <dc:subject/>
  <dc:title>-Н- и –НН- в суффиксах прилагательных, причастий, наречий.</dc:title>
</cp:coreProperties>
</file>