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1D1-4649-42CB-97CD-CE93AE2E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157-0D23-47DE-9C1A-A9DD84CC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6ED-DD8B-445E-826B-0B57AC6A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A6D-BD5F-4C82-A71C-E6619013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DC33-0DE8-4A28-89C0-5E1B918F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71C-1DE1-494B-9308-491C8FFC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C97F-54E2-4B37-A901-34F904DA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9B5A-F60D-485E-B22D-A4941F81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46CB-A08D-4909-ADDF-E7C1A7C9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47F6-6178-470E-B00E-B6D5B549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1270-6CCF-4F64-83CC-8319CCDC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584-C0C6-47F5-8BB5-C7FA6A4E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3CD5-C88D-4D70-BF90-60C9E85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042-7ED6-4FFA-8A5E-3416C86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3341-340D-45CB-84F2-AF8BEC38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93F-1B50-47C0-91F3-6099F4AD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F3EB-FEED-4A6E-9D10-8AEF9377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1403-1D21-4814-A04B-E6947E41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2235-A985-492D-A3B9-B67713CA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ABDE7-FEC9-4795-B7ED-22ED8F6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40BF-70E6-4EC3-86F6-0996F97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1722-6E1A-4732-95B4-921A57A4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2A84-2905-4195-87E1-9F479370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E713-91BB-4BD3-94F3-2806F922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9947-6D63-41C0-9B4A-C15C623B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BE53-5016-43E0-9BA9-0765030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35A8-B131-4273-88E3-924D0440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8EF9-CC3E-4E45-BDDC-21A97757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D7FE-4B68-4381-8E08-3F1B97D3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91C0-51D5-4340-BF64-A6DD0737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BB88F-7870-4370-A04C-A9BC34D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3B3D-3E51-467B-81FC-2A29332B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0684-76F2-47B0-A8C9-FDB03688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E90-F8A2-49E9-8D18-568130A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2BBD-1B07-4607-BDDA-6F468E81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EFE4-63D8-4022-8405-118AF636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2DD3A-7068-4D0F-9D55-2710B4A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209F0-81EB-4B04-8568-F485BAF4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8133-4261-4C52-9C63-4366086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4D01-DD8B-4F56-8747-13A9D80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5810-D157-46EA-8E83-5D2E96BD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84BB-1520-4F80-9D0B-E6504098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BEB7D-8A68-4C55-9EA6-1D863C3B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9E66-7371-49B6-9048-0CF20C0D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691-D7E0-4471-BF88-273AF118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76421-97CF-448C-B873-7CB27193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E6AA-B54B-44DF-A01D-5038AD6B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60940-39EC-4F7F-A8BE-4F2188A2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560E-BDBA-4BC7-BBAB-8E8B9900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89C7-CB0F-4D97-8432-E460BC0E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D9F3-2A23-4772-89B8-980CE80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BAAE-33F3-4346-BC52-F8F3643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2D3D3-9ABB-44CC-A119-EB7AD95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E098-8467-40B6-88DE-942DBA9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E332-B907-4BC5-AD3E-953CD75D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F08-7F17-4A59-90AD-553ED4EB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3056-E663-4A3D-ADA9-255F286B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73D8-344B-4653-BA35-721BF448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927A-D85C-420C-965D-6EE52FB9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BC23-541A-4E17-8CEC-9419C67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EFD8F-31ED-46BF-AD1D-40862FE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8D56-6577-4CC8-A40A-4B645C4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D77E7-734D-4D74-BE6E-002840B8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53B89-E4A1-4897-818A-7FC6D0F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2FC31-3C5C-47E0-AD14-6A09F168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6A069-469A-4D83-A030-B3EBC8C1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71C-4251-4D82-A5C4-A6A32276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220DE-884F-455B-B811-10242A4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F217-81DE-4B5A-85E4-2EA4A67F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EED1-1A89-4E68-BB99-0417F14E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225-B421-446E-B2F0-9FFA18A8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43A-2CCA-4B09-9CC5-7067702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8CD-FC5C-4DE1-982C-FF1D7C5D459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5782-DCA3-44AF-8F83-4A2157ACB12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7465-B1F1-4496-9D8B-FA5BADD0AA3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85A-3DC6-43EF-998D-13806A6D8DE0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E91A-B28C-46C9-A324-EE42C65694F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E6C0-B48C-4363-9A37-F2E2554AC055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Контроль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9. В каком предложении прямая речь оформлена правильно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920" y="160020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десь, полагаю,  засели казаки, - сказал Чапаев, указывая на реку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Не выдумывайте, пожалуйста!», - твердо и с каким-то естественным спокойствием заявил мальчи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Расскажите свою биографию, Артем», - услыхал слесарь голос Сиротенк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дя переднюю, Чичиков покрутил носом и сказал Петрушке - «Ты бы, по крайней мере, хоть окна отпе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052280"/>
            <a:ext cx="7991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П», -а.     А: «П!»    «П», - а.      А: «П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1. В каком из предложений пропущены знаки препинания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его это он?» - снова подумал Ослик и вошел в д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Если у тебя будут клыки, то тебя все станут бояться - сказала Звезд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айку пр-р-ришел попить», - прохрипел Ос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онок закричал: «Я только на прошлой неделе подарил тебе самова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Расставьте знаки препинания и запишите схемы предложен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Не слишком подходящее место для необыкновенного цветк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умался Шух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ра Сергеевна, когда меня увидела, всплеснула руками и говорит 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Ох! Настоящий кот в сапогах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Странный вечер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умал Митя и споткнулся о коч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ктант закончился и Татьяна Евгеньевна сказала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Проверьте, что вы написали и сдайте тетрад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ак ты пойдешь за мной повсюду?» - говорил он ей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ался чей-то голос: «к вам можно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а не плакала, а только твердила – «О мой друг! О мой брат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едь это все-таки мой дом! - думала он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Где же город?» - подумал Кузь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Балда приговаривал с укоризной: «Не гонялся бы ты, поп, за дешевизно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конец я ей сказал: «Хочешь, пойдем прогуляться на ва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жар! Пожар!» : Раздался внизу отчаянный кр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5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то же ты не едешь?» - Спросил я ямщика с нетерп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ет, дело не ладно: надо достать лодку», - промолвил Ермол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ой, братцы, стой» - кричит Марты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н приедет завтра вечером, его надо встретить» - добавил Мака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6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енщина или девушка на велосипеде – это ужасно» - говорил Бел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не кажется, как будто эта каша обыкновенно немного пригорела», - говаривал Афанасий Ив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чем вы повязаны платком?» - спросил я Влади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авненько я не брал в руки шашек», - говорил Чичиков, подвигая тоже шаш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7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Arial"/>
              </a:rPr>
              <a:t>«Отец надеется на Вашу скромность и порядочное поведение», - сказала Маша, обратившись к учител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  о скромности и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, отец надеется на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ю Маша сказала о скромности и порядочном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вшись к учителю, Маша сказала, что отец надеется на его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8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неужели отец не догадался, что Белла у вас в крепости» - продолж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ляр впадал в добродушный тон, подзывал к себе Каштанку и говорил ей: «Ты, Каштанка, насекомое существо и больше ничег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-то далеко-далеко слышны человеческие голоса: «Какой у него пуль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ще тише отвечал другой голос, женский - «Пульс у него сто тридцать восемь. Температура тридцать девять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ученик</cp:lastModifiedBy>
  <dcterms:modified xsi:type="dcterms:W3CDTF">2011-01-28T16:38:13Z</dcterms:modified>
  <cp:revision>103</cp:revision>
  <dc:subject/>
  <dc:title>Слайд 1</dc:title>
</cp:coreProperties>
</file>