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F86-62A1-4C9F-89CE-7C13AA4B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943-3AC4-4073-A90F-72632AA2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0B6-C582-426E-A677-DA2A5B07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27F-FC7C-4BD1-BC2A-E13AA2E0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4CAE-DB6D-4180-85A3-4E6A0234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4781-BBCB-45CE-92E1-929939A4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B5CF-52CD-4121-A82E-7C5AD748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C29E-C66E-4193-897E-0D527542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DAA1-0F02-46DB-B6AF-5384FC41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F14-A1D6-4C9F-A203-0A6E47DD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3357-C792-4BB2-A1B0-C77AD908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2BE-F254-4C99-A491-D698752B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E3E8-97EC-4D39-94B7-68865FCA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9834-D903-45C1-B80E-2E336B31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9F30-3FA3-42E0-A47C-CE344937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E5A3-79C6-459D-B8A4-3310A320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9204-D9F4-4752-8F4A-39B658E8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A89A-AC52-4B43-A6F8-33D917EE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36A5-5E9B-463A-9716-F93AA6BF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DFE6-8ABB-41C9-A564-F32B3CBE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BDEC-EFA6-4F52-AFBB-4399508E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4BDB-4830-4175-B25B-3B06848B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2F1-EEC9-4B1E-84A5-FDF60990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E08F-3A1F-4820-A83F-11D9630B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AA52-B7BB-4C7C-9313-44B68D4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17B28-5719-4008-BFCE-4CBDC00B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7668-CF80-4DEA-A271-0ACAC7F0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7FB2-C341-4237-8260-CFD05686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E3DB-FC45-48F8-A4D6-607C5CD9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A508-AD11-4F54-B9FF-CDB40A6D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250B-BFBD-4CF0-BAEC-96C90F11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5003-A73C-404C-AE2D-B93D9A1A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4C241-58BC-42E9-A3FC-DA7132ED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77F-E43B-4DF8-A49D-C6035318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9FD3D-BD3F-4BE0-8721-F1631973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1E241-7E2B-4E01-A82A-414A8EB3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C0DE-91E1-4D6B-8451-F5B3B5A9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9F2C-24EC-476A-8697-5C9F0E9E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F34A0-A665-4918-96FA-16E359DB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233FA-AEAA-40B9-A2CE-F33E6D84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4C637-3EF9-4265-98E8-5B354FA4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8627A-691D-4128-82E7-95636B3E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7343-3B71-4C76-AD30-7EAF5FA6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74152-C22C-4D77-AAEB-3B4A3AA1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1DA-1721-4015-8E46-C60EB4B0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F1DAD-2FCC-4F2B-BE77-E7DFFB85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6EE0C-A4B2-4581-A491-07E9450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C7A2-E17E-448B-B39B-CD8C037D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AA07-CC43-4116-8AFA-33520153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3F60A-60AF-481E-B494-62E29B49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D982C-39AE-40DD-9B30-01877DD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31448-95F5-4697-B367-010667D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45BD-FC27-4A22-B284-C0CF8CA0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ECEA8-B968-43D1-8E8C-A5FBD39C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BF281-059C-49D6-98F0-4E4BFF8B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36D-1F7F-4BBD-93FA-1A498A0C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A0531-FB69-4109-9FF0-66B31B6C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9677-A396-409C-AD0B-E4EAD825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936B-EA36-499E-9605-7422362D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DDBFF-8970-4D6A-B567-B4215419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5E845-E8CD-40CF-8681-153446FB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7C439-A617-4C8C-AD4A-18EAF49E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C71C-6402-4BC8-99AA-8A1EEF73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2F053-9B9E-4C79-850E-107362F5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ACC2A-9868-44D8-A9A2-01376DA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4EF26-EAE1-43C8-B521-06FE7C25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EE6-BEC1-4F81-80FA-7758B3AF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A6A8-2DCD-4E45-B21F-12DEC407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859EB-E3EA-4A5A-98A5-C40BF1E9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9DA9-6AA3-4F7A-9544-4AD8F93E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C9E-535C-4920-A583-D6E8293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0A8-ED86-4BE0-82E9-54D7D884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7151-7ED3-4C51-A889-EE0BC1AA4F68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C5B3-1D3E-47AD-8652-38869C0943AE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9CC9-CAF5-4353-B116-0AEA10D5385C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4656-3502-45D8-8450-46C83ED27C26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3B99-395E-4A57-8B27-F0E6DFACF278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A8BC-B533-4D86-890D-AD016AE889CD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Материал к уроку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Учитывая смысл данных ниже слов автора, придумайте прямую речь, вставьте ее на месте пропуска и запишите получившиеся предложения с прямой речью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робко проговорил мальч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?» - тихо спросила дево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– шепотом ответила ма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- громко крикнул брат и отворил две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взволнованно сказала бабу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уверенно произнес д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место предложений с прямой речью запишите сложные предложения с союзом </a:t>
            </a:r>
            <a:r>
              <a:rPr b="1" lang="ru-RU" sz="2800" spc="-1" strike="noStrike">
                <a:solidFill>
                  <a:srgbClr val="672020"/>
                </a:solidFill>
                <a:latin typeface="Franklin Gothic Book"/>
              </a:rPr>
              <a:t>что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разе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: «В первый четверг октября к нам в гости приедут артисты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, </a:t>
            </a:r>
            <a:r>
              <a:rPr b="0" lang="ru-RU" sz="3600" spc="-1" strike="noStrike">
                <a:solidFill>
                  <a:srgbClr val="672020"/>
                </a:solidFill>
                <a:latin typeface="Arial"/>
              </a:rPr>
              <a:t>чт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первый четверг октября к ним приедут артис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475920"/>
            <a:ext cx="8147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ный руководитель объявил нам: «В понедельник будет общешкольное собрани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оста сказал: «Смотр художественной самодеятельности состоится в следующую сред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па писал: «Я вернусь из командировки не раньше воскресень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жатая предупредила нас: «Сбор макулатуры назначается на вторни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текст. Озаглавьте его, затем спишите, расставляя знак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обеда папа сел за какую-то книгу, но потом отложил ее в сторону и спросил Вася, как дела в школе. Изо всех сил Вася старался скрыть радостную улыбку. Он подал тетрадь и произнес Вчера был диктант. Вот, вернули с отметками. Отец перелистал несколько страниц и увидел пятерку.  И как же ты ошибок не наделал спросил папа. Со мной Нина сидит, а она, знаешь, как пишет похвастался Вася.  Вот оно что протянул отец. А потом добавил Значит, ты сегодня не свою, а чужую пятерку принес. Лицо у Васи стало растерянным и жалким, улыбки как не быва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Рос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спомним основные схемы предложений с прямой речью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1397160"/>
          <a:ext cx="7921440" cy="50036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!»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: «П!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?» –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?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»,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»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257" name="Управляющая кнопка: домой 4">
            <a:hlinkClick r:id="rId1" action="ppaction://hlinksldjump"/>
          </p:cNvPr>
          <p:cNvSpPr/>
          <p:nvPr/>
        </p:nvSpPr>
        <p:spPr>
          <a:xfrm>
            <a:off x="8028000" y="6093000"/>
            <a:ext cx="863640" cy="54900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3971" h="21600">
                <a:moveTo>
                  <a:pt x="0" y="0"/>
                </a:moveTo>
                <a:lnTo>
                  <a:pt x="33971" y="0"/>
                </a:lnTo>
                <a:lnTo>
                  <a:pt x="33971" y="21600"/>
                </a:lnTo>
                <a:lnTo>
                  <a:pt x="0" y="21600"/>
                </a:lnTo>
                <a:close/>
              </a:path>
              <a:path fill="lightenLess" w="33971" h="21600">
                <a:moveTo>
                  <a:pt x="0" y="0"/>
                </a:moveTo>
                <a:lnTo>
                  <a:pt x="33971" y="0"/>
                </a:lnTo>
                <a:lnTo>
                  <a:pt x="32571" y="1400"/>
                </a:lnTo>
                <a:lnTo>
                  <a:pt x="1400" y="1400"/>
                </a:lnTo>
                <a:close/>
              </a:path>
              <a:path fill="darken" w="33971" h="21600">
                <a:moveTo>
                  <a:pt x="33971" y="0"/>
                </a:moveTo>
                <a:lnTo>
                  <a:pt x="33971" y="21600"/>
                </a:lnTo>
                <a:lnTo>
                  <a:pt x="32571" y="20200"/>
                </a:lnTo>
                <a:lnTo>
                  <a:pt x="32571" y="1400"/>
                </a:lnTo>
                <a:close/>
              </a:path>
              <a:path fill="darkenLess" w="33971" h="21600">
                <a:moveTo>
                  <a:pt x="33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1" y="20200"/>
                </a:lnTo>
                <a:close/>
              </a:path>
              <a:path fill="lighten" w="33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71" h="21600">
                <a:moveTo>
                  <a:pt x="16986" y="3837"/>
                </a:moveTo>
                <a:lnTo>
                  <a:pt x="19562" y="6448"/>
                </a:ln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lnTo>
                  <a:pt x="23949" y="10800"/>
                </a:lnTo>
                <a:lnTo>
                  <a:pt x="22295" y="10800"/>
                </a:lnTo>
                <a:lnTo>
                  <a:pt x="22295" y="17989"/>
                </a:lnTo>
                <a:lnTo>
                  <a:pt x="11676" y="17989"/>
                </a:lnTo>
                <a:lnTo>
                  <a:pt x="11676" y="10800"/>
                </a:lnTo>
                <a:lnTo>
                  <a:pt x="10023" y="10800"/>
                </a:lnTo>
                <a:close/>
              </a:path>
              <a:path fill="darkenLess" w="33971" h="21600">
                <a:moveTo>
                  <a:pt x="19562" y="6448"/>
                </a:move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close/>
              </a:path>
              <a:path fill="darkenLess" w="33971" h="21600">
                <a:moveTo>
                  <a:pt x="16063" y="14299"/>
                </a:moveTo>
                <a:lnTo>
                  <a:pt x="17908" y="14299"/>
                </a:lnTo>
                <a:lnTo>
                  <a:pt x="17908" y="17989"/>
                </a:lnTo>
                <a:lnTo>
                  <a:pt x="22295" y="17989"/>
                </a:lnTo>
                <a:lnTo>
                  <a:pt x="22295" y="10800"/>
                </a:lnTo>
                <a:lnTo>
                  <a:pt x="11676" y="10800"/>
                </a:lnTo>
                <a:lnTo>
                  <a:pt x="11676" y="17989"/>
                </a:lnTo>
                <a:lnTo>
                  <a:pt x="16063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предложения из книг Э.Успенского. Составьте их схемы. Объясните постановку знаков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ам, наверное, нужны друзья?» - спросил обезьянку Крокоди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 вашем объявлении целых три ошибки», - сказала девоч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 может быть!» - воскликну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ушка уселась на стул и спросила: «Кто из вас будет Крокоди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5516280"/>
            <a:ext cx="86407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Как называются выделенные слова? Объясните постановку знаков препинания при них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9640" y="1628280"/>
            <a:ext cx="80647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просил: «Можете ли вы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уважаемый людое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ревратиться в зверька поменьше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оед ответил: «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Конеч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мог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казал: «Тогда превратитесь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пожалуйс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мышь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324000" y="404640"/>
            <a:ext cx="86407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предшествовала словам ав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следовала за словами автора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9640" y="191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Где же река?» – спросил я у Саш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он там за лесом», - ответил он, указывая рукой вдал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Как далеко!» - огорчился 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В словах автора выделены глаголы. При списывании подчеркните тот глагол, который вводит прямую речь в высказывание. Поставьте пропущенны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1413000"/>
            <a:ext cx="86407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едя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..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на обл..ка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каза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Гроза буд..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н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отв..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Машу в стор..ну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оси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А разве Саша Коншаков не р..ботает с вам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ш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дб..жа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к дедушке и ро..ко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..сил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душка а когда же землю начнем к..п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аньк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о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 поле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роизнес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есна-то какая Маш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33200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д обращением поставьте букву 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Franklin Gothic Book"/>
              </a:rPr>
              <a:t>Миша Лентяйкин пришел в школу довольный. «Вот какой рассказ я написал!» - похвастался он. Давайте прочтем его вместе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05228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апа спросил у Васи: «Сегодня мы пойдем в музей». Вася обрадовался и ответил: «А в какой?» «В исторический», - громко закричал папа. «Ура! – поинтересовался Вася. – Я никогда там не был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завтракав, они поехали в музей. «Что мы там увидим?» - рассказал Вася папе. «Многое, - задал вопрос отец. – Увидим, как жили люди в древности, какие носили наряды, какое у них было оружие. Увидишь сам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Управляющая кнопка: далее 3">
            <a:hlinkClick r:id="rId1" action="ppaction://hlinksldjump"/>
          </p:cNvPr>
          <p:cNvSpPr/>
          <p:nvPr/>
        </p:nvSpPr>
        <p:spPr>
          <a:xfrm>
            <a:off x="788508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3794"/>
                </a:moveTo>
                <a:lnTo>
                  <a:pt x="26817" y="10800"/>
                </a:lnTo>
                <a:lnTo>
                  <a:pt x="12804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94920" y="549360"/>
            <a:ext cx="8280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ажется ли вам Мишин текст смешным? Поче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смотрел на рассказ его приятель Дима Пятеркин, покачал головой и стал исправлять. Запишите и вы Мишин рассказ в исправленном виде.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3276720" y="5589720"/>
            <a:ext cx="1224000" cy="64764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12" h="21600">
                <a:moveTo>
                  <a:pt x="0" y="0"/>
                </a:moveTo>
                <a:lnTo>
                  <a:pt x="40812" y="0"/>
                </a:lnTo>
                <a:lnTo>
                  <a:pt x="40812" y="21600"/>
                </a:lnTo>
                <a:lnTo>
                  <a:pt x="0" y="21600"/>
                </a:lnTo>
                <a:close/>
              </a:path>
              <a:path fill="lightenLess" w="40812" h="21600">
                <a:moveTo>
                  <a:pt x="0" y="0"/>
                </a:moveTo>
                <a:lnTo>
                  <a:pt x="40812" y="0"/>
                </a:lnTo>
                <a:lnTo>
                  <a:pt x="39412" y="1400"/>
                </a:lnTo>
                <a:lnTo>
                  <a:pt x="1400" y="1400"/>
                </a:lnTo>
                <a:close/>
              </a:path>
              <a:path fill="darken" w="40812" h="21600">
                <a:moveTo>
                  <a:pt x="40812" y="0"/>
                </a:moveTo>
                <a:lnTo>
                  <a:pt x="40812" y="21600"/>
                </a:lnTo>
                <a:lnTo>
                  <a:pt x="39412" y="20200"/>
                </a:lnTo>
                <a:lnTo>
                  <a:pt x="39412" y="1400"/>
                </a:lnTo>
                <a:close/>
              </a:path>
              <a:path fill="darkenLess" w="40812" h="21600">
                <a:moveTo>
                  <a:pt x="40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12" y="20200"/>
                </a:lnTo>
                <a:close/>
              </a:path>
              <a:path fill="lighten" w="40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12" h="21600">
                <a:moveTo>
                  <a:pt x="13400" y="10800"/>
                </a:moveTo>
                <a:lnTo>
                  <a:pt x="27412" y="3794"/>
                </a:lnTo>
                <a:lnTo>
                  <a:pt x="274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4572000" y="573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иться к тек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идумайте прямую речь и вставьте ее на месте пропуска. Запишите получившиеся предложения с прямой речью, расставьт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читель спрос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ректор говорил 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жатый сказал 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журный рассказал 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жий обратился с вопросом к ребятам 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льчик воскликнул 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ароста объяв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андир группы скомандовал 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Управляющая кнопка: в начало 3">
            <a:hlinkClick r:id="rId1" action="ppaction://hlinksldjump"/>
          </p:cNvPr>
          <p:cNvSpPr/>
          <p:nvPr/>
        </p:nvSpPr>
        <p:spPr>
          <a:xfrm>
            <a:off x="7667640" y="602136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38" h="21600">
                <a:moveTo>
                  <a:pt x="21220" y="10800"/>
                </a:moveTo>
                <a:lnTo>
                  <a:pt x="31725" y="3794"/>
                </a:lnTo>
                <a:lnTo>
                  <a:pt x="31725" y="17806"/>
                </a:lnTo>
                <a:close/>
              </a:path>
              <a:path fill="darken" w="49438" h="21600">
                <a:moveTo>
                  <a:pt x="17712" y="3794"/>
                </a:moveTo>
                <a:lnTo>
                  <a:pt x="19375" y="3794"/>
                </a:lnTo>
                <a:lnTo>
                  <a:pt x="19375" y="17806"/>
                </a:lnTo>
                <a:lnTo>
                  <a:pt x="177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3:57Z</dcterms:modified>
  <cp:revision>80</cp:revision>
  <dc:subject/>
  <dc:title>Слайд 1</dc:title>
</cp:coreProperties>
</file>