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C43E-60AE-42C7-8128-E1FF69916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17AB-03E9-4931-99B7-AE54F8BE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42BA-4222-4378-93E3-B8558FCD2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29FA-9B36-4E7A-9B66-B0152E6AA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59157-BD58-4DCC-9CFF-B211BBC21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415FC-4C61-4C64-8A0C-29B76BC6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CA91-2B58-4490-A434-54021CD2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F878-5F61-45DE-BCAE-910C4077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9D090-D0AF-4FB9-82C6-86F3CE64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90AA-FF22-4C25-A4E5-0A324092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FB587-F51F-4FD6-9B84-6EBE3322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38D2-D23A-4805-8AB5-4AF18E7B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1468-8CAA-4DDC-851E-6A099BAF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BAD38-E890-4CDD-A564-B5C04F14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04FC-B171-4CE8-BF88-41E2A894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31AC7-C24E-454D-8442-A3CDFAC2D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5F8F-B42E-4476-9FB0-2C55B16A6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01A56-187D-4590-A1BB-6EAC39B46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C3363-8044-45B6-888A-AE41A9ED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54547-EB9E-457D-A1DB-9C82AB46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9626D-1BF2-43CF-91A6-FCE2CB20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2403A-F7A0-46AD-99E2-35F1928B4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6FCD-728A-407A-9137-DD9EED99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3C192-D01C-4B48-AD70-84C90DC7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77624-55E4-4730-80D1-12988221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E9D9A-310A-4DFD-9B5F-DB793A8B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00EB5-A9A0-464A-9807-B408FAB9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2E2C1-CB5E-42BD-8E43-78C80F64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03CD9-ABD8-4258-B12C-7C710F7C7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95EFE-A240-4111-92F7-469B9408A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C9C15-3D38-460B-94CA-6151C39D1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E4CE2-E5A5-4F25-88D6-DA03A97E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D0E32-9F26-4E24-A49E-5089F5F9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2128-FC41-4AEE-9897-5E8EF03A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89222-7644-4721-B6DA-817BE7C0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F211C-1083-4644-9ED3-78AF4FC9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F5B44-8092-4BD8-BE5B-6D4133ED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D894D-6BFA-4CEC-B26E-C4B4448F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4C8AF-DCAE-4146-82F9-EE7721CD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628DE-4859-4AE8-969B-781EF966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3A84B-5437-454F-B1BF-902F840B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25BD4-78C5-4A45-AB5C-965BA9849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AAB04-E746-4CC2-9A79-B3F9CBDB2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1A61E-39E3-406C-93AD-77010B869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B7A4-B328-4D26-92C0-7465BC56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8D489-3D01-49A0-B140-CADFD4D9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100E4-5DE9-424C-9C65-9C6E7805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F456A-F890-48EF-AD27-865D6E0E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DAFAC-9129-41C2-8DCF-4F8182DF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4EB04-EFEC-4E6F-AF6E-7CE2DA3C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28713-DF64-4E41-90FA-C867123F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C2A54-5E85-4676-AFC5-74FA7BB7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C6EFC-A72D-4E1E-8E22-754663C4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5102C-1147-4685-BDB6-5D462CB9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E8E5C-DD1A-4FBA-A787-8A8991339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1A84-46BA-424C-8C9D-B742785A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27F10-F6F2-4E99-BE97-6D0FAC07E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BD309-1560-4CC2-AB61-4695CCF68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90FF0-784D-49C2-8997-243AFCCD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A92B5-0F95-4138-9949-AE0A66EB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1E3EE-2B0D-4A91-903A-2FB7451E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F066C-9F9C-44BA-8AB9-4F22D692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88B08-C7D6-4964-95AE-140D576A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4631C-2F2C-481D-8B88-803EF792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AD01E-D319-451F-8942-1D007F92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57FD3-C5ED-44E3-83E7-1368667D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0EFE-D286-420A-AC54-BEF4621D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81401-ABE4-412F-ACE4-63B36492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12A09-ADE2-4A00-8626-861687BD9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083AF-8BE5-42F7-8399-EB03CA9C0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9135-1F4F-45BE-A515-BBD4DF67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9795-65C5-49AF-BD79-760CEB74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0E5D-F4FE-454F-A9BB-DAB984E6F24F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d53"/>
            </a:gs>
            <a:gs pos="100000">
              <a:srgbClr val="828ba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9E59-8F2B-4EF2-953C-D793BAD2F70A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d53"/>
            </a:gs>
            <a:gs pos="100000">
              <a:srgbClr val="828ba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F747-4C03-412A-BA03-0AD9FCF65127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5C57-F0F4-4044-A25A-CF6C0B818997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2A26-4C80-49AD-B864-06A37E53E5E6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70A3-CC87-4735-94B3-1301D46FB843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324000" y="1412640"/>
            <a:ext cx="8640720" cy="41036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ffffff"/>
                </a:solidFill>
                <a:latin typeface="Arial"/>
              </a:rPr>
              <a:t>5 класс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Прямая речь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ffffff"/>
                </a:solidFill>
                <a:latin typeface="Arial"/>
              </a:rPr>
              <a:t>Контрольный тест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9. В каком предложении прямая речь оформлена правильно?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250920" y="1600200"/>
            <a:ext cx="8424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«Здесь, полагаю,  засели казаки, - сказал Чапаев, указывая на реку»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«Не выдумывайте, пожалуйста!», - твердо и с каким-то естественным спокойствием заявил мальчик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«Расскажите свою биографию, Артем», - услыхал слесарь голос Сиротенко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оходя переднюю, Чичиков покрутил носом и сказал Петрушке - «Ты бы, по крайней мере, хоть окна отпер!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Проверь себя: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68360" y="1052280"/>
            <a:ext cx="79912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«П», -а.     А: «П!»    «П», - а.      А: «П»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1. В каком из предложений пропущены знаки препинания?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«Чего это он?» - снова подумал Ослик и вошел в до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«Если у тебя будут клыки, то тебя все станут бояться - сказала Звезд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«Чайку пр-р-ришел попить», - прохрипел Ослик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едвежонок закричал: «Я только на прошлой неделе подарил тебе самовар!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2. Расставьте знаки препинания и запишите схемы предложений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c00000"/>
                </a:solidFill>
                <a:latin typeface="Arial"/>
              </a:rPr>
              <a:t>Не слишком подходящее место для необыкновенного цветка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думался Шухлик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ера Сергеевна, когда меня увидела, всплеснула руками и говорит  </a:t>
            </a:r>
            <a:r>
              <a:rPr b="0" i="1" lang="ru-RU" sz="3000" spc="-1" strike="noStrike">
                <a:solidFill>
                  <a:srgbClr val="c00000"/>
                </a:solidFill>
                <a:latin typeface="Arial"/>
              </a:rPr>
              <a:t>Ох! Настоящий кот в сапогах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c00000"/>
                </a:solidFill>
                <a:latin typeface="Arial"/>
              </a:rPr>
              <a:t>Странный вечер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думал Митя и споткнулся о кочку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иктант закончился и Татьяна Евгеньевна сказала </a:t>
            </a:r>
            <a:r>
              <a:rPr b="0" i="1" lang="ru-RU" sz="3000" spc="-1" strike="noStrike">
                <a:solidFill>
                  <a:srgbClr val="c00000"/>
                </a:solidFill>
                <a:latin typeface="Arial"/>
              </a:rPr>
              <a:t>Проверьте, что вы написали и сдайте тетрадк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893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3. Найди предложение без ошибки в пунктуационном  оформлении прямой речи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23640" y="1413000"/>
            <a:ext cx="8569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90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Так ты пойдешь за мной повсюду?» - говорил он ей.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90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здался чей-то голос: «к вам можно?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90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на не плакала, а только твердила – «О мой друг! О мой брат!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90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Ведь это все-таки мой дом! - думала она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90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4. Найди предложение с ошибкой в пунктуационном  оформлении прямой речи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50560" y="1483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90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Где же город?» - подумал Кузьмин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90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 Балда приговаривал с укоризной: «Не гонялся бы ты, поп, за дешевизной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90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конец я ей сказал: «Хочешь, пойдем прогуляться на вал?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90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Пожар! Пожар!» : Раздался внизу отчаянный крик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5. Найди предложение без ошибки в пунктуационном  оформлении прямой речи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24000" y="155700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99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Что же ты не едешь?» - Спросил я ямщика с нетерпени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99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Нет, дело не ладно: надо достать лодку», - промолвил Ермола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99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Стой, братцы, стой» - кричит Мартыш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99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Он приедет завтра вечером, его надо встретить» - добавил Макар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6. Найди предложение с ошибкой в пунктуационном  оформлении прямой речи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79280" y="1600200"/>
            <a:ext cx="8785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99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Женщина или девушка на велосипеде – это ужасно» - говорил Бели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99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Мне кажется, как будто эта каша обыкновенно немного пригорела», - говаривал Афанасий Иванович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99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Зачем вы повязаны платком?» - спросил я Владими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99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Давненько я не брал в руки шашек», - говорил Чичиков, подвигая тоже шаш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7. В каком предложении верно воспроизведена замена прямой речи косвенной?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7892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0400" indent="-37476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72020"/>
                </a:solidFill>
                <a:latin typeface="Arial"/>
              </a:rPr>
              <a:t>«Отец надеется на Вашу скромность и порядочное поведение», - сказала Маша, обратившись к учителю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ша сказала учителю  о скромности и поведен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ша сказала учителю, отец надеется на скромность и порядочное повед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ителю Маша сказала о скромности и порядочном поведен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ратившись к учителю, Маша сказала, что отец надеется на его скромность и порядочное повед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85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8. В каком предложении прямая речь оформлена правильно?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341360"/>
            <a:ext cx="82915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Да неужели отец не догадался, что Белла у вас в крепости» - продолжал 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оляр впадал в добродушный тон, подзывал к себе Каштанку и говорил ей: «Ты, Каштанка, насекомое существо и больше ничего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де-то далеко-далеко слышны человеческие голоса: «Какой у него пульс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еще тише отвечал другой голос, женский - «Пульс у него сто тридцать восемь. Температура тридцать девять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04:40:10Z</dcterms:created>
  <dc:creator>ученик</dc:creator>
  <dc:description/>
  <dc:language>en-US</dc:language>
  <cp:lastModifiedBy>ученик</cp:lastModifiedBy>
  <dcterms:modified xsi:type="dcterms:W3CDTF">2011-01-28T16:38:13Z</dcterms:modified>
  <cp:revision>103</cp:revision>
  <dc:subject/>
  <dc:title>Слайд 1</dc:title>
</cp:coreProperties>
</file>