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3FAC-DB9A-477E-890C-A3432300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425E-4DA8-4091-993F-A4AE43E6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7D8A-5E95-4A27-8EB3-B58310A5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B340-F588-47C3-8BCA-6112EE48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6E73-594F-4D0F-AE67-36ED73FF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1987-DC95-4B4D-A26E-A513B450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BBF2-D9B4-408F-AEAB-D7513859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81F2-4AFE-49B7-AA57-440816D9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230A-F6CA-401B-91EB-DA554F8A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4BA6-067E-4588-8578-49533DBD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207F-D928-49C0-990E-2DEDDB99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3519-20DA-4457-93FB-9FCF1049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78BE-66C0-4BA1-B3DE-C39C0870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6E83-BEE2-4EE9-AA52-69396EDC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8149-6705-4B1B-9E49-4A3EDC41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8E8B-DB97-4221-90C3-1DAEBB8F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3AE7-D773-4882-88FA-A37E32E8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30474-D335-4E7B-96D6-CD39C397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1C345-BC5D-43EC-A0D5-E7879A2C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C96F1-F070-4E2C-A56D-2CCE7532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AA947-1BF8-47B6-BEDB-2D1F8886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604F6-AECB-4675-B10C-C4BD69DB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F831-FA1D-419D-99CC-A9F3157D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A392C-4942-4F1D-B188-2175A8DC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57646-09DB-42B3-8417-8A2BFDDC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C4B6A-878D-4F4C-A749-2F295FA8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CB26A-9F57-4E28-B943-E670DBB6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59B19-C6D8-4F27-9E78-5D184B48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52FAC-D511-4E28-A67A-2E15DE82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CC891-30CA-4594-84E6-D4146B64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2F114-2147-4958-95D4-3E4A76A8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C3D65-0F3C-4D80-8F8F-2C39361A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A2DEA-EA91-4C5C-8F08-85B078A6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BE97-3331-473D-B43F-D1E09F99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591C0-5E73-42E1-BA23-FF8B39AF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F6FD5-9D12-44EB-AAF7-BAB8C5BD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46775-024A-4EE3-B0FC-E85999C9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E807F-0591-4BDC-81B4-E6E4ED7C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BD770-9ABD-4F93-A5B4-5C2F8164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68217-0BB4-4447-AD87-1F35D26D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2F14D-9902-4F81-BDDF-0D9557B4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5A235-EA3B-452D-B7CE-8DD87D60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0F5FC-D409-4802-B235-069C28D4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3F057-7EE4-4016-AF43-6B918058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E7AD-F08E-4936-B785-6738E8AE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8ABC7-04FA-4A79-A04A-3CA09941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5721C-78FC-4FC4-B538-9D29651E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C371B-2CE6-4203-B38E-A2207B4B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341AD-3423-4B50-AA1E-B150F934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6AEB4-C64B-4497-A617-CEB81921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D0BD7-AE3A-4915-89B1-6076D32B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67221-96A2-4193-BBEE-3AC7E5EE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453D8-0CC9-4503-87AE-3CA0AC0C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566D1-8040-439E-87BF-C714A47F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B6807-D1D0-48C9-976C-5FD34DB5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21B8-5B8A-4511-B80C-C329554C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5A3CD-89F0-4A67-9209-AC880073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75552-5320-4027-8684-C8DCCDC2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F20ED-1D2A-4DEA-84BB-7C6A8CC8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781BF-6945-4D60-80CC-A2598069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8BABD-C16B-4D12-8056-0B6837DD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3185F-3B1F-48D8-8743-A8AE97E9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B03CE-0024-4032-B4B3-3565E56B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78185-CAD8-42FF-9B90-9FF910CD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DA2C9-E3C6-4FD8-BEA0-2398139C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D9BED-807F-4134-AB75-5F023036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ABC4-F2C3-4062-B0FD-A9D46617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68FAB-BD58-4381-887C-9C942F18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F80A5-45A8-4350-8617-BADBE9C3E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7F4CA-56A3-435E-BF81-92794E60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E969-6F5A-4DE9-9C9A-478144CB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4876-219E-4A37-AE3D-83956DAF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7F37-8798-4FBF-A6BB-C6E61B0CACE4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D8DA-B259-49D6-AE04-548C7EC9E891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F86B-FF80-4FB6-81B9-9BACB5B48A53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4F97-E0D9-4D37-BDF2-32028C003D0E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E2EC-3363-4C59-A802-1E2967D581E0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0553-78EB-4917-8ED4-5974722CD9FA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3.xml"/><Relationship Id="rId3" Type="http://schemas.openxmlformats.org/officeDocument/2006/relationships/slide" Target="slide45.xml"/><Relationship Id="rId4" Type="http://schemas.openxmlformats.org/officeDocument/2006/relationships/slide" Target="slide46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30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1.xml"/><Relationship Id="rId3" Type="http://schemas.openxmlformats.org/officeDocument/2006/relationships/slide" Target="slide33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7.xml"/><Relationship Id="rId3" Type="http://schemas.openxmlformats.org/officeDocument/2006/relationships/slide" Target="slide38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" Target="slide39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640720" cy="41036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Прямая реч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Arial"/>
              </a:rPr>
              <a:t>Тренировочный тест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9. Укажите предложение, которое соответствует схеме </a:t>
            </a: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«П!» - а.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Знаки препинания расставлены частично) 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24000" y="1483920"/>
            <a:ext cx="829152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днажды приходил ко мне этот Шурка сказал директор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жар раздался внизу отчаянный крик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то же ты не едешь спросил я ямщика с нетерпение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 один раз отец говорил Жалко, что с нами нет ружь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Скругленный прямоугольник 3">
            <a:hlinkClick r:id="rId1" action="ppaction://hlinksldjump"/>
          </p:cNvPr>
          <p:cNvSpPr/>
          <p:nvPr/>
        </p:nvSpPr>
        <p:spPr>
          <a:xfrm>
            <a:off x="611280" y="5445000"/>
            <a:ext cx="158436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Скругленный прямоугольник 4">
            <a:hlinkClick r:id="rId2" action="ppaction://hlinksldjump"/>
          </p:cNvPr>
          <p:cNvSpPr/>
          <p:nvPr/>
        </p:nvSpPr>
        <p:spPr>
          <a:xfrm>
            <a:off x="2771640" y="5445000"/>
            <a:ext cx="158436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Скругленный прямоугольник 5">
            <a:hlinkClick r:id="rId3" action="ppaction://hlinksldjump"/>
          </p:cNvPr>
          <p:cNvSpPr/>
          <p:nvPr/>
        </p:nvSpPr>
        <p:spPr>
          <a:xfrm>
            <a:off x="4788000" y="5445000"/>
            <a:ext cx="158436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Скругленный прямоугольник 6">
            <a:hlinkClick r:id="rId4" action="ppaction://hlinksldjump"/>
          </p:cNvPr>
          <p:cNvSpPr/>
          <p:nvPr/>
        </p:nvSpPr>
        <p:spPr>
          <a:xfrm>
            <a:off x="6875640" y="5445000"/>
            <a:ext cx="158400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826920" y="404280"/>
            <a:ext cx="6539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64320" indent="-3326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опробуй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6588000" y="37162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539640" y="-171720"/>
            <a:ext cx="70567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Подумай ещё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4" descr="C:\Documents and Settings\Елена\Рабочий стол\78d7a7c1a465121ba394082fb3417918.gif"/>
          <p:cNvPicPr/>
          <p:nvPr/>
        </p:nvPicPr>
        <p:blipFill>
          <a:blip r:embed="rId2"/>
          <a:stretch/>
        </p:blipFill>
        <p:spPr>
          <a:xfrm>
            <a:off x="6732720" y="4149720"/>
            <a:ext cx="2027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Молодец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Умница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09880" y="3809880"/>
            <a:ext cx="2286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611280" y="380520"/>
            <a:ext cx="5689440" cy="25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76920" indent="-3441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4" descr="C:\Documents and Settings\Елена\Рабочий стол\мышь-силачка.wmf"/>
          <p:cNvPicPr/>
          <p:nvPr/>
        </p:nvPicPr>
        <p:blipFill>
          <a:blip r:embed="rId2"/>
          <a:stretch/>
        </p:blipFill>
        <p:spPr>
          <a:xfrm>
            <a:off x="5940360" y="2924280"/>
            <a:ext cx="26067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826920" y="404280"/>
            <a:ext cx="6539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64320" indent="-3326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Попробуй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6588000" y="37162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Молодец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1. Найди предложение без ошибки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23640" y="1413000"/>
            <a:ext cx="8569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ь недовольно сказала – «К ученью надо готовиться, а ты в лесу пропадаеш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от она, речка!» - Обрадовался Васют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Он все про озеро какое-то толкует», - заговорил дед Афанас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Мальчик снова заговорил вслух: Ладно, не робей, найдем избушку»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Скругленный прямоугольник 3">
            <a:hlinkClick r:id="rId1" action="ppaction://hlinksldjump"/>
          </p:cNvPr>
          <p:cNvSpPr/>
          <p:nvPr/>
        </p:nvSpPr>
        <p:spPr>
          <a:xfrm>
            <a:off x="684360" y="5300640"/>
            <a:ext cx="143964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Скругленный прямоугольник 4">
            <a:hlinkClick r:id="rId2" action="ppaction://hlinksldjump"/>
          </p:cNvPr>
          <p:cNvSpPr/>
          <p:nvPr/>
        </p:nvSpPr>
        <p:spPr>
          <a:xfrm>
            <a:off x="2627280" y="5300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Скругленный прямоугольник 5">
            <a:hlinkClick r:id="rId3" action="ppaction://hlinksldjump"/>
          </p:cNvPr>
          <p:cNvSpPr/>
          <p:nvPr/>
        </p:nvSpPr>
        <p:spPr>
          <a:xfrm>
            <a:off x="4716360" y="5300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Скругленный прямоугольник 6">
            <a:hlinkClick r:id="rId4" action="ppaction://hlinksldjump"/>
          </p:cNvPr>
          <p:cNvSpPr/>
          <p:nvPr/>
        </p:nvSpPr>
        <p:spPr>
          <a:xfrm>
            <a:off x="6948360" y="5300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539640" y="-171720"/>
            <a:ext cx="70567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Подумай ещё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4" descr="C:\Documents and Settings\Елена\Рабочий стол\78d7a7c1a465121ba394082fb3417918.gif"/>
          <p:cNvPicPr/>
          <p:nvPr/>
        </p:nvPicPr>
        <p:blipFill>
          <a:blip r:embed="rId2"/>
          <a:stretch/>
        </p:blipFill>
        <p:spPr>
          <a:xfrm>
            <a:off x="6732720" y="4149720"/>
            <a:ext cx="2027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611280" y="260280"/>
            <a:ext cx="63230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4" descr="C:\Documents and Settings\Елена\Рабочий стол\мышь-силачка.wmf"/>
          <p:cNvPicPr/>
          <p:nvPr/>
        </p:nvPicPr>
        <p:blipFill>
          <a:blip r:embed="rId2"/>
          <a:stretch/>
        </p:blipFill>
        <p:spPr>
          <a:xfrm>
            <a:off x="6012000" y="2997360"/>
            <a:ext cx="26064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826920" y="404280"/>
            <a:ext cx="6539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64320" indent="-3326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Попробуй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6588000" y="37162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Умница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09880" y="3809880"/>
            <a:ext cx="2286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610920" y="333360"/>
            <a:ext cx="5746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Picture 4" descr="C:\Documents and Settings\Елена\Рабочий стол\мышь-силачка.wmf"/>
          <p:cNvPicPr/>
          <p:nvPr/>
        </p:nvPicPr>
        <p:blipFill>
          <a:blip r:embed="rId2"/>
          <a:stretch/>
        </p:blipFill>
        <p:spPr>
          <a:xfrm>
            <a:off x="5867280" y="3068640"/>
            <a:ext cx="26067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26920" y="404280"/>
            <a:ext cx="6539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64320" indent="-3326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Попробуй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6588000" y="37162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Правильно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4" descr="C:\Documents and Settings\Елена\Рабочий стол\солнце23.gif"/>
          <p:cNvPicPr/>
          <p:nvPr/>
        </p:nvPicPr>
        <p:blipFill>
          <a:blip r:embed="rId2"/>
          <a:stretch/>
        </p:blipFill>
        <p:spPr>
          <a:xfrm>
            <a:off x="3657600" y="3505320"/>
            <a:ext cx="28195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971280" y="1125360"/>
            <a:ext cx="77151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Не сдавайся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Пробуй ещё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Picture 4" descr="C:\Documents and Settings\Елена\Рабочий стол\мышь-силачка.wmf"/>
          <p:cNvPicPr/>
          <p:nvPr/>
        </p:nvPicPr>
        <p:blipFill>
          <a:blip r:embed="rId2"/>
          <a:stretch/>
        </p:blipFill>
        <p:spPr>
          <a:xfrm>
            <a:off x="539640" y="333360"/>
            <a:ext cx="18288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2. Найди предложение с ошибкой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5056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от так строят дорогу-то в тайге» - назидательно заговорил молодой инженер Промой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орь сказал: «Ну, не жалеешь, что пришел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Я в жизни ничего подобного не слыхала», - говорила Рыжух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Да что это с ней?» – с тревогой подумал 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Скругленный прямоугольник 3">
            <a:hlinkClick r:id="rId1" action="ppaction://hlinksldjump"/>
          </p:cNvPr>
          <p:cNvSpPr/>
          <p:nvPr/>
        </p:nvSpPr>
        <p:spPr>
          <a:xfrm>
            <a:off x="611280" y="5229360"/>
            <a:ext cx="1657080" cy="936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Скругленный прямоугольник 4">
            <a:hlinkClick r:id="rId2" action="ppaction://hlinksldjump"/>
          </p:cNvPr>
          <p:cNvSpPr/>
          <p:nvPr/>
        </p:nvSpPr>
        <p:spPr>
          <a:xfrm>
            <a:off x="2771640" y="5229360"/>
            <a:ext cx="1656000" cy="936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Скругленный прямоугольник 5">
            <a:hlinkClick r:id="rId3" action="ppaction://hlinksldjump"/>
          </p:cNvPr>
          <p:cNvSpPr/>
          <p:nvPr/>
        </p:nvSpPr>
        <p:spPr>
          <a:xfrm>
            <a:off x="4932360" y="5229360"/>
            <a:ext cx="1655640" cy="936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Скругленный прямоугольник 6">
            <a:hlinkClick r:id="rId4" action="ppaction://hlinksldjump"/>
          </p:cNvPr>
          <p:cNvSpPr/>
          <p:nvPr/>
        </p:nvSpPr>
        <p:spPr>
          <a:xfrm>
            <a:off x="6948360" y="5229360"/>
            <a:ext cx="1656000" cy="936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539640" y="-171720"/>
            <a:ext cx="70567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Подумай ещё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4" descr="C:\Documents and Settings\Елена\Рабочий стол\78d7a7c1a465121ba394082fb3417918.gif"/>
          <p:cNvPicPr/>
          <p:nvPr/>
        </p:nvPicPr>
        <p:blipFill>
          <a:blip r:embed="rId2"/>
          <a:stretch/>
        </p:blipFill>
        <p:spPr>
          <a:xfrm>
            <a:off x="6732720" y="4149720"/>
            <a:ext cx="2027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6858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Замечательно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581280" y="35812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539640" y="-360"/>
            <a:ext cx="80647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Попробуй ещё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4" descr="C:\Documents and Settings\Елена\Рабочий стол\78d7a7c1a465121ba394082fb3417918.gif"/>
          <p:cNvPicPr/>
          <p:nvPr/>
        </p:nvPicPr>
        <p:blipFill>
          <a:blip r:embed="rId2"/>
          <a:stretch/>
        </p:blipFill>
        <p:spPr>
          <a:xfrm>
            <a:off x="6732720" y="4149720"/>
            <a:ext cx="2027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914040" y="380520"/>
            <a:ext cx="4809960" cy="32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4" descr="C:\Documents and Settings\Елена\Рабочий стол\мышь-силачка.wmf"/>
          <p:cNvPicPr/>
          <p:nvPr/>
        </p:nvPicPr>
        <p:blipFill>
          <a:blip r:embed="rId2"/>
          <a:stretch/>
        </p:blipFill>
        <p:spPr>
          <a:xfrm>
            <a:off x="5940360" y="3357720"/>
            <a:ext cx="26067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Молодец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971280" y="1125360"/>
            <a:ext cx="77151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mic Sans MS"/>
              </a:rPr>
              <a:t>Не сдавайся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mic Sans MS"/>
              </a:rPr>
              <a:t>Пробуй ещё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4" descr="C:\Documents and Settings\Елена\Рабочий стол\мышь-силачка.wmf"/>
          <p:cNvPicPr/>
          <p:nvPr/>
        </p:nvPicPr>
        <p:blipFill>
          <a:blip r:embed="rId2"/>
          <a:stretch/>
        </p:blipFill>
        <p:spPr>
          <a:xfrm>
            <a:off x="838080" y="228600"/>
            <a:ext cx="18288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539640" y="-171720"/>
            <a:ext cx="70567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Подумай ещё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Picture 4" descr="C:\Documents and Settings\Елена\Рабочий стол\78d7a7c1a465121ba394082fb3417918.gif"/>
          <p:cNvPicPr/>
          <p:nvPr/>
        </p:nvPicPr>
        <p:blipFill>
          <a:blip r:embed="rId1"/>
          <a:stretch/>
        </p:blipFill>
        <p:spPr>
          <a:xfrm>
            <a:off x="6732720" y="4149720"/>
            <a:ext cx="2027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Умница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4" descr="C:\Documents and Settings\Елена\Рабочий стол\мальчик радуется.gif"/>
          <p:cNvPicPr/>
          <p:nvPr/>
        </p:nvPicPr>
        <p:blipFill>
          <a:blip r:embed="rId1"/>
          <a:stretch/>
        </p:blipFill>
        <p:spPr>
          <a:xfrm>
            <a:off x="3809880" y="3809880"/>
            <a:ext cx="2286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3. Найди предложение без ошибки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24000" y="134100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Давно он пришел?» – кивнул Матвей на п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рья покачала головой, «И зачем же вот каждый день бродить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бушка у нас доктор Айболит»,  восторженно сказал Вов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от какой у нас  ученый кот! - живо прокомментировал Вов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Скругленный прямоугольник 3">
            <a:hlinkClick r:id="rId1" action="ppaction://hlinksldjump"/>
          </p:cNvPr>
          <p:cNvSpPr/>
          <p:nvPr/>
        </p:nvSpPr>
        <p:spPr>
          <a:xfrm>
            <a:off x="2700360" y="5084640"/>
            <a:ext cx="180036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Скругленный прямоугольник 4">
            <a:hlinkClick r:id="rId2" action="ppaction://hlinksldjump"/>
          </p:cNvPr>
          <p:cNvSpPr/>
          <p:nvPr/>
        </p:nvSpPr>
        <p:spPr>
          <a:xfrm>
            <a:off x="4788000" y="5084640"/>
            <a:ext cx="180000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Скругленный прямоугольник 5">
            <a:hlinkClick r:id="rId3" action="ppaction://hlinksldjump"/>
          </p:cNvPr>
          <p:cNvSpPr/>
          <p:nvPr/>
        </p:nvSpPr>
        <p:spPr>
          <a:xfrm>
            <a:off x="6875640" y="5084640"/>
            <a:ext cx="180000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Скругленный прямоугольник 6">
            <a:hlinkClick r:id="rId4" action="ppaction://hlinksldjump"/>
          </p:cNvPr>
          <p:cNvSpPr/>
          <p:nvPr/>
        </p:nvSpPr>
        <p:spPr>
          <a:xfrm>
            <a:off x="539640" y="5084640"/>
            <a:ext cx="180036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Управляющая кнопка: домой 8"/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4" descr="C:\Documents and Settings\Елена\Рабочий стол\мальчик задумался.gif"/>
          <p:cNvPicPr/>
          <p:nvPr/>
        </p:nvPicPr>
        <p:blipFill>
          <a:blip r:embed="rId1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539640" y="-360"/>
            <a:ext cx="80647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Попробуй ещё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4" descr="C:\Documents and Settings\Елена\Рабочий стол\78d7a7c1a465121ba394082fb3417918.gif"/>
          <p:cNvPicPr/>
          <p:nvPr/>
        </p:nvPicPr>
        <p:blipFill>
          <a:blip r:embed="rId1"/>
          <a:stretch/>
        </p:blipFill>
        <p:spPr>
          <a:xfrm>
            <a:off x="6732720" y="4149720"/>
            <a:ext cx="2027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94920" y="549360"/>
            <a:ext cx="6769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2600" indent="-340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4" descr="C:\Documents and Settings\Елена\Рабочий стол\мышь-силачка.wmf"/>
          <p:cNvPicPr/>
          <p:nvPr/>
        </p:nvPicPr>
        <p:blipFill>
          <a:blip r:embed="rId1"/>
          <a:stretch/>
        </p:blipFill>
        <p:spPr>
          <a:xfrm>
            <a:off x="5796000" y="3141720"/>
            <a:ext cx="26067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94920" y="380880"/>
            <a:ext cx="8497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omic Sans MS"/>
              </a:rPr>
              <a:t>Восхитительно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Управляющая кнопка: домой 3">
            <a:hlinkClick r:id="" action="ppaction://hlinkshowjump?jump=endshow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Picture 4" descr="C:\Documents and Settings\Елена\Рабочий стол\солнце23.gif"/>
          <p:cNvPicPr/>
          <p:nvPr/>
        </p:nvPicPr>
        <p:blipFill>
          <a:blip r:embed="rId1"/>
          <a:stretch/>
        </p:blipFill>
        <p:spPr>
          <a:xfrm>
            <a:off x="3492360" y="3500280"/>
            <a:ext cx="2819520" cy="25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826920" y="404280"/>
            <a:ext cx="6539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64320" indent="-3326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опробуй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Управляющая кнопка: домой 8"/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4" descr="C:\Documents and Settings\Елена\Рабочий стол\мальчик задумался.gif"/>
          <p:cNvPicPr/>
          <p:nvPr/>
        </p:nvPicPr>
        <p:blipFill>
          <a:blip r:embed="rId1"/>
          <a:stretch/>
        </p:blipFill>
        <p:spPr>
          <a:xfrm>
            <a:off x="6588000" y="37162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Подумай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4" descr="C:\Documents and Settings\Елена\Рабочий стол\мышь-силачка.wmf"/>
          <p:cNvPicPr/>
          <p:nvPr/>
        </p:nvPicPr>
        <p:blipFill>
          <a:blip r:embed="rId1"/>
          <a:stretch/>
        </p:blipFill>
        <p:spPr>
          <a:xfrm>
            <a:off x="3413160" y="3457440"/>
            <a:ext cx="26067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50560" y="-243360"/>
            <a:ext cx="8893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05640" indent="-279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Увы! Попробуй ещё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4" descr="C:\Documents and Settings\Елена\Рабочий стол\78d7a7c1a465121ba394082fb3417918.gif"/>
          <p:cNvPicPr/>
          <p:nvPr/>
        </p:nvPicPr>
        <p:blipFill>
          <a:blip r:embed="rId1"/>
          <a:stretch/>
        </p:blipFill>
        <p:spPr>
          <a:xfrm>
            <a:off x="395280" y="476280"/>
            <a:ext cx="1946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4. Найди предложение с ошибкой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Это еще что за зверь?» - сердито спросила злая волшебни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усливый Лев свирепо сказал: «Хоть я и трус,  а придется мне завтра померяться силами с Гудвином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Где вы достали столько зеленого мрамора?» - спросила Эл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елезный Дровосек закричал – «Приближается страшная гроза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Скругленный прямоугольник 3">
            <a:hlinkClick r:id="rId1" action="ppaction://hlinksldjump"/>
          </p:cNvPr>
          <p:cNvSpPr/>
          <p:nvPr/>
        </p:nvSpPr>
        <p:spPr>
          <a:xfrm>
            <a:off x="611280" y="5516640"/>
            <a:ext cx="151272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Скругленный прямоугольник 4">
            <a:hlinkClick r:id="rId2" action="ppaction://hlinksldjump"/>
          </p:cNvPr>
          <p:cNvSpPr/>
          <p:nvPr/>
        </p:nvSpPr>
        <p:spPr>
          <a:xfrm>
            <a:off x="2627280" y="5516640"/>
            <a:ext cx="151308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Скругленный прямоугольник 5">
            <a:hlinkClick r:id="rId3" action="ppaction://hlinksldjump"/>
          </p:cNvPr>
          <p:cNvSpPr/>
          <p:nvPr/>
        </p:nvSpPr>
        <p:spPr>
          <a:xfrm>
            <a:off x="4716360" y="5516640"/>
            <a:ext cx="151128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Скругленный прямоугольник 6">
            <a:hlinkClick r:id="rId4" action="ppaction://hlinksldjump"/>
          </p:cNvPr>
          <p:cNvSpPr/>
          <p:nvPr/>
        </p:nvSpPr>
        <p:spPr>
          <a:xfrm>
            <a:off x="6732720" y="5516640"/>
            <a:ext cx="151128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5. В каком предложении верно воспроизведена замена прямой речи косвенной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197000"/>
            <a:ext cx="84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Arial"/>
              </a:rPr>
              <a:t>«Иванов Петр, ты решил эту задачу?» - громко спросил учите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громко спрашивал Иванова о задач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спросил Иванова Петра, ты решил эту задач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ванова Петра учитель спросил о задач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громко спросил Иванова Петра, решил ли он задач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Скругленный прямоугольник 3">
            <a:hlinkClick r:id="rId1" action="ppaction://hlinksldjump"/>
          </p:cNvPr>
          <p:cNvSpPr/>
          <p:nvPr/>
        </p:nvSpPr>
        <p:spPr>
          <a:xfrm>
            <a:off x="2627280" y="5445000"/>
            <a:ext cx="151308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Скругленный прямоугольник 4">
            <a:hlinkClick r:id="rId2" action="ppaction://hlinksldjump"/>
          </p:cNvPr>
          <p:cNvSpPr/>
          <p:nvPr/>
        </p:nvSpPr>
        <p:spPr>
          <a:xfrm>
            <a:off x="611280" y="5445000"/>
            <a:ext cx="151272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Скругленный прямоугольник 5">
            <a:hlinkClick r:id="rId3" action="ppaction://hlinksldjump"/>
          </p:cNvPr>
          <p:cNvSpPr/>
          <p:nvPr/>
        </p:nvSpPr>
        <p:spPr>
          <a:xfrm>
            <a:off x="4572000" y="5445000"/>
            <a:ext cx="151272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Скругленный прямоугольник 6">
            <a:hlinkClick r:id="rId4" action="ppaction://hlinksldjump"/>
          </p:cNvPr>
          <p:cNvSpPr/>
          <p:nvPr/>
        </p:nvSpPr>
        <p:spPr>
          <a:xfrm>
            <a:off x="6659640" y="5445000"/>
            <a:ext cx="151272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6. В каком предложении прямая речь оформлена правильно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95280" y="1268280"/>
            <a:ext cx="85075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Много воды утекло с тех памятных событий» - с грустью добавил ветер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льчики знали здесь каждый кустик, поэтому предложили Давайте мы вам покажем секретную троп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Что бы это могло быть?» - размышлял Сергее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ибуны стадиона кричали  в едином порыве: «Гол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Скругленный прямоугольник 3">
            <a:hlinkClick r:id="rId1" action="ppaction://hlinksldjump"/>
          </p:cNvPr>
          <p:cNvSpPr/>
          <p:nvPr/>
        </p:nvSpPr>
        <p:spPr>
          <a:xfrm>
            <a:off x="539640" y="5661000"/>
            <a:ext cx="1368360" cy="8636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Скругленный прямоугольник 4">
            <a:hlinkClick r:id="rId2" action="ppaction://hlinksldjump"/>
          </p:cNvPr>
          <p:cNvSpPr/>
          <p:nvPr/>
        </p:nvSpPr>
        <p:spPr>
          <a:xfrm>
            <a:off x="4572000" y="5661000"/>
            <a:ext cx="1368360" cy="8636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Скругленный прямоугольник 5">
            <a:hlinkClick r:id="rId3" action="ppaction://hlinksldjump"/>
          </p:cNvPr>
          <p:cNvSpPr/>
          <p:nvPr/>
        </p:nvSpPr>
        <p:spPr>
          <a:xfrm>
            <a:off x="2627280" y="5661000"/>
            <a:ext cx="1368360" cy="8636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Скругленный прямоугольник 6">
            <a:hlinkClick r:id="rId4" action="ppaction://hlinksldjump"/>
          </p:cNvPr>
          <p:cNvSpPr/>
          <p:nvPr/>
        </p:nvSpPr>
        <p:spPr>
          <a:xfrm>
            <a:off x="6659640" y="5661000"/>
            <a:ext cx="1368360" cy="8636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7. Отметьте предложение с ошибкой в пунктуационном оформлении прямой речи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3280" y="1197000"/>
            <a:ext cx="8640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Много еще мешков грузить?!» – раздраженно проговорил Степаны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Надвигается шторм, надо предупредить команду и подготовить корабль» - сказал капитан старпо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.Н.Петров заявил: «Нам придется немедленно заняться расследованием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к с чувством прочитал: «Ветер! Ветер! Ты могуч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Скругленный прямоугольник 3">
            <a:hlinkClick r:id="rId1" action="ppaction://hlinksldjump"/>
          </p:cNvPr>
          <p:cNvSpPr/>
          <p:nvPr/>
        </p:nvSpPr>
        <p:spPr>
          <a:xfrm>
            <a:off x="468360" y="5516640"/>
            <a:ext cx="165564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Скругленный прямоугольник 4">
            <a:hlinkClick r:id="rId2" action="ppaction://hlinksldjump"/>
          </p:cNvPr>
          <p:cNvSpPr/>
          <p:nvPr/>
        </p:nvSpPr>
        <p:spPr>
          <a:xfrm>
            <a:off x="4859280" y="551664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Скругленный прямоугольник 5">
            <a:hlinkClick r:id="rId3" action="ppaction://hlinksldjump"/>
          </p:cNvPr>
          <p:cNvSpPr/>
          <p:nvPr/>
        </p:nvSpPr>
        <p:spPr>
          <a:xfrm>
            <a:off x="7020000" y="5516640"/>
            <a:ext cx="151272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Скругленный прямоугольник 6">
            <a:hlinkClick r:id="rId4" action="ppaction://hlinksldjump"/>
          </p:cNvPr>
          <p:cNvSpPr/>
          <p:nvPr/>
        </p:nvSpPr>
        <p:spPr>
          <a:xfrm>
            <a:off x="2700360" y="551664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8. В каком предложении с прямой речью допущена ошибка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50560" y="1341000"/>
            <a:ext cx="8713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О строительстве разве расскажешь в двух словах!» - восторженно сказал Ван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истунов реши обратиться к библиотекарю: «Помогите мне, пожалуйста, найти эту книгу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едка обиженно спросила: «А почему я должна простить тебя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Они всегда уходят в одно время», - Добавил свидете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Скругленный прямоугольник 3">
            <a:hlinkClick r:id="rId1" action="ppaction://hlinksldjump"/>
          </p:cNvPr>
          <p:cNvSpPr/>
          <p:nvPr/>
        </p:nvSpPr>
        <p:spPr>
          <a:xfrm>
            <a:off x="611280" y="5300640"/>
            <a:ext cx="1512720" cy="1008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Скругленный прямоугольник 4">
            <a:hlinkClick r:id="rId2" action="ppaction://hlinksldjump"/>
          </p:cNvPr>
          <p:cNvSpPr/>
          <p:nvPr/>
        </p:nvSpPr>
        <p:spPr>
          <a:xfrm>
            <a:off x="2700360" y="5300640"/>
            <a:ext cx="1511280" cy="1008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Скругленный прямоугольник 5">
            <a:hlinkClick r:id="rId3" action="ppaction://hlinksldjump"/>
          </p:cNvPr>
          <p:cNvSpPr/>
          <p:nvPr/>
        </p:nvSpPr>
        <p:spPr>
          <a:xfrm>
            <a:off x="4859280" y="5300640"/>
            <a:ext cx="1513080" cy="1008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Скругленный прямоугольник 6">
            <a:hlinkClick r:id="rId4" action="ppaction://hlinksldjump"/>
          </p:cNvPr>
          <p:cNvSpPr/>
          <p:nvPr/>
        </p:nvSpPr>
        <p:spPr>
          <a:xfrm>
            <a:off x="6875640" y="5300640"/>
            <a:ext cx="1512720" cy="1008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4:40:10Z</dcterms:created>
  <dc:creator>ученик</dc:creator>
  <dc:description/>
  <dc:language>en-US</dc:language>
  <cp:lastModifiedBy>Adel</cp:lastModifiedBy>
  <dcterms:modified xsi:type="dcterms:W3CDTF">2011-03-12T16:34:30Z</dcterms:modified>
  <cp:revision>114</cp:revision>
  <dc:subject/>
  <dc:title>Слайд 1</dc:title>
</cp:coreProperties>
</file>