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6CC-6030-4767-A7B7-A35249FB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AAA2-F0F2-4610-BAA0-CD9C90BD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11C-223E-4E56-B96A-D94AC0B2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1229-66A0-45D7-921A-E19C71CA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1B2A-7647-4EF2-A8FA-B2596658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694-EE3F-4C71-95B1-4A7E08A6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295C-C805-4006-AFB1-776F4194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6E70-A804-4A55-935A-C6939879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6D46-CF8B-45F6-A23F-7A537896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DDCE-25AC-474F-ADF4-1CA92050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B563-89D9-485B-9051-32DB005D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E5A-57FF-4EFD-9B77-B6854112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7E96-B70C-48C3-AAB9-25311EC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B0CA-2569-482D-A476-23B1B79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2D16-8CA4-4A64-B3AF-A9CAD28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FDB-607F-4A3C-B5E1-B186C796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3CEF-AD07-42C3-AAE3-69C419CD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DA53-AA1A-40D6-8F19-936B1C90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9A1A-9519-4C69-9C86-D278CB7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4B14-039B-401A-A574-D7F87753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FDBC-0987-4C41-804D-19FE00ED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C1135-844B-4645-9866-25915DEF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D64E-2AC7-495E-8CB0-4414109A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137A-A667-4808-AAF4-468BF55F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83A7-180A-4294-826D-BB9D529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6A6A-5D8D-45D3-A5A6-45685A10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BBC6-4AA5-4E7A-BB1D-5E98457D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0B04-C930-4FBB-B2A1-41B8B76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B4EAF-C55A-4E62-B538-8736DE2E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624ED-4BFF-4F63-A099-29530D1E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9ED8-E1EF-46E2-93B2-5125ABF5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08659-6E1B-4A69-812E-51BEE1CE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83DB-2C88-4CCD-9ED3-A42947C4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9CE-78E7-499D-823C-ABA04FEF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4A953-8CE5-4748-8683-6E0732B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57DF-A470-41FB-A1FA-B76CD536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1967-90B2-455F-B314-88FB20E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ABB3C-3A49-4507-9B80-0A69528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8170F-4DD9-438C-9809-72644640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245D3-5D79-4955-976A-AE1846D3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41CE-ECCE-4936-93D9-53A5F808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3978-DE2B-4DCF-8C92-E2EA7EEC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8EE7C-FD35-4483-B78B-905E9A8D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D81FB-A86A-4ACC-B720-45F9C7D7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3173-5DDB-4823-AF04-018AE6EE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181A-7579-45B4-9541-C0716020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C4126-A322-4374-BCE3-260F8216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7B5E-A475-45D6-B1FF-3CDDFA5D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D000-A78C-4DC6-B03D-7ACFF9B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0769A-FCA9-46D7-A047-0CB649B7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DD09D-8507-4458-AD4D-09C62BD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A547-A86F-4F6A-B696-3AC3B184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2510C-137A-41B7-BB39-D5D4D39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8137-FBDE-4C03-92AF-9530C060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E393-7F0E-48A9-A196-1C07C9F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E11-4AB7-42C1-A796-6D0DC2F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879B-70AD-455E-A054-06AE646A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EBDB-2418-4B75-855F-4F39117A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CF101-194C-4A4A-BA95-9A34A9E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E9DE-DB2D-4F34-AA1B-54561BC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E71CD-557D-4AB3-BEDF-E3EEAA77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53B0A-915B-4FC9-B77A-A577834C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B0AA9-8896-4214-99B3-F36A329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FD99-E0CF-4DFD-B5E1-12E58EF0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82F8-06D6-4FC1-826A-B4B8C6C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F0094-F7E9-404B-9483-2142983A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8F9-2E26-4C7F-9ECC-CD06E18D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517E-45A3-4930-AB0A-0D451795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D10B5-DCA3-43FF-B04D-45953FF9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DBB54-B814-4794-BDDF-46D7B572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C52-3F77-43D2-A0D9-31B58A4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4AD-A79C-4E25-AFDE-B87E68A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4E3-91B5-4496-A43B-F9469FB55CAA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4B44-6538-42D3-9D1F-04E68E677923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BF8-68F9-460C-85D4-589AF4C4DFB0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CA1-B745-42B9-A5EA-9C635BE09C89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C845-89FE-4FA8-BE84-B58503FE5DAC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0ad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60b5cc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66c7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6bb7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b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81FA-750A-46CC-B5CD-3633636605D1}" type="slidenum">
              <a:rPr b="0" lang="ru-RU" sz="1000" spc="-1" strike="noStrike">
                <a:solidFill>
                  <a:srgbClr val="9b9b9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3.xml"/><Relationship Id="rId3" Type="http://schemas.openxmlformats.org/officeDocument/2006/relationships/slide" Target="slide45.xml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2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3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39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3d53"/>
            </a:gs>
            <a:gs pos="100000">
              <a:srgbClr val="828ba3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4103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Прямая реч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ff"/>
                </a:solidFill>
                <a:latin typeface="Arial"/>
              </a:rPr>
              <a:t>Тренировочный тест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9. Укажите предложение, которое соответствует схеме </a:t>
            </a:r>
            <a:r>
              <a:rPr b="0" lang="ru-RU" sz="2800" spc="-1" strike="noStrike">
                <a:solidFill>
                  <a:srgbClr val="c00000"/>
                </a:solidFill>
                <a:latin typeface="Franklin Gothic Book"/>
              </a:rPr>
              <a:t>«П!» - а.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Знаки препинания расставлены частично)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24000" y="1483920"/>
            <a:ext cx="8291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днажды приходил ко мне этот Шурка сказал директ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жар раздался внизу отчаянный кри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же ты не едешь спросил я ямщика с нетерпение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е один раз отец говорил Жалко, что с нами нет ружь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88000" y="5445000"/>
            <a:ext cx="1584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445000"/>
            <a:ext cx="1584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380520"/>
            <a:ext cx="568944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292428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1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2364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ь недовольно сказала – «К ученью надо готовиться, а ты в лесу пропадаеш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она, речка!» - Обрадовался Васют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 все про озеро какое-то толкует», - заговорил дед Афанас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льчик снова заговорил вслух: Ладно, не робей, найдем избушку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Скругленный прямоугольник 3">
            <a:hlinkClick r:id="rId1" action="ppaction://hlinksldjump"/>
          </p:cNvPr>
          <p:cNvSpPr/>
          <p:nvPr/>
        </p:nvSpPr>
        <p:spPr>
          <a:xfrm>
            <a:off x="684360" y="5300640"/>
            <a:ext cx="143964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300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611280" y="260280"/>
            <a:ext cx="63230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6012000" y="2997360"/>
            <a:ext cx="2606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10920" y="333360"/>
            <a:ext cx="574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867280" y="30686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mic Sans MS"/>
              </a:rPr>
              <a:t>Правильно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C:\Documents and Settings\Елена\Рабочий стол\солнце23.gif"/>
          <p:cNvPicPr/>
          <p:nvPr/>
        </p:nvPicPr>
        <p:blipFill>
          <a:blip r:embed="rId2"/>
          <a:stretch/>
        </p:blipFill>
        <p:spPr>
          <a:xfrm>
            <a:off x="3657600" y="3505320"/>
            <a:ext cx="28195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39640" y="33336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2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так строят дорогу-то в тайге» - назидательно заговорил молодой инженер Промой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орь сказал: «Ну, не жалеешь, что пришел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Я в жизни ничего подобного не слыхала», - говорила Рыжух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 что это с ней?» – с тревогой подумал 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229360"/>
            <a:ext cx="165708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4">
            <a:hlinkClick r:id="rId2" action="ppaction://hlinksldjump"/>
          </p:cNvPr>
          <p:cNvSpPr/>
          <p:nvPr/>
        </p:nvSpPr>
        <p:spPr>
          <a:xfrm>
            <a:off x="277164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Скругленный прямоугольник 5">
            <a:hlinkClick r:id="rId3" action="ppaction://hlinksldjump"/>
          </p:cNvPr>
          <p:cNvSpPr/>
          <p:nvPr/>
        </p:nvSpPr>
        <p:spPr>
          <a:xfrm>
            <a:off x="4932360" y="5229360"/>
            <a:ext cx="165564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Скругленный прямоугольник 6">
            <a:hlinkClick r:id="rId4" action="ppaction://hlinksldjump"/>
          </p:cNvPr>
          <p:cNvSpPr/>
          <p:nvPr/>
        </p:nvSpPr>
        <p:spPr>
          <a:xfrm>
            <a:off x="6948360" y="5229360"/>
            <a:ext cx="1656000" cy="936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Замечательно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581280" y="3581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4" descr="C:\Documents and Settings\Елена\Рабочий стол\78d7a7c1a465121ba394082fb3417918.gif"/>
          <p:cNvPicPr/>
          <p:nvPr/>
        </p:nvPicPr>
        <p:blipFill>
          <a:blip r:embed="rId2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040" y="380520"/>
            <a:ext cx="4809960" cy="32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5940360" y="3357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Молодец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4" descr="C:\Documents and Settings\Елена\Рабочий стол\мальчик радуется.gif"/>
          <p:cNvPicPr/>
          <p:nvPr/>
        </p:nvPicPr>
        <p:blipFill>
          <a:blip r:embed="rId2"/>
          <a:stretch/>
        </p:blipFill>
        <p:spPr>
          <a:xfrm>
            <a:off x="3886200" y="36576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Управляющая кнопка: домой 8">
            <a:hlinkClick r:id="rId1" action="ppaction://hlinksldjump"/>
          </p:cNvPr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C:\Documents and Settings\Елена\Рабочий стол\мальчик задумался.gif"/>
          <p:cNvPicPr/>
          <p:nvPr/>
        </p:nvPicPr>
        <p:blipFill>
          <a:blip r:embed="rId2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971280" y="1125360"/>
            <a:ext cx="7715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Не сдавайся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omic Sans MS"/>
              </a:rPr>
              <a:t>Пробуй ещё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Управляющая кнопка: домой 3">
            <a:hlinkClick r:id="rId1" action="ppaction://hlinksldjump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4" descr="C:\Documents and Settings\Елена\Рабочий стол\мышь-силачка.wmf"/>
          <p:cNvPicPr/>
          <p:nvPr/>
        </p:nvPicPr>
        <p:blipFill>
          <a:blip r:embed="rId2"/>
          <a:stretch/>
        </p:blipFill>
        <p:spPr>
          <a:xfrm>
            <a:off x="838080" y="228600"/>
            <a:ext cx="18288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9640" y="-171720"/>
            <a:ext cx="7056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 ещё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мница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4" descr="C:\Documents and Settings\Елена\Рабочий стол\мальчик радуется.gif"/>
          <p:cNvPicPr/>
          <p:nvPr/>
        </p:nvPicPr>
        <p:blipFill>
          <a:blip r:embed="rId1"/>
          <a:stretch/>
        </p:blipFill>
        <p:spPr>
          <a:xfrm>
            <a:off x="3809880" y="3809880"/>
            <a:ext cx="2286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3. Найди предложение без ошибки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34100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авно он пришел?» – кивнул Матвей на п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рья покачала головой, «И зачем же вот каждый день бродить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бушка у нас доктор Айболит»,  восторженно сказал Во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т какой у нас  ученый кот! - живо прокомментировал Вов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Скругленный прямоугольник 3">
            <a:hlinkClick r:id="rId1" action="ppaction://hlinksldjump"/>
          </p:cNvPr>
          <p:cNvSpPr/>
          <p:nvPr/>
        </p:nvSpPr>
        <p:spPr>
          <a:xfrm>
            <a:off x="270036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Скругленный прямоугольник 4">
            <a:hlinkClick r:id="rId2" action="ppaction://hlinksldjump"/>
          </p:cNvPr>
          <p:cNvSpPr/>
          <p:nvPr/>
        </p:nvSpPr>
        <p:spPr>
          <a:xfrm>
            <a:off x="478800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Скругленный прямоугольник 5">
            <a:hlinkClick r:id="rId3" action="ppaction://hlinksldjump"/>
          </p:cNvPr>
          <p:cNvSpPr/>
          <p:nvPr/>
        </p:nvSpPr>
        <p:spPr>
          <a:xfrm>
            <a:off x="6875640" y="5084640"/>
            <a:ext cx="180000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Скругленный прямоугольник 6">
            <a:hlinkClick r:id="rId4" action="ppaction://hlinksldjump"/>
          </p:cNvPr>
          <p:cNvSpPr/>
          <p:nvPr/>
        </p:nvSpPr>
        <p:spPr>
          <a:xfrm>
            <a:off x="539640" y="508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ридётся подумать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838080" y="3808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539640" y="-3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6732720" y="4149720"/>
            <a:ext cx="20271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4920" y="549360"/>
            <a:ext cx="6769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2600" indent="-340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5796000" y="3141720"/>
            <a:ext cx="26067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4920" y="380880"/>
            <a:ext cx="8497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omic Sans MS"/>
              </a:rPr>
              <a:t>Восхитительно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Управляющая кнопка: домой 3">
            <a:hlinkClick r:id="" action="ppaction://hlinkshowjump?jump=endshow"/>
          </p:cNvPr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C:\Documents and Settings\Елена\Рабочий стол\солнце23.gif"/>
          <p:cNvPicPr/>
          <p:nvPr/>
        </p:nvPicPr>
        <p:blipFill>
          <a:blip r:embed="rId1"/>
          <a:stretch/>
        </p:blipFill>
        <p:spPr>
          <a:xfrm>
            <a:off x="3492360" y="3500280"/>
            <a:ext cx="2819520" cy="25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826920" y="404280"/>
            <a:ext cx="6539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64320" indent="-33264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omic Sans MS"/>
              </a:rPr>
              <a:t>УВЫ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64320" indent="-33264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omic Sans MS"/>
              </a:rPr>
              <a:t>Попробуй ещё!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Управляющая кнопка: домой 8"/>
          <p:cNvSpPr/>
          <p:nvPr/>
        </p:nvSpPr>
        <p:spPr>
          <a:xfrm>
            <a:off x="6858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4" descr="C:\Documents and Settings\Елена\Рабочий стол\мальчик задумался.gif"/>
          <p:cNvPicPr/>
          <p:nvPr/>
        </p:nvPicPr>
        <p:blipFill>
          <a:blip r:embed="rId1"/>
          <a:stretch/>
        </p:blipFill>
        <p:spPr>
          <a:xfrm>
            <a:off x="6588000" y="3716280"/>
            <a:ext cx="2286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144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Подумай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4" descr="C:\Documents and Settings\Елена\Рабочий стол\мышь-силачка.wmf"/>
          <p:cNvPicPr/>
          <p:nvPr/>
        </p:nvPicPr>
        <p:blipFill>
          <a:blip r:embed="rId1"/>
          <a:stretch/>
        </p:blipFill>
        <p:spPr>
          <a:xfrm>
            <a:off x="3413160" y="3457440"/>
            <a:ext cx="2606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50560" y="-243360"/>
            <a:ext cx="8893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ffff"/>
                </a:solidFill>
                <a:latin typeface="Comic Sans MS"/>
              </a:rPr>
              <a:t>Увы! Попробуй ещё!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640" indent="-279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Управляющая кнопка: домой 3"/>
          <p:cNvSpPr/>
          <p:nvPr/>
        </p:nvSpPr>
        <p:spPr>
          <a:xfrm>
            <a:off x="457200" y="563868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4" descr="C:\Documents and Settings\Елена\Рабочий стол\78d7a7c1a465121ba394082fb3417918.gif"/>
          <p:cNvPicPr/>
          <p:nvPr/>
        </p:nvPicPr>
        <p:blipFill>
          <a:blip r:embed="rId1"/>
          <a:stretch/>
        </p:blipFill>
        <p:spPr>
          <a:xfrm>
            <a:off x="395280" y="476280"/>
            <a:ext cx="194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4. Найди предложение с ошибкой в пунктуационном  оформлении прямой речи.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Это еще что за зверь?» - сердито спросила злая волшебни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усливый Лев свирепо сказал: «Хоть я и трус,  а придется мне завтра померяться силами с Гудвин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Где вы достали столько зеленого мрамора?» - спросила Эл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ый Дровосек закричал – «Приближается страшная гроза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516640"/>
            <a:ext cx="151272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">
            <a:hlinkClick r:id="rId2" action="ppaction://hlinksldjump"/>
          </p:cNvPr>
          <p:cNvSpPr/>
          <p:nvPr/>
        </p:nvSpPr>
        <p:spPr>
          <a:xfrm>
            <a:off x="2627280" y="5516640"/>
            <a:ext cx="15130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Скругленный прямоугольник 5">
            <a:hlinkClick r:id="rId3" action="ppaction://hlinksldjump"/>
          </p:cNvPr>
          <p:cNvSpPr/>
          <p:nvPr/>
        </p:nvSpPr>
        <p:spPr>
          <a:xfrm>
            <a:off x="471636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Скругленный прямоугольник 6">
            <a:hlinkClick r:id="rId4" action="ppaction://hlinksldjump"/>
          </p:cNvPr>
          <p:cNvSpPr/>
          <p:nvPr/>
        </p:nvSpPr>
        <p:spPr>
          <a:xfrm>
            <a:off x="6732720" y="5516640"/>
            <a:ext cx="1511280" cy="86508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5. В каком предложении верно воспроизведена замена прямой речи косвенной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97000"/>
            <a:ext cx="84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Arial"/>
              </a:rPr>
              <a:t>«Иванов Петр, ты решил эту задачу?» - громко спросил уч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ашивал Иванова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спросил Иванова Петра, ты решил эту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ова Петра учитель спросил о зад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громко спросил Иванова Петра, решил ли он задач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Скругленный прямоугольник 3">
            <a:hlinkClick r:id="rId1" action="ppaction://hlinksldjump"/>
          </p:cNvPr>
          <p:cNvSpPr/>
          <p:nvPr/>
        </p:nvSpPr>
        <p:spPr>
          <a:xfrm>
            <a:off x="2627280" y="5445000"/>
            <a:ext cx="151308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Скругленный прямоугольник 4">
            <a:hlinkClick r:id="rId2" action="ppaction://hlinksldjump"/>
          </p:cNvPr>
          <p:cNvSpPr/>
          <p:nvPr/>
        </p:nvSpPr>
        <p:spPr>
          <a:xfrm>
            <a:off x="61128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Скругленный прямоугольник 5">
            <a:hlinkClick r:id="rId3" action="ppaction://hlinksldjump"/>
          </p:cNvPr>
          <p:cNvSpPr/>
          <p:nvPr/>
        </p:nvSpPr>
        <p:spPr>
          <a:xfrm>
            <a:off x="457200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44500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6. В каком предложении прямая речь оформлена правильно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95280" y="1268280"/>
            <a:ext cx="8507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воды утекло с тех памятных событий» - с грустью добавил ветер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ьчики знали здесь каждый кустик, поэтому предложили Давайте мы вам покажем секретную троп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Что бы это могло быть?» - размышлял Серге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ибуны стадиона кричали  в едином порыве: «Гол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Скругленный прямоугольник 3">
            <a:hlinkClick r:id="rId1" action="ppaction://hlinksldjump"/>
          </p:cNvPr>
          <p:cNvSpPr/>
          <p:nvPr/>
        </p:nvSpPr>
        <p:spPr>
          <a:xfrm>
            <a:off x="53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Скругленный прямоугольник 4">
            <a:hlinkClick r:id="rId2" action="ppaction://hlinksldjump"/>
          </p:cNvPr>
          <p:cNvSpPr/>
          <p:nvPr/>
        </p:nvSpPr>
        <p:spPr>
          <a:xfrm>
            <a:off x="457200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Скругленный прямоугольник 5">
            <a:hlinkClick r:id="rId3" action="ppaction://hlinksldjump"/>
          </p:cNvPr>
          <p:cNvSpPr/>
          <p:nvPr/>
        </p:nvSpPr>
        <p:spPr>
          <a:xfrm>
            <a:off x="262728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Скругленный прямоугольник 6">
            <a:hlinkClick r:id="rId4" action="ppaction://hlinksldjump"/>
          </p:cNvPr>
          <p:cNvSpPr/>
          <p:nvPr/>
        </p:nvSpPr>
        <p:spPr>
          <a:xfrm>
            <a:off x="6659640" y="5661000"/>
            <a:ext cx="1368360" cy="86364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7. Отметьте предложение с ошибкой в пунктуационном оформлении прямой реч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3280" y="1197000"/>
            <a:ext cx="8640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ного еще мешков грузить?!» – раздраженно проговорил Степаны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Надвигается шторм, надо предупредить команду и подготовить корабль» - сказал капитан старп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.Н.Петров заявил: «Нам придется немедленно заняться расследование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к с чувством прочитал: «Ветер! Ветер! Ты могуч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Скругленный прямоугольник 3">
            <a:hlinkClick r:id="rId1" action="ppaction://hlinksldjump"/>
          </p:cNvPr>
          <p:cNvSpPr/>
          <p:nvPr/>
        </p:nvSpPr>
        <p:spPr>
          <a:xfrm>
            <a:off x="468360" y="5516640"/>
            <a:ext cx="165564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Скругленный прямоугольник 4">
            <a:hlinkClick r:id="rId2" action="ppaction://hlinksldjump"/>
          </p:cNvPr>
          <p:cNvSpPr/>
          <p:nvPr/>
        </p:nvSpPr>
        <p:spPr>
          <a:xfrm>
            <a:off x="485928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Скругленный прямоугольник 5">
            <a:hlinkClick r:id="rId3" action="ppaction://hlinksldjump"/>
          </p:cNvPr>
          <p:cNvSpPr/>
          <p:nvPr/>
        </p:nvSpPr>
        <p:spPr>
          <a:xfrm>
            <a:off x="7020000" y="5516640"/>
            <a:ext cx="151272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Скругленный прямоугольник 6">
            <a:hlinkClick r:id="rId4" action="ppaction://hlinksldjump"/>
          </p:cNvPr>
          <p:cNvSpPr/>
          <p:nvPr/>
        </p:nvSpPr>
        <p:spPr>
          <a:xfrm>
            <a:off x="2700360" y="551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Franklin Gothic Book"/>
              </a:rPr>
              <a:t>8. В каком предложении с прямой речью допущена ошибка?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 строительстве разве расскажешь в двух словах!» - восторженно сказал Ва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истунов реши обратиться к библиотекарю: «Помогите мне, пожалуйста, найти эту книгу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ка обиженно спросила: «А почему я должна простить тебя?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00"/>
              </a:spcBef>
              <a:buClr>
                <a:srgbClr val="f0ad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Они всегда уходят в одно время», - Добавил свиде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Скругленный прямоугольник 3">
            <a:hlinkClick r:id="rId1" action="ppaction://hlinksldjump"/>
          </p:cNvPr>
          <p:cNvSpPr/>
          <p:nvPr/>
        </p:nvSpPr>
        <p:spPr>
          <a:xfrm>
            <a:off x="61128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4">
            <a:hlinkClick r:id="rId2" action="ppaction://hlinksldjump"/>
          </p:cNvPr>
          <p:cNvSpPr/>
          <p:nvPr/>
        </p:nvSpPr>
        <p:spPr>
          <a:xfrm>
            <a:off x="2700360" y="5300640"/>
            <a:ext cx="15112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5">
            <a:hlinkClick r:id="rId3" action="ppaction://hlinksldjump"/>
          </p:cNvPr>
          <p:cNvSpPr/>
          <p:nvPr/>
        </p:nvSpPr>
        <p:spPr>
          <a:xfrm>
            <a:off x="4859280" y="5300640"/>
            <a:ext cx="151308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Скругленный прямоугольник 6">
            <a:hlinkClick r:id="rId4" action="ppaction://hlinksldjump"/>
          </p:cNvPr>
          <p:cNvSpPr/>
          <p:nvPr/>
        </p:nvSpPr>
        <p:spPr>
          <a:xfrm>
            <a:off x="6875640" y="5300640"/>
            <a:ext cx="1512720" cy="1008000"/>
          </a:xfrm>
          <a:prstGeom prst="roundRect">
            <a:avLst>
              <a:gd name="adj" fmla="val 16667"/>
            </a:avLst>
          </a:prstGeom>
          <a:solidFill>
            <a:srgbClr val="f0ad00"/>
          </a:solidFill>
          <a:ln w="190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04:40:10Z</dcterms:created>
  <dc:creator>ученик</dc:creator>
  <dc:description/>
  <dc:language>en-US</dc:language>
  <cp:lastModifiedBy>Adel</cp:lastModifiedBy>
  <dcterms:modified xsi:type="dcterms:W3CDTF">2011-03-12T16:34:30Z</dcterms:modified>
  <cp:revision>114</cp:revision>
  <dc:subject/>
  <dc:title>Слайд 1</dc:title>
</cp:coreProperties>
</file>