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BA2C-6FFE-41CA-BC03-077458C1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9E0E-F82A-4BC0-B66F-35EA4EA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FF5-EC32-4E7E-AD31-15FA0F31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368-A8C7-4535-A160-4D8323A2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4DF7-AC10-4A08-AE73-42E15944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9C72-19CA-42E8-BDAB-B8EC1017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F032-CD3A-4282-8864-9C57CA6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238-5316-454D-8527-764F3C9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8DBE-4C33-4BC2-A2F8-B0174D1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D766-1C70-49D5-A385-B8F5D9F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73F0-A660-4ADD-8743-F377802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7E7-6273-4F81-A78B-CA04AC28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355-EB7B-478D-AA03-01F2AFA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8C03-F3A5-4A16-9278-EE8A22EF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AD9-7464-488E-8A49-10BBDBDC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D9A9-EDFF-414F-B522-48993A8A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1010-3F15-4D6D-928A-1099351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59D7-3C9D-4C59-889E-A55363DB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D8EA-31AB-499C-97F3-A562621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D741-7AB4-479A-9FE8-A975B8A9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42906-1658-416D-9AC8-0E225B3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F3F2-197A-4927-94C2-3CFD1510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8F4-9811-4A5B-855C-3391DDB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E4EA-1D41-44A0-8E84-CCA9A72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2A41-272C-4BBC-A353-EFB84BB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FB8AC-43B4-4EF8-97D6-42596D9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6EF8-67FD-4B5A-A4D5-DC9A6EB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BDE10-9050-4FC9-8758-CC2394B0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21E3-F23F-4265-A0D2-C5B72212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64C3-2208-43EB-846A-9FC317FB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4602-FDF2-48C0-9EF5-E2856C2B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BBD3A-C095-4B4E-BA56-76295381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70DB-8B70-436B-B798-D5AF8575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54E-9833-4023-A1AB-60B5B481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ABED-5EB3-4660-817D-DF323F7E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3C01-11C2-4CDB-912F-A0C22045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D4253-C1B0-4C08-A587-3EB18FAE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1D115-684E-4D0A-B328-AF10C40C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7DEF-04C9-4CD9-ADFC-37CE2BA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3E1C-B21C-4500-9D53-7325F8BF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18D16-60C5-4EA4-9284-8F310014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E959-2785-407B-9D8F-4F75591D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D154-2BE8-4456-8E63-2D306EDA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3F80B-4115-45A3-BFB3-0E1F931A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667-1FA1-4F93-9784-33FF95B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2A1B-6173-410A-B2FE-9EDBBC50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023EE-51D9-49F3-870B-D12EBD8D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3A60D-E103-4CBA-B30B-2D816A43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55BD-60FC-4B70-AD71-C1C022E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1658-6432-4E2C-B856-A09A061E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D1467-4712-48B8-8409-E9BA9EBC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CCC8-7148-4B5C-997C-460EDD8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45E85-17B1-4340-B8B3-387B3E48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0500D-EC4F-4F32-9A96-B90E44F9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4BE5-2825-4BD4-9747-B84E2264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9F4D-06B6-4CF5-B664-474563B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E0F3-A980-40B6-9F2A-B2E5C173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232A2-FDF8-464B-8CC7-31115A89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FFAC-FEA8-43C6-8138-E9379A4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49850-F9A8-4916-AB49-F8C58C8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CD66-D038-4746-90CF-7171F866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4BDE-7D26-480B-82EE-396DC590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E57D7-54D5-4F87-A332-3058E1C5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3356A-108E-4049-BE6A-822C21DA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8AAB-1C02-4AF3-972A-243A648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1578-B373-422D-A9CF-42857E63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69A-A985-4957-A35E-8B1187F7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2980-DCE9-4F47-A055-47932CE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80B58-B5BC-404E-8F05-6988300F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3C288-EB07-49E5-B088-8B062AD8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D22-E1E7-41C0-B5C6-D571D1F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BE4-FDA3-423B-A1C0-4D113D4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898-6F09-4F5B-BBBF-D1EDEF34125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C24-42CE-4E5A-BFA1-4279A1E0930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68EE-E9F1-4E17-8509-56CC16EA792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A4F4-08F3-4843-BD61-DF259E41922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FDDE-62AA-4EA9-A674-B0DB79AE29E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D4B1-AA96-4F80-BC61-8CCC981AEC42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Материал к уроку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Учитывая смысл данных ниже слов автора, придумайте прямую речь, вставьте ее на месте пропуска и запишите получившиеся предложения с прямой речью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робко проговорил мальч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?» - тихо спросила 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– шепотом ответила ма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!» - громко крикнул брат и отворил две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взволнованно сказала бабу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_ _», - уверенно произнес д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место предложений с прямой речью запишите сложные предложения с союзом </a:t>
            </a:r>
            <a:r>
              <a:rPr b="1" lang="ru-RU" sz="2800" spc="-1" strike="noStrike">
                <a:solidFill>
                  <a:srgbClr val="672020"/>
                </a:solidFill>
                <a:latin typeface="Franklin Gothic Book"/>
              </a:rPr>
              <a:t>что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разе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: «В первый четверг октября к нам в гости приедут артисты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итя сообщил, </a:t>
            </a:r>
            <a:r>
              <a:rPr b="0" lang="ru-RU" sz="3600" spc="-1" strike="noStrike">
                <a:solidFill>
                  <a:srgbClr val="672020"/>
                </a:solidFill>
                <a:latin typeface="Arial"/>
              </a:rPr>
              <a:t>чт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ервый четверг октября к ним приедут артист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475920"/>
            <a:ext cx="8147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ассный руководитель объявил нам: «В понедельник будет общешкольное собрани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роста сказал: «Смотр художественной самодеятельности состоится в следующую сред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па писал: «Я вернусь из командировки не раньше воскресень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жатая предупредила нас: «Сбор макулатуры назначается на вторник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текст. Озаглавьте его, затем спишите, расставляя знак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052280"/>
            <a:ext cx="896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обеда папа сел за какую-то книгу, но потом отложил ее в сторону и спросил Вася, как дела в школе. Изо всех сил Вася старался скрыть радостную улыбку. Он подал тетрадь и произнес Вчера был диктант. Вот, вернули с отметками. Отец перелистал несколько страниц и увидел пятерку.  И как же ты ошибок не наделал спросил папа. Со мной Нина сидит, а она, знаешь, как пишет похвастался Вася.  Вот оно что протянул отец. А потом добавил Значит, ты сегодня не свою, а чужую пятерку принес. Лицо у Васи стало растерянным и жалким, улыбки как не быва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Рос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спомним основные схемы предложений с прямой речью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11280" y="1397160"/>
          <a:ext cx="7921440" cy="50036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П!»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: «П!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?» –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?»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54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П», - а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: «П».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257" name="Управляющая кнопка: домой 4">
            <a:hlinkClick r:id="rId1" action="ppaction://hlinksldjump"/>
          </p:cNvPr>
          <p:cNvSpPr/>
          <p:nvPr/>
        </p:nvSpPr>
        <p:spPr>
          <a:xfrm>
            <a:off x="8028000" y="6093000"/>
            <a:ext cx="863640" cy="54900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33971" h="21600">
                <a:moveTo>
                  <a:pt x="0" y="0"/>
                </a:moveTo>
                <a:lnTo>
                  <a:pt x="33971" y="0"/>
                </a:lnTo>
                <a:lnTo>
                  <a:pt x="33971" y="21600"/>
                </a:lnTo>
                <a:lnTo>
                  <a:pt x="0" y="21600"/>
                </a:lnTo>
                <a:close/>
              </a:path>
              <a:path fill="lightenLess" w="33971" h="21600">
                <a:moveTo>
                  <a:pt x="0" y="0"/>
                </a:moveTo>
                <a:lnTo>
                  <a:pt x="33971" y="0"/>
                </a:lnTo>
                <a:lnTo>
                  <a:pt x="32571" y="1400"/>
                </a:lnTo>
                <a:lnTo>
                  <a:pt x="1400" y="1400"/>
                </a:lnTo>
                <a:close/>
              </a:path>
              <a:path fill="darken" w="33971" h="21600">
                <a:moveTo>
                  <a:pt x="33971" y="0"/>
                </a:moveTo>
                <a:lnTo>
                  <a:pt x="33971" y="21600"/>
                </a:lnTo>
                <a:lnTo>
                  <a:pt x="32571" y="20200"/>
                </a:lnTo>
                <a:lnTo>
                  <a:pt x="32571" y="1400"/>
                </a:lnTo>
                <a:close/>
              </a:path>
              <a:path fill="darkenLess" w="33971" h="21600">
                <a:moveTo>
                  <a:pt x="33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1" y="20200"/>
                </a:lnTo>
                <a:close/>
              </a:path>
              <a:path fill="lighten" w="33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71" h="21600">
                <a:moveTo>
                  <a:pt x="16986" y="3837"/>
                </a:moveTo>
                <a:lnTo>
                  <a:pt x="19562" y="6448"/>
                </a:ln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lnTo>
                  <a:pt x="23949" y="10800"/>
                </a:lnTo>
                <a:lnTo>
                  <a:pt x="22295" y="10800"/>
                </a:lnTo>
                <a:lnTo>
                  <a:pt x="22295" y="17989"/>
                </a:lnTo>
                <a:lnTo>
                  <a:pt x="11676" y="17989"/>
                </a:lnTo>
                <a:lnTo>
                  <a:pt x="11676" y="10800"/>
                </a:lnTo>
                <a:lnTo>
                  <a:pt x="10023" y="10800"/>
                </a:lnTo>
                <a:close/>
              </a:path>
              <a:path fill="darkenLess" w="33971" h="21600">
                <a:moveTo>
                  <a:pt x="19562" y="6448"/>
                </a:moveTo>
                <a:lnTo>
                  <a:pt x="19562" y="4707"/>
                </a:lnTo>
                <a:lnTo>
                  <a:pt x="21337" y="4707"/>
                </a:lnTo>
                <a:lnTo>
                  <a:pt x="21337" y="8224"/>
                </a:lnTo>
                <a:close/>
              </a:path>
              <a:path fill="darkenLess" w="33971" h="21600">
                <a:moveTo>
                  <a:pt x="16063" y="14299"/>
                </a:moveTo>
                <a:lnTo>
                  <a:pt x="17908" y="14299"/>
                </a:lnTo>
                <a:lnTo>
                  <a:pt x="17908" y="17989"/>
                </a:lnTo>
                <a:lnTo>
                  <a:pt x="22295" y="17989"/>
                </a:lnTo>
                <a:lnTo>
                  <a:pt x="22295" y="10800"/>
                </a:lnTo>
                <a:lnTo>
                  <a:pt x="11676" y="10800"/>
                </a:lnTo>
                <a:lnTo>
                  <a:pt x="11676" y="17989"/>
                </a:lnTo>
                <a:lnTo>
                  <a:pt x="16063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очитайте предложения из книг Э.Успенского. Составьте их схемы. Объясните постановку знаков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ам, наверное, нужны друзья?» - спросил обезьянку Крокоди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 вашем объявлении целых три ошибки», - сказала девоч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 может быть!» - воскликнул Ген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ушка уселась на стул и спросила: «Кто из вас будет Крокоди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6407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Как называются выделенные слова? Объясните постановку знаков препинания при них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628280"/>
            <a:ext cx="80647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просил: «Можете ли вы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уважаемый людое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превратиться в зверька поменьше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оед ответил: «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Конеч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могу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 в сапогах сказал: «Тогда превратитесь, </a:t>
            </a:r>
            <a:r>
              <a:rPr b="0" lang="ru-RU" sz="3200" spc="-1" strike="noStrike">
                <a:solidFill>
                  <a:srgbClr val="901929"/>
                </a:solidFill>
                <a:latin typeface="Arial"/>
              </a:rPr>
              <a:t>пожалуйст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мышь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Заголовок 1"/>
          <p:cNvSpPr/>
          <p:nvPr/>
        </p:nvSpPr>
        <p:spPr>
          <a:xfrm>
            <a:off x="324000" y="404640"/>
            <a:ext cx="864072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предшествовала словам авто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Переделайте предложения так, чтобы прямая речь следовала за словами автора.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39640" y="191628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Где же река?» – спросил я у Са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Вон там за лесом», - ответил он, указывая рукой вдал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Как далеко!» - огорчился 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В словах автора выделены глаголы. При списывании подчеркните тот глагол, который вводит прямую речь в высказывание. Поставьте пропущенны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1413000"/>
            <a:ext cx="864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едя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..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на обл..ка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каза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Гроза буд..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н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отв..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Машу в стор..ну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оси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А разве Саша Коншаков не р..ботает с вами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ш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дб..жала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к дедушке и ро..ко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спр..сил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душка а когда же землю начнем к..пать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анька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осмотрел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 поле и </a:t>
            </a:r>
            <a:r>
              <a:rPr b="0" lang="ru-RU" sz="3000" spc="-1" strike="noStrike">
                <a:solidFill>
                  <a:srgbClr val="901929"/>
                </a:solidFill>
                <a:latin typeface="Arial"/>
              </a:rPr>
              <a:t>произнес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Весна-то какая Маш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133200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д обращением поставьте букву 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Franklin Gothic Book"/>
              </a:rPr>
              <a:t>Миша Лентяйкин пришел в школу довольный. «Вот какой рассказ я написал!» - похвастался он. Давайте прочтем его вместе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05228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апа спросил у Васи: «Сегодня мы пойдем в музей». Вася обрадовался и ответил: «А в какой?» «В исторический», - громко закричал папа. «Ура! – поинтересовался Вася. – Я никогда там не был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завтракав, они поехали в музей. «Что мы там увидим?» - рассказал Вася папе. «Многое, - задал вопрос отец. – Увидим, как жили люди в древности, какие носили наряды, какое у них было оружие. Увидишь сам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Управляющая кнопка: далее 3">
            <a:hlinkClick r:id="rId1" action="ppaction://hlinksldjump"/>
          </p:cNvPr>
          <p:cNvSpPr/>
          <p:nvPr/>
        </p:nvSpPr>
        <p:spPr>
          <a:xfrm>
            <a:off x="788508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94920" y="549360"/>
            <a:ext cx="8280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ажется ли вам Мишин текст смешным? Почем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осмотрел на рассказ его приятель Дима Пятеркин, покачал головой и стал исправлять. Запишите и вы Мишин рассказ в исправленном виде.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3276720" y="5589720"/>
            <a:ext cx="1224000" cy="647640"/>
          </a:xfrm>
          <a:custGeom>
            <a:avLst/>
            <a:gdLst>
              <a:gd name="textAreaLeft" fmla="*/ 41760 w 1224000"/>
              <a:gd name="textAreaRight" fmla="*/ 1182240 w 1224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12" h="21600">
                <a:moveTo>
                  <a:pt x="0" y="0"/>
                </a:moveTo>
                <a:lnTo>
                  <a:pt x="40812" y="0"/>
                </a:lnTo>
                <a:lnTo>
                  <a:pt x="40812" y="21600"/>
                </a:lnTo>
                <a:lnTo>
                  <a:pt x="0" y="21600"/>
                </a:lnTo>
                <a:close/>
              </a:path>
              <a:path fill="lightenLess" w="40812" h="21600">
                <a:moveTo>
                  <a:pt x="0" y="0"/>
                </a:moveTo>
                <a:lnTo>
                  <a:pt x="40812" y="0"/>
                </a:lnTo>
                <a:lnTo>
                  <a:pt x="39412" y="1400"/>
                </a:lnTo>
                <a:lnTo>
                  <a:pt x="1400" y="1400"/>
                </a:lnTo>
                <a:close/>
              </a:path>
              <a:path fill="darken" w="40812" h="21600">
                <a:moveTo>
                  <a:pt x="40812" y="0"/>
                </a:moveTo>
                <a:lnTo>
                  <a:pt x="40812" y="21600"/>
                </a:lnTo>
                <a:lnTo>
                  <a:pt x="39412" y="20200"/>
                </a:lnTo>
                <a:lnTo>
                  <a:pt x="39412" y="1400"/>
                </a:lnTo>
                <a:close/>
              </a:path>
              <a:path fill="darkenLess" w="40812" h="21600">
                <a:moveTo>
                  <a:pt x="40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12" y="20200"/>
                </a:lnTo>
                <a:close/>
              </a:path>
              <a:path fill="lighten" w="40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12" h="21600">
                <a:moveTo>
                  <a:pt x="13400" y="10800"/>
                </a:moveTo>
                <a:lnTo>
                  <a:pt x="27412" y="3794"/>
                </a:lnTo>
                <a:lnTo>
                  <a:pt x="274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4572000" y="5732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титься к тек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Придумайте прямую речь и вставьте ее на месте пропуска. Запишите получившиеся предложения с прямой речью, расставьте знаки препина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читель спрос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ректор говорил 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жатый сказал 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ежурный рассказал 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жий обратился с вопросом к ребятам _______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альчик воскликнул 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ароста объявил __________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5200" indent="-35172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андир группы скомандовал _____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Управляющая кнопка: в начало 3">
            <a:hlinkClick r:id="rId1" action="ppaction://hlinksldjump"/>
          </p:cNvPr>
          <p:cNvSpPr/>
          <p:nvPr/>
        </p:nvSpPr>
        <p:spPr>
          <a:xfrm>
            <a:off x="7667640" y="6021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438" h="21600">
                <a:moveTo>
                  <a:pt x="21220" y="10800"/>
                </a:moveTo>
                <a:lnTo>
                  <a:pt x="31725" y="3794"/>
                </a:lnTo>
                <a:lnTo>
                  <a:pt x="31725" y="17806"/>
                </a:lnTo>
                <a:close/>
              </a:path>
              <a:path fill="darken" w="49438" h="21600">
                <a:moveTo>
                  <a:pt x="17712" y="3794"/>
                </a:moveTo>
                <a:lnTo>
                  <a:pt x="19375" y="3794"/>
                </a:lnTo>
                <a:lnTo>
                  <a:pt x="19375" y="17806"/>
                </a:lnTo>
                <a:lnTo>
                  <a:pt x="17712" y="17806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3:57Z</dcterms:modified>
  <cp:revision>80</cp:revision>
  <dc:subject/>
  <dc:title>Слайд 1</dc:title>
</cp:coreProperties>
</file>