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E6E-3738-437D-965E-B9F2EDD2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693-441D-4BEA-AF7C-03195DBA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10E8-D104-4A5A-A069-EF218593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F01-5B59-4939-B0E1-5AC80B66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3026-2F30-4E41-A969-0CFA88B2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7211-D8F6-43CE-8D48-E6EC7D1F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3BD9-D656-47A1-8448-E8F4BB3C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FFF5-ADE8-4C6C-854C-E2CFA19E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3410-B6AA-4E9A-BA87-E8AFB0DD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A34C-1422-469D-AC7E-A4DCD336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5080-1AB8-4E8D-8B86-B0815394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91F-9A54-4778-8A71-D7D9B13A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6E54-CF23-4EF6-AABD-10A11D6F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2E7B-4BDB-479F-A141-3550CB1E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FC28-DDE6-47F4-985E-653EFF18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4E2E-B926-4EDC-B69D-A77E1ECF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BE6A-7313-4B9F-AB7D-E9FEE09B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AD4A-C365-4261-B3B0-016FB615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28BA-780A-49EA-99F9-F2E1242E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687CB-D7B1-4536-9CCC-089EDB56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77998-F058-43EE-9DBA-7B732B65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0FB7-DBBF-4BA3-ACBE-8BA2FC94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5E4-6A36-4CC6-B3A3-8D81B209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C162-3133-4CBB-A098-405FADF9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9686-7B8C-4243-A94A-A1ECCDB6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C972-5A62-4C58-A21F-D2B0DA6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8E3D-EC84-4718-91FC-E6CF6AD6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9644-A73F-4913-B2F7-58BBDF20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CB128-5738-4296-9EB9-8FF817E3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F4E42-CBB4-4DA4-9A27-7B8A1B47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0A6F3-AD3A-410A-A97E-A26A8529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78D0E-6E27-4547-BA96-F0F8A1A1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A463B-39F1-47B6-8EE7-14CD0465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EB3-3DD2-4093-9A63-4EE918B0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C8354-D3BB-4D88-9F05-5D8E3A2F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B708-9E25-456D-BBE5-B5553D18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02D20-6062-45D0-8046-9F271696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5282-AD91-492F-B4C0-5F7400AC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9E1A3-858D-42FF-95D8-7469E11A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D7B9-202E-4B27-BC66-C1EF7371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2E892-275E-4476-B282-EAAD1F44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0BD85-E37D-4204-A08F-B8B5F1DD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87C36-B8BB-4C36-8A46-674A5D50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BB6B3-F463-403B-862B-0695D57C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AEE-CB51-4614-A190-AB4546E2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763C4-7097-4D72-9E87-C7684DAF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B579E-5505-44AF-9B28-ACAF0E7A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5FA72-147A-442D-BD32-D80A9312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BE9BE-5AB3-4CA6-9028-776D6CB1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06A46-2CE7-4F7A-824B-8D62AD5A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423DA-0F4A-45DC-8FD2-67A9196C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3D7C3-5F6A-40B1-99F2-F96C9336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B3C22-0CC3-4140-856E-1F633270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2AC6D-D33C-4B68-A339-01E81F66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B4305-1AF5-4C37-884F-C4C71A17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345-69C1-4EF3-A255-40F58F94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9ECF6-3436-47FD-92B2-B71833F1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CA41D-C4E5-4C06-803A-F8347E3C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637F3-CE22-472B-9325-1B18237B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AB6D1-CA47-47FC-B344-938174B5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69592-A99C-4D1C-BCA5-934B2B13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08DB7-58FB-43E0-A6CC-6A94F201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350FB-D1A8-4080-A6F1-4414186B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A663D-56D9-4FB7-88FB-5ACA567A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90405-8EA8-443E-83D1-BFE996B6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3E628-71D3-48F5-B73A-0666E348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F6F-D900-4897-B63E-C2041F6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E9969-4D11-4248-BA04-A3F582DA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12747-B5E8-4C9C-A5C9-1935025C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942B5-40E6-4735-819F-E03EA6EB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B8E-A79B-4A04-B4FE-8B941C40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D43-9F72-47F3-984F-695659D7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833B-E7F7-4F56-952B-AB4AABCDF912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BFC0-599A-4227-B431-9C030134141D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3ECE-4DA5-4394-BA5C-0A0EC1760E23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BED4-863C-4837-A234-17C9A766AFAA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C288-90B5-4BE8-95AB-7AAD09891056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B002-76A5-4DA2-A8B5-CF512CF010B5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3.xml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30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Тренировочный тест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9. Укажите предложение, которое соответствует схеме 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«П!» - а.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Знаки препинания расставлены частично)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24000" y="1483920"/>
            <a:ext cx="8291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ажды приходил ко мне этот Шурка сказал директо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жар раздался внизу отчаянный кр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же ты не едешь спросил я ямщика с нетерпение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один раз отец говорил Жалко, что с нами нет ружь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Скругленный прямоугольник 4">
            <a:hlinkClick r:id="rId2" action="ppaction://hlinksldjump"/>
          </p:cNvPr>
          <p:cNvSpPr/>
          <p:nvPr/>
        </p:nvSpPr>
        <p:spPr>
          <a:xfrm>
            <a:off x="277164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Скругленный прямоугольник 5">
            <a:hlinkClick r:id="rId3" action="ppaction://hlinksldjump"/>
          </p:cNvPr>
          <p:cNvSpPr/>
          <p:nvPr/>
        </p:nvSpPr>
        <p:spPr>
          <a:xfrm>
            <a:off x="478800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Скругленный прямоугольник 6">
            <a:hlinkClick r:id="rId4" action="ppaction://hlinksldjump"/>
          </p:cNvPr>
          <p:cNvSpPr/>
          <p:nvPr/>
        </p:nvSpPr>
        <p:spPr>
          <a:xfrm>
            <a:off x="6875640" y="5445000"/>
            <a:ext cx="1584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11280" y="380520"/>
            <a:ext cx="568944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940360" y="292428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1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364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ь недовольно сказала – «К ученью надо готовиться, а ты в лесу пропадаеш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она, речка!» - Обрадовался Васют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н все про озеро какое-то толкует», - заговорил дед Афанас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альчик снова заговорил вслух: Ладно, не робей, найдем избушку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Скругленный прямоугольник 3">
            <a:hlinkClick r:id="rId1" action="ppaction://hlinksldjump"/>
          </p:cNvPr>
          <p:cNvSpPr/>
          <p:nvPr/>
        </p:nvSpPr>
        <p:spPr>
          <a:xfrm>
            <a:off x="684360" y="5300640"/>
            <a:ext cx="143964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4">
            <a:hlinkClick r:id="rId2" action="ppaction://hlinksldjump"/>
          </p:cNvPr>
          <p:cNvSpPr/>
          <p:nvPr/>
        </p:nvSpPr>
        <p:spPr>
          <a:xfrm>
            <a:off x="262728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Скругленный прямоугольник 5">
            <a:hlinkClick r:id="rId3" action="ppaction://hlinksldjump"/>
          </p:cNvPr>
          <p:cNvSpPr/>
          <p:nvPr/>
        </p:nvSpPr>
        <p:spPr>
          <a:xfrm>
            <a:off x="471636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Скругленный прямоугольник 6">
            <a:hlinkClick r:id="rId4" action="ppaction://hlinksldjump"/>
          </p:cNvPr>
          <p:cNvSpPr/>
          <p:nvPr/>
        </p:nvSpPr>
        <p:spPr>
          <a:xfrm>
            <a:off x="694836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11280" y="260280"/>
            <a:ext cx="63230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6012000" y="2997360"/>
            <a:ext cx="26064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10920" y="333360"/>
            <a:ext cx="5746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867280" y="3068640"/>
            <a:ext cx="2606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Правильно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4" descr="C:\Documents and Settings\Елена\Рабочий стол\солнце23.gif"/>
          <p:cNvPicPr/>
          <p:nvPr/>
        </p:nvPicPr>
        <p:blipFill>
          <a:blip r:embed="rId2"/>
          <a:stretch/>
        </p:blipFill>
        <p:spPr>
          <a:xfrm>
            <a:off x="3657600" y="3505320"/>
            <a:ext cx="28195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71280" y="1125360"/>
            <a:ext cx="7715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Не сдавайся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Пробуй ещё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39640" y="333360"/>
            <a:ext cx="1828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2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так строят дорогу-то в тайге» - назидательно заговорил молодой инженер Промой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орь сказал: «Ну, не жалеешь, что пришел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Я в жизни ничего подобного не слыхала», - говорила Рыжу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 что это с ней?» – с тревогой подумал 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229360"/>
            <a:ext cx="165708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кругленный прямоугольник 4">
            <a:hlinkClick r:id="rId2" action="ppaction://hlinksldjump"/>
          </p:cNvPr>
          <p:cNvSpPr/>
          <p:nvPr/>
        </p:nvSpPr>
        <p:spPr>
          <a:xfrm>
            <a:off x="2771640" y="5229360"/>
            <a:ext cx="165600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Скругленный прямоугольник 5">
            <a:hlinkClick r:id="rId3" action="ppaction://hlinksldjump"/>
          </p:cNvPr>
          <p:cNvSpPr/>
          <p:nvPr/>
        </p:nvSpPr>
        <p:spPr>
          <a:xfrm>
            <a:off x="4932360" y="522936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Скругленный прямоугольник 6">
            <a:hlinkClick r:id="rId4" action="ppaction://hlinksldjump"/>
          </p:cNvPr>
          <p:cNvSpPr/>
          <p:nvPr/>
        </p:nvSpPr>
        <p:spPr>
          <a:xfrm>
            <a:off x="6948360" y="5229360"/>
            <a:ext cx="165600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6858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Замечательно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581280" y="3581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39640" y="-360"/>
            <a:ext cx="8064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040" y="380520"/>
            <a:ext cx="4809960" cy="32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940360" y="335772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971280" y="1125360"/>
            <a:ext cx="7715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Не сдавайся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Пробуй ещё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838080" y="228600"/>
            <a:ext cx="1828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3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вно он пришел?» – кивнул Матвей на п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ья покачала головой, «И зачем же вот каждый день бродить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бушка у нас доктор Айболит»,  восторженно сказал Вов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какой у нас  ученый кот! - живо прокомментировал Вов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Скругленный прямоугольник 3">
            <a:hlinkClick r:id="rId1" action="ppaction://hlinksldjump"/>
          </p:cNvPr>
          <p:cNvSpPr/>
          <p:nvPr/>
        </p:nvSpPr>
        <p:spPr>
          <a:xfrm>
            <a:off x="2700360" y="5084640"/>
            <a:ext cx="1800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Скругленный прямоугольник 4">
            <a:hlinkClick r:id="rId2" action="ppaction://hlinksldjump"/>
          </p:cNvPr>
          <p:cNvSpPr/>
          <p:nvPr/>
        </p:nvSpPr>
        <p:spPr>
          <a:xfrm>
            <a:off x="4788000" y="5084640"/>
            <a:ext cx="1800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Скругленный прямоугольник 5">
            <a:hlinkClick r:id="rId3" action="ppaction://hlinksldjump"/>
          </p:cNvPr>
          <p:cNvSpPr/>
          <p:nvPr/>
        </p:nvSpPr>
        <p:spPr>
          <a:xfrm>
            <a:off x="6875640" y="5084640"/>
            <a:ext cx="1800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Скругленный прямоугольник 6">
            <a:hlinkClick r:id="rId4" action="ppaction://hlinksldjump"/>
          </p:cNvPr>
          <p:cNvSpPr/>
          <p:nvPr/>
        </p:nvSpPr>
        <p:spPr>
          <a:xfrm>
            <a:off x="539640" y="5084640"/>
            <a:ext cx="1800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Управляющая кнопка: домой 8"/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C:\Documents and Settings\Елена\Рабочий стол\мальчик задумался.gif"/>
          <p:cNvPicPr/>
          <p:nvPr/>
        </p:nvPicPr>
        <p:blipFill>
          <a:blip r:embed="rId1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39640" y="-360"/>
            <a:ext cx="8064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4920" y="549360"/>
            <a:ext cx="6769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2600" indent="-340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4" descr="C:\Documents and Settings\Елена\Рабочий стол\мышь-силачка.wmf"/>
          <p:cNvPicPr/>
          <p:nvPr/>
        </p:nvPicPr>
        <p:blipFill>
          <a:blip r:embed="rId1"/>
          <a:stretch/>
        </p:blipFill>
        <p:spPr>
          <a:xfrm>
            <a:off x="5796000" y="314172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94920" y="380880"/>
            <a:ext cx="8497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Восхитительно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Управляющая кнопка: домой 3">
            <a:hlinkClick r:id="" action="ppaction://hlinkshowjump?jump=endshow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4" descr="C:\Documents and Settings\Елена\Рабочий стол\солнце23.gif"/>
          <p:cNvPicPr/>
          <p:nvPr/>
        </p:nvPicPr>
        <p:blipFill>
          <a:blip r:embed="rId1"/>
          <a:stretch/>
        </p:blipFill>
        <p:spPr>
          <a:xfrm>
            <a:off x="3492360" y="3500280"/>
            <a:ext cx="281952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Управляющая кнопка: домой 8"/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4" descr="C:\Documents and Settings\Елена\Рабочий стол\мальчик задумался.gif"/>
          <p:cNvPicPr/>
          <p:nvPr/>
        </p:nvPicPr>
        <p:blipFill>
          <a:blip r:embed="rId1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C:\Documents and Settings\Елена\Рабочий стол\мышь-силачка.wmf"/>
          <p:cNvPicPr/>
          <p:nvPr/>
        </p:nvPicPr>
        <p:blipFill>
          <a:blip r:embed="rId1"/>
          <a:stretch/>
        </p:blipFill>
        <p:spPr>
          <a:xfrm>
            <a:off x="3413160" y="3457440"/>
            <a:ext cx="2606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560" y="-243360"/>
            <a:ext cx="8893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05640" indent="-279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вы! 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395280" y="476280"/>
            <a:ext cx="1946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4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Это еще что за зверь?» - сердито спросила злая волшебн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сливый Лев свирепо сказал: «Хоть я и трус,  а придется мне завтра померяться силами с Гудвино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де вы достали столько зеленого мрамора?» - спросила Эл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езный Дровосек закричал – «Приближается страшная гроза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516640"/>
            <a:ext cx="151272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кругленный прямоугольник 4">
            <a:hlinkClick r:id="rId2" action="ppaction://hlinksldjump"/>
          </p:cNvPr>
          <p:cNvSpPr/>
          <p:nvPr/>
        </p:nvSpPr>
        <p:spPr>
          <a:xfrm>
            <a:off x="2627280" y="5516640"/>
            <a:ext cx="15130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Скругленный прямоугольник 5">
            <a:hlinkClick r:id="rId3" action="ppaction://hlinksldjump"/>
          </p:cNvPr>
          <p:cNvSpPr/>
          <p:nvPr/>
        </p:nvSpPr>
        <p:spPr>
          <a:xfrm>
            <a:off x="4716360" y="551664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Скругленный прямоугольник 6">
            <a:hlinkClick r:id="rId4" action="ppaction://hlinksldjump"/>
          </p:cNvPr>
          <p:cNvSpPr/>
          <p:nvPr/>
        </p:nvSpPr>
        <p:spPr>
          <a:xfrm>
            <a:off x="6732720" y="551664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5. В каком предложении верно воспроизведена замена прямой речи косвенной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Arial"/>
              </a:rPr>
              <a:t>«Иванов Петр, ты решил эту задачу?» - громко спросил уч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громко спрашивал Иванова о зад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спросил Иванова Петра, ты решил эту зад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ванова Петра учитель спросил о зад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громко спросил Иванова Петра, решил ли он зад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Скругленный прямоугольник 3">
            <a:hlinkClick r:id="rId1" action="ppaction://hlinksldjump"/>
          </p:cNvPr>
          <p:cNvSpPr/>
          <p:nvPr/>
        </p:nvSpPr>
        <p:spPr>
          <a:xfrm>
            <a:off x="2627280" y="5445000"/>
            <a:ext cx="151308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Скругленный прямоугольник 4">
            <a:hlinkClick r:id="rId2" action="ppaction://hlinksldjump"/>
          </p:cNvPr>
          <p:cNvSpPr/>
          <p:nvPr/>
        </p:nvSpPr>
        <p:spPr>
          <a:xfrm>
            <a:off x="61128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Скругленный прямоугольник 5">
            <a:hlinkClick r:id="rId3" action="ppaction://hlinksldjump"/>
          </p:cNvPr>
          <p:cNvSpPr/>
          <p:nvPr/>
        </p:nvSpPr>
        <p:spPr>
          <a:xfrm>
            <a:off x="457200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Скругленный прямоугольник 6">
            <a:hlinkClick r:id="rId4" action="ppaction://hlinksldjump"/>
          </p:cNvPr>
          <p:cNvSpPr/>
          <p:nvPr/>
        </p:nvSpPr>
        <p:spPr>
          <a:xfrm>
            <a:off x="665964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6. В каком предложении прямая речь оформлена правильно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95280" y="1268280"/>
            <a:ext cx="8507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ного воды утекло с тех памятных событий» - с грустью добавил ветер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чики знали здесь каждый кустик, поэтому предложили Давайте мы вам покажем секретную троп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Что бы это могло быть?» - размышлял Серге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ибуны стадиона кричали  в едином порыве: «Гол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Скругленный прямоугольник 3">
            <a:hlinkClick r:id="rId1" action="ppaction://hlinksldjump"/>
          </p:cNvPr>
          <p:cNvSpPr/>
          <p:nvPr/>
        </p:nvSpPr>
        <p:spPr>
          <a:xfrm>
            <a:off x="53964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Скругленный прямоугольник 4">
            <a:hlinkClick r:id="rId2" action="ppaction://hlinksldjump"/>
          </p:cNvPr>
          <p:cNvSpPr/>
          <p:nvPr/>
        </p:nvSpPr>
        <p:spPr>
          <a:xfrm>
            <a:off x="457200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Скругленный прямоугольник 5">
            <a:hlinkClick r:id="rId3" action="ppaction://hlinksldjump"/>
          </p:cNvPr>
          <p:cNvSpPr/>
          <p:nvPr/>
        </p:nvSpPr>
        <p:spPr>
          <a:xfrm>
            <a:off x="262728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Скругленный прямоугольник 6">
            <a:hlinkClick r:id="rId4" action="ppaction://hlinksldjump"/>
          </p:cNvPr>
          <p:cNvSpPr/>
          <p:nvPr/>
        </p:nvSpPr>
        <p:spPr>
          <a:xfrm>
            <a:off x="665964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7. Отметьте предложение с ошибкой в пунктуационном оформлении прямой реч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3280" y="1197000"/>
            <a:ext cx="8640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ного еще мешков грузить?!» – раздраженно проговорил Степаны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двигается шторм, надо предупредить команду и подготовить корабль» - сказал капитан старп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.Н.Петров заявил: «Нам придется немедленно заняться расследование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 с чувством прочитал: «Ветер! Ветер! Ты могуч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Скругленный прямоугольник 3">
            <a:hlinkClick r:id="rId1" action="ppaction://hlinksldjump"/>
          </p:cNvPr>
          <p:cNvSpPr/>
          <p:nvPr/>
        </p:nvSpPr>
        <p:spPr>
          <a:xfrm>
            <a:off x="468360" y="551664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Скругленный прямоугольник 4">
            <a:hlinkClick r:id="rId2" action="ppaction://hlinksldjump"/>
          </p:cNvPr>
          <p:cNvSpPr/>
          <p:nvPr/>
        </p:nvSpPr>
        <p:spPr>
          <a:xfrm>
            <a:off x="4859280" y="551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Скругленный прямоугольник 5">
            <a:hlinkClick r:id="rId3" action="ppaction://hlinksldjump"/>
          </p:cNvPr>
          <p:cNvSpPr/>
          <p:nvPr/>
        </p:nvSpPr>
        <p:spPr>
          <a:xfrm>
            <a:off x="7020000" y="551664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Скругленный прямоугольник 6">
            <a:hlinkClick r:id="rId4" action="ppaction://hlinksldjump"/>
          </p:cNvPr>
          <p:cNvSpPr/>
          <p:nvPr/>
        </p:nvSpPr>
        <p:spPr>
          <a:xfrm>
            <a:off x="2700360" y="551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8. В каком предложении с прямой речью допущена ошибка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5056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 строительстве разве расскажешь в двух словах!» - восторженно сказал Ва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стунов реши обратиться к библиотекарю: «Помогите мне, пожалуйста, найти эту книгу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ка обиженно спросила: «А почему я должна простить тебя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ни всегда уходят в одно время», - Добавил свиде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30064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4">
            <a:hlinkClick r:id="rId2" action="ppaction://hlinksldjump"/>
          </p:cNvPr>
          <p:cNvSpPr/>
          <p:nvPr/>
        </p:nvSpPr>
        <p:spPr>
          <a:xfrm>
            <a:off x="2700360" y="5300640"/>
            <a:ext cx="151128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5">
            <a:hlinkClick r:id="rId3" action="ppaction://hlinksldjump"/>
          </p:cNvPr>
          <p:cNvSpPr/>
          <p:nvPr/>
        </p:nvSpPr>
        <p:spPr>
          <a:xfrm>
            <a:off x="4859280" y="5300640"/>
            <a:ext cx="151308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Скругленный прямоугольник 6">
            <a:hlinkClick r:id="rId4" action="ppaction://hlinksldjump"/>
          </p:cNvPr>
          <p:cNvSpPr/>
          <p:nvPr/>
        </p:nvSpPr>
        <p:spPr>
          <a:xfrm>
            <a:off x="6875640" y="530064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Adel</cp:lastModifiedBy>
  <dcterms:modified xsi:type="dcterms:W3CDTF">2011-03-12T16:34:30Z</dcterms:modified>
  <cp:revision>114</cp:revision>
  <dc:subject/>
  <dc:title>Слайд 1</dc:title>
</cp:coreProperties>
</file>