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4EEA-38FA-4D08-9057-69B36092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34C4-E6D8-4481-8604-54F9C1E9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8FE7-2202-482C-A8EE-4DCC57C5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E1A-5F63-4BC2-A3AF-80992716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A0CC-5C9B-4ABF-AF50-9C5EF540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3811-A2C0-471D-A0CA-B16C55EA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4B61-1DF8-4D10-830F-FB1CF15A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B911-5B1B-428B-B1F2-B15BDDFD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394B-BDB5-4B31-9AD3-505BBECC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0466-F951-49E4-ADFF-2492E645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FA86-B2B2-454A-8361-398861A2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A905-234F-4E91-A5F0-3302B38B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811E-94CB-4504-9926-2A291706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FFBC-C056-4132-9C82-2CFF13D5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078B-C40B-4412-A45F-85C05D92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89BF-B04D-4175-8966-813C8B74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E0FF-9620-478E-B00F-C1B94D58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46BFB-6A0E-4646-B7DA-7C711EFD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C7B60-19D7-4386-B3CC-9D8EB4AD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436FD-5147-4A24-BB67-2C1D2643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2FCB4-FA39-41BB-BA0C-8A4A98A2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55392-FFDD-4313-A2FB-A9E189DC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91D-2197-48C4-BE85-E7D5A8DD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DC60E-6B2B-4DD8-83DE-84E05788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68099-D9B7-44FF-875F-49EBFFB8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781B7-45DF-4EDD-A334-B07612F2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4F83C-89F3-4391-ADED-B598925A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F49BC-EAA9-4C1B-A19D-D00FBE0D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E9AA8-E191-4270-ABF1-A6C7F0B4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F5BEC-50C1-40BC-BC93-47CB918F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55A91-82C8-4CE7-B1EC-B4C97050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8821F-283B-42E7-9C40-F9191E22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C6C77-7895-441F-B789-2F52B3C4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733-FB87-4FD0-B416-3A9661FD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BDC6F-A038-4FE3-81F7-818FCA65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3FDE4-F9B9-4AEB-98C9-237FE73A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057AC-6F77-4EDF-8841-DF958D47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232E9-A40C-45F2-973D-A39F1D06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BC61E-ED0E-4EDA-9327-17463762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E018B-9846-4FA1-ABE0-2BE49CD0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C9447-4AB6-4070-8AB1-DE6CC030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D2A46-CCC6-4DED-894A-7177FB30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84049-D0AA-4919-89CF-0D635823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E78BE-95CD-492D-8D8A-22595729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985-1DC1-4576-9832-F6931AA2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2A826-393B-4BD0-8DF2-8784EBC4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5B108-92DF-4CEE-9575-86BA33E6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669C0-EE89-46E1-B68B-BE415719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A97C0-8418-4944-865A-7A6FE244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DE549-3EDE-4773-8871-769B627D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E8705-BDDE-4FD6-A50B-41622C95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AE98C-AB84-4824-8404-7F2003D6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4C50F-737F-4619-8C44-1C042B53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31B5C-6730-43E5-A606-F0B2F09A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CD3DA-8790-493A-86CD-8E63F267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3770-DF32-47BF-A3FC-4878EB9E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05208-6A53-43F9-925E-31611DD6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85FAA-C3D4-4BBE-8D2F-F763B83B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4C015-7DB1-4E23-A7A3-2E2E1A6D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DB662-B369-400C-9A11-91A0F73F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66EF1-8DA1-4488-BEA9-0FA17077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D4837-6FE2-4FF9-A85E-BED47AE5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30111-3F7A-4F28-86EF-513F9332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E1392-8159-4B16-8D45-9E59EBFF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9C15B-4560-43E5-BE39-A8AA1FCF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AE8DF-6EFE-4735-B5D8-BD4B72F9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03DD-EA05-4419-B291-5687B110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D9C22-0026-4747-A14C-8624B57D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B6CF1-3CB7-4F06-A899-8686A9C0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32938-B716-45B7-A23C-D582EA35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7AE-4767-4584-93FA-9F8E9B46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281F-6CAB-4BCD-AD44-81F4F8F2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5958-955E-4F4E-BC31-80B38C68DB87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2098-73FB-49ED-B701-3F7C706FF471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C867-433C-4832-A3D7-FC9140E9771E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B6CA-DB5E-42B4-B5D5-E36EC68F9E0A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4373-50FC-4123-9395-20E19106AEB3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9881-150A-461B-8909-FE96F9DC60A5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Прямая реч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Контрольный тест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9. В каком предложении прямая речь оформлена правильно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50920" y="1600200"/>
            <a:ext cx="842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Здесь, полагаю,  засели казаки, - сказал Чапаев, указывая на реку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Не выдумывайте, пожалуйста!», - твердо и с каким-то естественным спокойствием заявил мальчик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Расскажите свою биографию, Артем», - услыхал слесарь голос Сиротенко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ходя переднюю, Чичиков покрутил носом и сказал Петрушке - «Ты бы, по крайней мере, хоть окна отпер!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роверь себя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8360" y="1052280"/>
            <a:ext cx="79912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П», -а.     А: «П!»    «П», - а.      А: «П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1. В каком из предложений пропущены знаки препинания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Чего это он?» - снова подумал Ослик и вошел в до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Если у тебя будут клыки, то тебя все станут бояться - сказала Звезд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Чайку пр-р-ришел попить», - прохрипел Осли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едвежонок закричал: «Я только на прошлой неделе подарил тебе самовар!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2. Расставьте знаки препинания и запишите схемы предложений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00000"/>
                </a:solidFill>
                <a:latin typeface="Arial"/>
              </a:rPr>
              <a:t>Не слишком подходящее место для необыкновенного цветка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умался Шухли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ера Сергеевна, когда меня увидела, всплеснула руками и говорит  </a:t>
            </a:r>
            <a:r>
              <a:rPr b="0" i="1" lang="ru-RU" sz="3000" spc="-1" strike="noStrike">
                <a:solidFill>
                  <a:srgbClr val="c00000"/>
                </a:solidFill>
                <a:latin typeface="Arial"/>
              </a:rPr>
              <a:t>Ох! Настоящий кот в сапогах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00000"/>
                </a:solidFill>
                <a:latin typeface="Arial"/>
              </a:rPr>
              <a:t>Странный вечер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умал Митя и споткнулся о кочк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иктант закончился и Татьяна Евгеньевна сказала </a:t>
            </a:r>
            <a:r>
              <a:rPr b="0" i="1" lang="ru-RU" sz="3000" spc="-1" strike="noStrike">
                <a:solidFill>
                  <a:srgbClr val="c00000"/>
                </a:solidFill>
                <a:latin typeface="Arial"/>
              </a:rPr>
              <a:t>Проверьте, что вы написали и сдайте тетрадк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3. Найди предложение без ошибки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3640" y="1413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Так ты пойдешь за мной повсюду?» - говорил он ей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дался чей-то голос: «к вам можно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на не плакала, а только твердила – «О мой друг! О мой брат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Ведь это все-таки мой дом! - думала она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4. Найди предложение с ошибкой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5056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Где же город?» - подумал Кузьми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 Балда приговаривал с укоризной: «Не гонялся бы ты, поп, за дешевизной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конец я ей сказал: «Хочешь, пойдем прогуляться на вал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жар! Пожар!» : Раздался внизу отчаянный кри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5. Найди предложение без ошибки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24000" y="1557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Что же ты не едешь?» - Спросил я ямщика с нетерп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Нет, дело не ладно: надо достать лодку», - промолвил Ермола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той, братцы, стой» - кричит Мартыш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н приедет завтра вечером, его надо встретить» - добавил Мака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6. Найди предложение с ошибкой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Женщина или девушка на велосипеде – это ужасно» - говорил Бел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не кажется, как будто эта каша обыкновенно немного пригорела», - говаривал Афанасий Иванови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ачем вы повязаны платком?» - спросил я Влади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авненько я не брал в руки шашек», - говорил Чичиков, подвигая тоже шаш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7. В каком предложении верно воспроизведена замена прямой речи косвенной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7892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72020"/>
                </a:solidFill>
                <a:latin typeface="Arial"/>
              </a:rPr>
              <a:t>«Отец надеется на Вашу скромность и порядочное поведение», - сказала Маша, обратившись к учителю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ша сказала учителю  о скромности и повед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ша сказала учителю, отец надеется на скромность и порядочное пове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ю Маша сказала о скромности и порядочном повед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тившись к учителю, Маша сказала, что отец надеется на его скромность и порядочное пове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8. В каком предложении прямая речь оформлена правильно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341360"/>
            <a:ext cx="8291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а неужели отец не догадался, что Белла у вас в крепости» - продолжал 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оляр впадал в добродушный тон, подзывал к себе Каштанку и говорил ей: «Ты, Каштанка, насекомое существо и больше ничего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-то далеко-далеко слышны человеческие голоса: «Какой у него пульс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еще тише отвечал другой голос, женский - «Пульс у него сто тридцать восемь. Температура тридцать девять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4:40:10Z</dcterms:created>
  <dc:creator>ученик</dc:creator>
  <dc:description/>
  <dc:language>en-US</dc:language>
  <cp:lastModifiedBy>ученик</cp:lastModifiedBy>
  <dcterms:modified xsi:type="dcterms:W3CDTF">2011-01-28T16:38:13Z</dcterms:modified>
  <cp:revision>103</cp:revision>
  <dc:subject/>
  <dc:title>Слайд 1</dc:title>
</cp:coreProperties>
</file>