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C3C-FE7F-46C9-9050-7D0CFD8A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CCA5-0E56-4541-AABB-4F9A6470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A40-D17D-4A2B-9B57-01516AFD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9449-10E7-4E0A-8E03-E4AAD0D5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FD57-5CF2-4979-ACF8-C22ACAC4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7BE2-8F4B-4722-981A-FE5AF5D9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E0ED-9323-460B-8850-3214D85B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3C86-94A3-462A-8EAA-531542AF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8E4B-DC4C-45DC-AE7E-DD420990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E1D3-D55E-42A1-8492-CFEE9DC0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C2DF-4DE5-4E8F-8499-E5FAFE10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9EA1-909C-44D4-9261-4493432A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DE98-4717-4AE1-8330-0EEB353D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A747-81E0-43B4-94F4-F29FA5B7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BC13-2376-4FF5-B72E-482BB78F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E49E-47C4-499A-93D6-6B4B1583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B718-A9FD-4F64-9940-94652BB6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1FCF4-9D58-4453-A970-4CB85B1E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AB6CE-AA6D-48F6-8E2D-A189C247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19F84-676B-4827-BB41-1C50A711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2FEE8-6E3B-416B-81DE-8A812FA3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32F23-ABC1-4498-AA83-9DA5EF29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BE33-CF3F-49D3-86BC-0710280F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9B08D-D645-4220-98B0-8A6B3570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C60C7-1813-4751-8011-7D19A708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9F3E1-CB12-4E0E-8D24-FE3AB3CF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74D49-5E67-4A26-8C1B-0BD57172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091C7-1079-41A2-AE1C-E5D9ADA0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C20E5-1926-47F8-A429-B15235A9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FD476-3EBC-48E0-933C-54305DB0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08006-ACBA-44D6-B24E-AF23A064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9210D-54A2-46A5-87C0-2E967AC9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43247-8047-4D87-8332-1F206090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CB79-AB8B-4C8B-A681-AB68275B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87178-2F31-455C-ACDC-05C281B5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31797-14CB-43FC-BCA4-D6851C69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79821-FEB8-48C9-9582-9C7BAE11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474BE-BB07-402E-8072-337DA0E5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0F1D6-C4AB-4150-8039-4F91B3C8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C74CA-3EB6-4E67-B694-9CEAF26A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41512-C75B-4B91-A921-8BEF245F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8519F-5AF0-49D3-A949-4C0F7C2D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A7FC7-A374-4F19-B60C-2E714F2A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FCF40-FCCF-4EC6-9D50-2884EACA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5A95-132B-424B-82C5-8E055ABB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D8D72-19F0-4B36-8672-B1938630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8CD62-9425-4AFC-B078-E5D2DEEE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A764F-70C1-4555-A17F-12153521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45D76-3535-4499-947F-D9B8CFC1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6A022-25CE-472E-ACA9-36EADD60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4C8DD-3EF1-4B0C-9434-C5196802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76725-BB1A-41D4-A743-A02E1A3B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13251-A24A-443D-8E69-96789983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836B5-F04E-4468-B3D8-B0663E6D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03BD4-4037-4FF1-B7AA-3F0C9345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9F77-40D8-4CD8-8F10-06C072FE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92BA1-F3A2-4464-9B61-E7E77F4B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8B00A-DE89-43D5-A85C-2EC61A75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8C22B-2EF3-4941-A3E3-769155F6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81B5F-01F2-4493-BDC2-0543B821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A02B2-5039-4BFE-AC1F-632DD4F3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AACDD-CE04-4242-9C80-86829025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49F13-E9AE-4981-A37E-11D3E79A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C65B2-9587-40DD-B0AF-7CF964A3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BD83C-9E0E-4922-B7BF-18367CFB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65992-4667-4AD2-84CE-1AA9455E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690E-A351-479A-AA3B-E49B216F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C5F12-D925-47EB-8312-1C622708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BAAD9-C6F7-473B-A1F2-A78B1837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F5145-09D1-4F87-B635-2FB2FF92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1FA5-EB36-45F6-BEF2-9D9D9DA3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C21-388A-4ED7-B310-1D76CB71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5452-64E3-4650-BBED-F0D74B8D5DD5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833F-E544-480B-A2C4-528C26BAC49C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2A04-77BD-47E4-AA35-46626F4B11AB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3576-A3A6-4F5E-8FDC-4A7F1FB853D3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42D3-3294-4354-8AA7-0B67BA0A3E20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2CFE-EC81-40E1-B018-7667194BB6B4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3.xml"/><Relationship Id="rId3" Type="http://schemas.openxmlformats.org/officeDocument/2006/relationships/slide" Target="slide45.xml"/><Relationship Id="rId4" Type="http://schemas.openxmlformats.org/officeDocument/2006/relationships/slide" Target="slide46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30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slide" Target="slide33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7.xml"/><Relationship Id="rId3" Type="http://schemas.openxmlformats.org/officeDocument/2006/relationships/slide" Target="slide38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Прямая реч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Тренировочный тест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9. Укажите предложение, которое соответствует схеме </a:t>
            </a: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«П!» - а.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Знаки препинания расставлены частично)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24000" y="1483920"/>
            <a:ext cx="82915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днажды приходил ко мне этот Шурка сказал директор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жар раздался внизу отчаянный кри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же ты не едешь спросил я ямщика с нетерпение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один раз отец говорил Жалко, что с нами нет ружь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Скругленный прямоугольник 3">
            <a:hlinkClick r:id="rId1" action="ppaction://hlinksldjump"/>
          </p:cNvPr>
          <p:cNvSpPr/>
          <p:nvPr/>
        </p:nvSpPr>
        <p:spPr>
          <a:xfrm>
            <a:off x="611280" y="5445000"/>
            <a:ext cx="1584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Скругленный прямоугольник 4">
            <a:hlinkClick r:id="rId2" action="ppaction://hlinksldjump"/>
          </p:cNvPr>
          <p:cNvSpPr/>
          <p:nvPr/>
        </p:nvSpPr>
        <p:spPr>
          <a:xfrm>
            <a:off x="2771640" y="5445000"/>
            <a:ext cx="1584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Скругленный прямоугольник 5">
            <a:hlinkClick r:id="rId3" action="ppaction://hlinksldjump"/>
          </p:cNvPr>
          <p:cNvSpPr/>
          <p:nvPr/>
        </p:nvSpPr>
        <p:spPr>
          <a:xfrm>
            <a:off x="4788000" y="5445000"/>
            <a:ext cx="1584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Скругленный прямоугольник 6">
            <a:hlinkClick r:id="rId4" action="ppaction://hlinksldjump"/>
          </p:cNvPr>
          <p:cNvSpPr/>
          <p:nvPr/>
        </p:nvSpPr>
        <p:spPr>
          <a:xfrm>
            <a:off x="6875640" y="5445000"/>
            <a:ext cx="158400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539640" y="-171720"/>
            <a:ext cx="7056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думай ещё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" descr="C:\Documents and Settings\Елена\Рабочий стол\78d7a7c1a465121ba394082fb3417918.gif"/>
          <p:cNvPicPr/>
          <p:nvPr/>
        </p:nvPicPr>
        <p:blipFill>
          <a:blip r:embed="rId2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Молодец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Умница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09880" y="3809880"/>
            <a:ext cx="2286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611280" y="380520"/>
            <a:ext cx="5689440" cy="25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76920" indent="-3441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5940360" y="2924280"/>
            <a:ext cx="26067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Молодец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1. Найди предложение без ошибки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23640" y="1413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ь недовольно сказала – «К ученью надо готовиться, а ты в лесу пропадаеш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т она, речка!» - Обрадовался Васют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Он все про озеро какое-то толкует», - заговорил дед Афанас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Мальчик снова заговорил вслух: Ладно, не робей, найдем избушку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Скругленный прямоугольник 3">
            <a:hlinkClick r:id="rId1" action="ppaction://hlinksldjump"/>
          </p:cNvPr>
          <p:cNvSpPr/>
          <p:nvPr/>
        </p:nvSpPr>
        <p:spPr>
          <a:xfrm>
            <a:off x="684360" y="5300640"/>
            <a:ext cx="143964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Скругленный прямоугольник 4">
            <a:hlinkClick r:id="rId2" action="ppaction://hlinksldjump"/>
          </p:cNvPr>
          <p:cNvSpPr/>
          <p:nvPr/>
        </p:nvSpPr>
        <p:spPr>
          <a:xfrm>
            <a:off x="2627280" y="5300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Скругленный прямоугольник 5">
            <a:hlinkClick r:id="rId3" action="ppaction://hlinksldjump"/>
          </p:cNvPr>
          <p:cNvSpPr/>
          <p:nvPr/>
        </p:nvSpPr>
        <p:spPr>
          <a:xfrm>
            <a:off x="4716360" y="5300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Скругленный прямоугольник 6">
            <a:hlinkClick r:id="rId4" action="ppaction://hlinksldjump"/>
          </p:cNvPr>
          <p:cNvSpPr/>
          <p:nvPr/>
        </p:nvSpPr>
        <p:spPr>
          <a:xfrm>
            <a:off x="6948360" y="5300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539640" y="-171720"/>
            <a:ext cx="7056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Подумай ещё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4" descr="C:\Documents and Settings\Елена\Рабочий стол\78d7a7c1a465121ba394082fb3417918.gif"/>
          <p:cNvPicPr/>
          <p:nvPr/>
        </p:nvPicPr>
        <p:blipFill>
          <a:blip r:embed="rId2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611280" y="260280"/>
            <a:ext cx="63230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6012000" y="2997360"/>
            <a:ext cx="26064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Умница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09880" y="3809880"/>
            <a:ext cx="2286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610920" y="333360"/>
            <a:ext cx="5746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5867280" y="3068640"/>
            <a:ext cx="26067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Правильно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4" descr="C:\Documents and Settings\Елена\Рабочий стол\солнце23.gif"/>
          <p:cNvPicPr/>
          <p:nvPr/>
        </p:nvPicPr>
        <p:blipFill>
          <a:blip r:embed="rId2"/>
          <a:stretch/>
        </p:blipFill>
        <p:spPr>
          <a:xfrm>
            <a:off x="3657600" y="3505320"/>
            <a:ext cx="28195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971280" y="1125360"/>
            <a:ext cx="77151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Не сдавайся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Пробуй ещё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539640" y="333360"/>
            <a:ext cx="18288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2. Найди предложение с ошибкой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т так строят дорогу-то в тайге» - назидательно заговорил молодой инженер Промой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орь сказал: «Ну, не жалеешь, что пришел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Я в жизни ничего подобного не слыхала», - говорила Рыжу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а что это с ней?» – с тревогой подумал 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Скругленный прямоугольник 3">
            <a:hlinkClick r:id="rId1" action="ppaction://hlinksldjump"/>
          </p:cNvPr>
          <p:cNvSpPr/>
          <p:nvPr/>
        </p:nvSpPr>
        <p:spPr>
          <a:xfrm>
            <a:off x="611280" y="5229360"/>
            <a:ext cx="1657080" cy="936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Скругленный прямоугольник 4">
            <a:hlinkClick r:id="rId2" action="ppaction://hlinksldjump"/>
          </p:cNvPr>
          <p:cNvSpPr/>
          <p:nvPr/>
        </p:nvSpPr>
        <p:spPr>
          <a:xfrm>
            <a:off x="2771640" y="5229360"/>
            <a:ext cx="1656000" cy="936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Скругленный прямоугольник 5">
            <a:hlinkClick r:id="rId3" action="ppaction://hlinksldjump"/>
          </p:cNvPr>
          <p:cNvSpPr/>
          <p:nvPr/>
        </p:nvSpPr>
        <p:spPr>
          <a:xfrm>
            <a:off x="4932360" y="5229360"/>
            <a:ext cx="1655640" cy="936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Скругленный прямоугольник 6">
            <a:hlinkClick r:id="rId4" action="ppaction://hlinksldjump"/>
          </p:cNvPr>
          <p:cNvSpPr/>
          <p:nvPr/>
        </p:nvSpPr>
        <p:spPr>
          <a:xfrm>
            <a:off x="6948360" y="5229360"/>
            <a:ext cx="1656000" cy="936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539640" y="-171720"/>
            <a:ext cx="7056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думай ещё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4" descr="C:\Documents and Settings\Елена\Рабочий стол\78d7a7c1a465121ba394082fb3417918.gif"/>
          <p:cNvPicPr/>
          <p:nvPr/>
        </p:nvPicPr>
        <p:blipFill>
          <a:blip r:embed="rId2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6858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Замечательно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581280" y="3581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39640" y="-360"/>
            <a:ext cx="8064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пробуй ещё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4" descr="C:\Documents and Settings\Елена\Рабочий стол\78d7a7c1a465121ba394082fb3417918.gif"/>
          <p:cNvPicPr/>
          <p:nvPr/>
        </p:nvPicPr>
        <p:blipFill>
          <a:blip r:embed="rId2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914040" y="380520"/>
            <a:ext cx="4809960" cy="32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5940360" y="3357720"/>
            <a:ext cx="26067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Молодец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971280" y="1125360"/>
            <a:ext cx="77151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mic Sans MS"/>
              </a:rPr>
              <a:t>Не сдавайся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mic Sans MS"/>
              </a:rPr>
              <a:t>Пробуй ещё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838080" y="228600"/>
            <a:ext cx="18288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539640" y="-171720"/>
            <a:ext cx="7056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думай ещё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4" descr="C:\Documents and Settings\Елена\Рабочий стол\78d7a7c1a465121ba394082fb3417918.gif"/>
          <p:cNvPicPr/>
          <p:nvPr/>
        </p:nvPicPr>
        <p:blipFill>
          <a:blip r:embed="rId1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Умница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09880" y="3809880"/>
            <a:ext cx="2286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3. Найди предложение без ошибки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24000" y="134100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авно он пришел?» – кивнул Матвей на п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рья покачала головой, «И зачем же вот каждый день бродить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бушка у нас доктор Айболит»,  восторженно сказал Вов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т какой у нас  ученый кот! - живо прокомментировал Вов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Скругленный прямоугольник 3">
            <a:hlinkClick r:id="rId1" action="ppaction://hlinksldjump"/>
          </p:cNvPr>
          <p:cNvSpPr/>
          <p:nvPr/>
        </p:nvSpPr>
        <p:spPr>
          <a:xfrm>
            <a:off x="2700360" y="5084640"/>
            <a:ext cx="1800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Скругленный прямоугольник 4">
            <a:hlinkClick r:id="rId2" action="ppaction://hlinksldjump"/>
          </p:cNvPr>
          <p:cNvSpPr/>
          <p:nvPr/>
        </p:nvSpPr>
        <p:spPr>
          <a:xfrm>
            <a:off x="4788000" y="5084640"/>
            <a:ext cx="180000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Скругленный прямоугольник 5">
            <a:hlinkClick r:id="rId3" action="ppaction://hlinksldjump"/>
          </p:cNvPr>
          <p:cNvSpPr/>
          <p:nvPr/>
        </p:nvSpPr>
        <p:spPr>
          <a:xfrm>
            <a:off x="6875640" y="5084640"/>
            <a:ext cx="180000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Скругленный прямоугольник 6">
            <a:hlinkClick r:id="rId4" action="ppaction://hlinksldjump"/>
          </p:cNvPr>
          <p:cNvSpPr/>
          <p:nvPr/>
        </p:nvSpPr>
        <p:spPr>
          <a:xfrm>
            <a:off x="539640" y="5084640"/>
            <a:ext cx="1800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Управляющая кнопка: домой 8"/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4" descr="C:\Documents and Settings\Елена\Рабочий стол\мальчик задумался.gif"/>
          <p:cNvPicPr/>
          <p:nvPr/>
        </p:nvPicPr>
        <p:blipFill>
          <a:blip r:embed="rId1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39640" y="-360"/>
            <a:ext cx="8064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пробуй ещё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4" descr="C:\Documents and Settings\Елена\Рабочий стол\78d7a7c1a465121ba394082fb3417918.gif"/>
          <p:cNvPicPr/>
          <p:nvPr/>
        </p:nvPicPr>
        <p:blipFill>
          <a:blip r:embed="rId1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94920" y="549360"/>
            <a:ext cx="6769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2600" indent="-340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4" descr="C:\Documents and Settings\Елена\Рабочий стол\мышь-силачка.wmf"/>
          <p:cNvPicPr/>
          <p:nvPr/>
        </p:nvPicPr>
        <p:blipFill>
          <a:blip r:embed="rId1"/>
          <a:stretch/>
        </p:blipFill>
        <p:spPr>
          <a:xfrm>
            <a:off x="5796000" y="3141720"/>
            <a:ext cx="26067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94920" y="380880"/>
            <a:ext cx="8497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omic Sans MS"/>
              </a:rPr>
              <a:t>Восхитительно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Управляющая кнопка: домой 3">
            <a:hlinkClick r:id="" action="ppaction://hlinkshowjump?jump=endshow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4" descr="C:\Documents and Settings\Елена\Рабочий стол\солнце23.gif"/>
          <p:cNvPicPr/>
          <p:nvPr/>
        </p:nvPicPr>
        <p:blipFill>
          <a:blip r:embed="rId1"/>
          <a:stretch/>
        </p:blipFill>
        <p:spPr>
          <a:xfrm>
            <a:off x="3492360" y="3500280"/>
            <a:ext cx="281952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Управляющая кнопка: домой 8"/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4" descr="C:\Documents and Settings\Елена\Рабочий стол\мальчик задумался.gif"/>
          <p:cNvPicPr/>
          <p:nvPr/>
        </p:nvPicPr>
        <p:blipFill>
          <a:blip r:embed="rId1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думай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4" descr="C:\Documents and Settings\Елена\Рабочий стол\мышь-силачка.wmf"/>
          <p:cNvPicPr/>
          <p:nvPr/>
        </p:nvPicPr>
        <p:blipFill>
          <a:blip r:embed="rId1"/>
          <a:stretch/>
        </p:blipFill>
        <p:spPr>
          <a:xfrm>
            <a:off x="3413160" y="3457440"/>
            <a:ext cx="26067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50560" y="-243360"/>
            <a:ext cx="8893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05640" indent="-279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Увы! Попробуй ещё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4" descr="C:\Documents and Settings\Елена\Рабочий стол\78d7a7c1a465121ba394082fb3417918.gif"/>
          <p:cNvPicPr/>
          <p:nvPr/>
        </p:nvPicPr>
        <p:blipFill>
          <a:blip r:embed="rId1"/>
          <a:stretch/>
        </p:blipFill>
        <p:spPr>
          <a:xfrm>
            <a:off x="395280" y="476280"/>
            <a:ext cx="1946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4. Найди предложение с ошибкой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Это еще что за зверь?» - сердито спросила злая волшебни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усливый Лев свирепо сказал: «Хоть я и трус,  а придется мне завтра померяться силами с Гудвином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Где вы достали столько зеленого мрамора?» - спросила Эл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елезный Дровосек закричал – «Приближается страшная гроза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Скругленный прямоугольник 3">
            <a:hlinkClick r:id="rId1" action="ppaction://hlinksldjump"/>
          </p:cNvPr>
          <p:cNvSpPr/>
          <p:nvPr/>
        </p:nvSpPr>
        <p:spPr>
          <a:xfrm>
            <a:off x="611280" y="5516640"/>
            <a:ext cx="151272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Скругленный прямоугольник 4">
            <a:hlinkClick r:id="rId2" action="ppaction://hlinksldjump"/>
          </p:cNvPr>
          <p:cNvSpPr/>
          <p:nvPr/>
        </p:nvSpPr>
        <p:spPr>
          <a:xfrm>
            <a:off x="2627280" y="5516640"/>
            <a:ext cx="151308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Скругленный прямоугольник 5">
            <a:hlinkClick r:id="rId3" action="ppaction://hlinksldjump"/>
          </p:cNvPr>
          <p:cNvSpPr/>
          <p:nvPr/>
        </p:nvSpPr>
        <p:spPr>
          <a:xfrm>
            <a:off x="4716360" y="5516640"/>
            <a:ext cx="151128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Скругленный прямоугольник 6">
            <a:hlinkClick r:id="rId4" action="ppaction://hlinksldjump"/>
          </p:cNvPr>
          <p:cNvSpPr/>
          <p:nvPr/>
        </p:nvSpPr>
        <p:spPr>
          <a:xfrm>
            <a:off x="6732720" y="5516640"/>
            <a:ext cx="151128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5. В каком предложении верно воспроизведена замена прямой речи косвенной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Arial"/>
              </a:rPr>
              <a:t>«Иванов Петр, ты решил эту задачу?» - громко спросил учите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громко спрашивал Иванова о задач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спросил Иванова Петра, ты решил эту задач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ванова Петра учитель спросил о задач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громко спросил Иванова Петра, решил ли он задач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Скругленный прямоугольник 3">
            <a:hlinkClick r:id="rId1" action="ppaction://hlinksldjump"/>
          </p:cNvPr>
          <p:cNvSpPr/>
          <p:nvPr/>
        </p:nvSpPr>
        <p:spPr>
          <a:xfrm>
            <a:off x="2627280" y="5445000"/>
            <a:ext cx="151308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Скругленный прямоугольник 4">
            <a:hlinkClick r:id="rId2" action="ppaction://hlinksldjump"/>
          </p:cNvPr>
          <p:cNvSpPr/>
          <p:nvPr/>
        </p:nvSpPr>
        <p:spPr>
          <a:xfrm>
            <a:off x="611280" y="5445000"/>
            <a:ext cx="151272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Скругленный прямоугольник 5">
            <a:hlinkClick r:id="rId3" action="ppaction://hlinksldjump"/>
          </p:cNvPr>
          <p:cNvSpPr/>
          <p:nvPr/>
        </p:nvSpPr>
        <p:spPr>
          <a:xfrm>
            <a:off x="4572000" y="5445000"/>
            <a:ext cx="151272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Скругленный прямоугольник 6">
            <a:hlinkClick r:id="rId4" action="ppaction://hlinksldjump"/>
          </p:cNvPr>
          <p:cNvSpPr/>
          <p:nvPr/>
        </p:nvSpPr>
        <p:spPr>
          <a:xfrm>
            <a:off x="6659640" y="5445000"/>
            <a:ext cx="151272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6. В каком предложении прямая речь оформлена правильно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95280" y="1268280"/>
            <a:ext cx="8507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Много воды утекло с тех памятных событий» - с грустью добавил ветер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ьчики знали здесь каждый кустик, поэтому предложили Давайте мы вам покажем секретную троп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Что бы это могло быть?» - размышлял Сергее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ибуны стадиона кричали  в едином порыве: «Гол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Скругленный прямоугольник 3">
            <a:hlinkClick r:id="rId1" action="ppaction://hlinksldjump"/>
          </p:cNvPr>
          <p:cNvSpPr/>
          <p:nvPr/>
        </p:nvSpPr>
        <p:spPr>
          <a:xfrm>
            <a:off x="539640" y="5661000"/>
            <a:ext cx="1368360" cy="863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Скругленный прямоугольник 4">
            <a:hlinkClick r:id="rId2" action="ppaction://hlinksldjump"/>
          </p:cNvPr>
          <p:cNvSpPr/>
          <p:nvPr/>
        </p:nvSpPr>
        <p:spPr>
          <a:xfrm>
            <a:off x="4572000" y="5661000"/>
            <a:ext cx="1368360" cy="863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Скругленный прямоугольник 5">
            <a:hlinkClick r:id="rId3" action="ppaction://hlinksldjump"/>
          </p:cNvPr>
          <p:cNvSpPr/>
          <p:nvPr/>
        </p:nvSpPr>
        <p:spPr>
          <a:xfrm>
            <a:off x="2627280" y="5661000"/>
            <a:ext cx="1368360" cy="863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Скругленный прямоугольник 6">
            <a:hlinkClick r:id="rId4" action="ppaction://hlinksldjump"/>
          </p:cNvPr>
          <p:cNvSpPr/>
          <p:nvPr/>
        </p:nvSpPr>
        <p:spPr>
          <a:xfrm>
            <a:off x="6659640" y="5661000"/>
            <a:ext cx="1368360" cy="863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7. Отметьте предложение с ошибкой в пунктуационном оформлении прямой реч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3280" y="1197000"/>
            <a:ext cx="8640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Много еще мешков грузить?!» – раздраженно проговорил Степаны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Надвигается шторм, надо предупредить команду и подготовить корабль» - сказал капитан старпо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.Н.Петров заявил: «Нам придется немедленно заняться расследованием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к с чувством прочитал: «Ветер! Ветер! Ты могуч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Скругленный прямоугольник 3">
            <a:hlinkClick r:id="rId1" action="ppaction://hlinksldjump"/>
          </p:cNvPr>
          <p:cNvSpPr/>
          <p:nvPr/>
        </p:nvSpPr>
        <p:spPr>
          <a:xfrm>
            <a:off x="468360" y="551664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Скругленный прямоугольник 4">
            <a:hlinkClick r:id="rId2" action="ppaction://hlinksldjump"/>
          </p:cNvPr>
          <p:cNvSpPr/>
          <p:nvPr/>
        </p:nvSpPr>
        <p:spPr>
          <a:xfrm>
            <a:off x="4859280" y="551664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Скругленный прямоугольник 5">
            <a:hlinkClick r:id="rId3" action="ppaction://hlinksldjump"/>
          </p:cNvPr>
          <p:cNvSpPr/>
          <p:nvPr/>
        </p:nvSpPr>
        <p:spPr>
          <a:xfrm>
            <a:off x="7020000" y="5516640"/>
            <a:ext cx="151272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Скругленный прямоугольник 6">
            <a:hlinkClick r:id="rId4" action="ppaction://hlinksldjump"/>
          </p:cNvPr>
          <p:cNvSpPr/>
          <p:nvPr/>
        </p:nvSpPr>
        <p:spPr>
          <a:xfrm>
            <a:off x="2700360" y="551664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8. В каком предложении с прямой речью допущена ошибка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50560" y="134100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О строительстве разве расскажешь в двух словах!» - восторженно сказал Ва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истунов реши обратиться к библиотекарю: «Помогите мне, пожалуйста, найти эту книгу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едка обиженно спросила: «А почему я должна простить тебя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Они всегда уходят в одно время», - Добавил свидете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Скругленный прямоугольник 3">
            <a:hlinkClick r:id="rId1" action="ppaction://hlinksldjump"/>
          </p:cNvPr>
          <p:cNvSpPr/>
          <p:nvPr/>
        </p:nvSpPr>
        <p:spPr>
          <a:xfrm>
            <a:off x="611280" y="5300640"/>
            <a:ext cx="1512720" cy="1008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Скругленный прямоугольник 4">
            <a:hlinkClick r:id="rId2" action="ppaction://hlinksldjump"/>
          </p:cNvPr>
          <p:cNvSpPr/>
          <p:nvPr/>
        </p:nvSpPr>
        <p:spPr>
          <a:xfrm>
            <a:off x="2700360" y="5300640"/>
            <a:ext cx="1511280" cy="1008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Скругленный прямоугольник 5">
            <a:hlinkClick r:id="rId3" action="ppaction://hlinksldjump"/>
          </p:cNvPr>
          <p:cNvSpPr/>
          <p:nvPr/>
        </p:nvSpPr>
        <p:spPr>
          <a:xfrm>
            <a:off x="4859280" y="5300640"/>
            <a:ext cx="1513080" cy="1008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Скругленный прямоугольник 6">
            <a:hlinkClick r:id="rId4" action="ppaction://hlinksldjump"/>
          </p:cNvPr>
          <p:cNvSpPr/>
          <p:nvPr/>
        </p:nvSpPr>
        <p:spPr>
          <a:xfrm>
            <a:off x="6875640" y="5300640"/>
            <a:ext cx="1512720" cy="1008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4:40:10Z</dcterms:created>
  <dc:creator>ученик</dc:creator>
  <dc:description/>
  <dc:language>en-US</dc:language>
  <cp:lastModifiedBy>Adel</cp:lastModifiedBy>
  <dcterms:modified xsi:type="dcterms:W3CDTF">2011-03-12T16:34:30Z</dcterms:modified>
  <cp:revision>114</cp:revision>
  <dc:subject/>
  <dc:title>Слайд 1</dc:title>
</cp:coreProperties>
</file>