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FB1-1611-45DB-9A6D-1BDA02B2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481-5E51-4A5D-A859-269FCBF9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6D2-BB22-4C66-8E7B-4C152F4C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E5F-9984-45F9-8C40-14B73A49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5283-5810-4250-B7EF-962EE649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995-E7FD-41A8-9B3B-1755392C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C526-CF0B-4D34-A93E-9AADC264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D0CE-3165-46AB-BD31-EC32274F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87F0-B6FC-4A7A-B9FF-6006ECBE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2864-EA70-4581-8243-F089542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DFFC-211D-41A8-91CB-DFF2A3D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F72-A3F5-42AF-93D3-C06DC33C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ACC1-99C2-4315-9401-A4D8386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873A-C978-4A60-B5D7-EA9BB8D0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7BDF-03AC-48A3-802B-FDA220FC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1B96-E21A-463D-BB50-504301C6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9322-7B8B-4AFD-A5E1-492DB151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1B5F-DB22-4F53-8594-8182E12F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3920-EF9B-47C8-94FC-F07D0A4F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93EA-9C12-4250-826F-728DD378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1865-F91E-46EE-AF44-7B714F13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93B6-7A49-460D-A0F4-A955117D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3E0-B014-4200-9B23-1102F7E6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B8EA-0213-462B-AF00-2B423260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6B86-6598-4431-88EF-2CEF0BD8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94CB-F478-4CF7-A5F1-E126E8E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E576-FD3A-4C3D-8608-1D7FF54E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ECEA-504B-483D-B93B-ECADB363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BADE-26E9-4DC2-8DEE-144B02CD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470B-E5CD-4E3E-AB1B-FF29F0D1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92B2-3C0E-433C-943F-EAC067A0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B7D9-CD1B-4218-BEDE-9999523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7CFC4-5B1F-43A8-938F-51368854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571-86D0-465B-B5A0-E77A3F66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9D88F-EF1C-49DE-815E-5E9937AE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35A3-5544-4EBA-BADD-C12F9A6E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CBCA-971B-4E1F-9157-70269E3E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1E08-F79C-4B27-AF58-EBEEA14C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12F7-A554-4CDF-B9E5-A933345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D4D8-8EBC-4FAB-B8BB-6C44589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CE16-04D9-4483-8780-066AD63D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C1D97-F8FA-41FF-933E-49D5FF54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0F99-ECFB-4B4F-996F-BFA81AEC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8EA71-054B-4784-9042-AC10BCA1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C57-FFF5-4E09-8E64-F93B399C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58B7D-7B86-4D96-8122-4B9205E6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5AC79-D96B-411A-98F5-78A6893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5527-102C-4295-A3E8-F9E389DE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83C4-8A2A-4022-ACDE-B46688A0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3890-D63A-46A8-B44F-BA6A8153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9C89-F7D7-438A-9E0B-4B2C41E5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47DB-0123-403A-8EAA-1331862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7F48E-D2BE-4341-9085-8C4E8AD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EEA35-3C3F-471F-BA87-E1CD544D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AA063-9833-48B7-8131-A79DECFC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A46-1EE8-4B1F-84E0-0EA3DDFF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18D63-CBA1-46B1-8024-CE1DEE54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E4356-D304-482E-8F39-E97A77E9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90C7B-A877-419C-AF5E-6BF59EA0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AAE1F-C11F-4F1A-B8D8-2582CF1C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EE095-8E07-4738-86E3-64D37576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91106-C15C-46FE-9D50-6B6332AA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8E312-2702-4781-954E-E6438C64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2C600-2DD4-4652-BE9E-F6FA0712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3A16-B116-430C-B231-273E4DF5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64E66-2202-4CDD-AA34-EDDA0176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30D-B2D1-4370-AF25-3E86FD7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E0F5-A674-4547-AFA4-D315DC7D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4FF64-1299-4694-98E8-556082B6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E7B57-D59F-450C-8A09-29083747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8D1-022C-4129-9F31-D3641C05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CCD-59A0-4B93-9D57-64CC92C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C02C-64DA-4EE9-A70D-0C93E2F93084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4B62-FFF0-451C-A6DB-2FC8AC5C4933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A327-C33E-456B-AF86-69E1D1CCFDEC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1A35-A952-4610-B568-57054C628169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2B4A-9DC0-44E0-A780-A18E0E6F1122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6C18-4E12-47F3-A621-68DC43B02C5B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Контроль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9. В каком предложении прямая речь оформлена правильно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0920" y="1600200"/>
            <a:ext cx="842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Здесь, полагаю,  засели казаки, - сказал Чапаев, указывая на реку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Не выдумывайте, пожалуйста!», - твердо и с каким-то естественным спокойствием заявил мальчик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Расскажите свою биографию, Артем», - услыхал слесарь голос Сиротенк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дя переднюю, Чичиков покрутил носом и сказал Петрушке - «Ты бы, по крайней мере, хоть окна отпе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ь себя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1052280"/>
            <a:ext cx="79912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П», -а.     А: «П!»    «П», - а.      А: «П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1. В каком из предложений пропущены знаки препинания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его это он?» - снова подумал Ослик и вошел в д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Если у тебя будут клыки, то тебя все станут бояться - сказала Звезд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айку пр-р-ришел попить», - прохрипел Ос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двежонок закричал: «Я только на прошлой неделе подарил тебе самова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Расставьте знаки препинания и запишите схемы предложен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Не слишком подходящее место для необыкновенного цветк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умался Шух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ера Сергеевна, когда меня увидела, всплеснула руками и говорит 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Ох! Настоящий кот в сапогах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Странный вечер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умал Митя и споткнулся о коч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ктант закончился и Татьяна Евгеньевна сказала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Проверьте, что вы написали и сдайте тетрад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Так ты пойдешь за мной повсюду?» - говорил он ей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дался чей-то голос: «к вам можно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а не плакала, а только твердила – «О мой друг! О мой брат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едь это все-таки мой дом! - думала он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Где же город?» - подумал Кузь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Балда приговаривал с укоризной: «Не гонялся бы ты, поп, за дешевизной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конец я ей сказал: «Хочешь, пойдем прогуляться на ва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жар! Пожар!» : Раздался внизу отчаянный кр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5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то же ты не едешь?» - Спросил я ямщика с нетерп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Нет, дело не ладно: надо достать лодку», - промолвил Ермола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той, братцы, стой» - кричит Марты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н приедет завтра вечером, его надо встретить» - добавил Мака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6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енщина или девушка на велосипеде – это ужасно» - говорил Бел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не кажется, как будто эта каша обыкновенно немного пригорела», - говаривал Афанасий Ивано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чем вы повязаны платком?» - спросил я Влади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авненько я не брал в руки шашек», - говорил Чичиков, подвигая тоже шаш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7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Arial"/>
              </a:rPr>
              <a:t>«Отец надеется на Вашу скромность и порядочное поведение», - сказала Маша, обратившись к учителю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  о скромности и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, отец надеется на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ю Маша сказала о скромности и порядочном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вшись к учителю, Маша сказала, что отец надеется на его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8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неужели отец не догадался, что Белла у вас в крепости» - продолж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ляр впадал в добродушный тон, подзывал к себе Каштанку и говорил ей: «Ты, Каштанка, насекомое существо и больше ничег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-то далеко-далеко слышны человеческие голоса: «Какой у него пуль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ще тише отвечал другой голос, женский - «Пульс у него сто тридцать восемь. Температура тридцать девять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ученик</cp:lastModifiedBy>
  <dcterms:modified xsi:type="dcterms:W3CDTF">2011-01-28T16:38:13Z</dcterms:modified>
  <cp:revision>103</cp:revision>
  <dc:subject/>
  <dc:title>Слайд 1</dc:title>
</cp:coreProperties>
</file>