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E99-8DB3-4243-8668-56E5C897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2CD-0019-4805-836A-0292BBD3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C74-EF16-42C6-8D25-089EB730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56F-ADA2-4FC2-ABD1-39BF4F22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4211-9136-4A32-819C-23D81D2D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6C90-E634-43D3-9F7E-716CE0DE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4703-2B44-4C48-9376-7E4CC484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19C7-E669-4CFC-BA07-FD38206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4B63-D1BA-4A6A-B103-BF56AB11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75A6-941D-42D7-9DF0-3D880AF8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CCA9-0C77-4C95-B5D6-BD6CF3E0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6F7-8123-4551-9E42-B24496B6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DCC5-77C5-455E-8B09-64AAB8E9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C65F-8D61-431B-91B1-957DAE39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D313-7E56-4A57-A4C6-FF4F33A3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E97C-C72E-4FD9-8496-A928E11E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6DAF-087F-438D-B099-A629E8DF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EE91-22E9-4CDE-9EB3-E4C7083C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A769F-99BF-45D3-AFE5-324B9251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8E6D-1E02-4050-9742-AFEDCEA4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EF61-D937-4126-B5D1-FDD1E4ED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C8BA-7815-484F-A73B-C669FD3B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444-8A5E-4982-82F8-2E756328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67FD-957F-4ACD-92D9-176783E0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657B-A11F-4AC3-A2F4-B01BFAE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E58F-C810-45CA-9424-93AAE97C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CB66-929F-4629-B07F-76E4DD64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2824-FBB5-4EB2-A3CB-748C6352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A4836-E5F1-4EE1-8453-D58FE913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3338-23CF-47DE-BEA0-B54FB1FB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5D52-E9EB-4139-B2D3-1BCC385C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CFB03-0299-4C67-B64B-F52BEC15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821C-A2DD-44EA-BE37-6C62AD44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DB9-869E-4A87-9F1F-70B7394C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DEDDF-3463-4844-8DC6-3B6C329C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79F2-6ED3-4EA2-B865-B3A6EED1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4EEC-123D-4765-85BD-4A9C1C22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A0AE-0758-49FD-A050-30F3309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F4CBF-8118-410C-8EF8-4BA8B252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AEADF-AD6F-4417-84A1-45E3635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D674E-2D86-4FEC-8E9E-18EDC681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8C77-0A57-41CC-A64A-FCB1232B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4FCA-1149-4A7C-A02C-002102D8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6D74E-5823-4679-B3E1-E1063DB2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2AA-F8BA-4825-A09E-500D5963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054F9-7121-4E80-AE08-C14D5830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7A103-7B23-4593-9CF4-D4B6D6B6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064D2-B53B-42A5-9F5A-6E9B1450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0E2D8-CFDC-45DE-9030-E7A623C7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62D20-9DF0-4C5C-86CF-27DEBDB2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45365-A580-4F82-B154-D780D1DA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295D-7847-4CBE-8BC0-8DCE46DC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A311-3C6C-417E-9D18-AD610F44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26761-4FD2-46B5-BAD8-E1889618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47AE5-50A7-431C-8C46-D93FB4B7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95C-0B79-4AB7-9EDB-F7863D6A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0793D-CCD9-4B03-AB6D-0D694F7D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384DF-9630-4299-9986-D4BEAFB8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FCC71-C73A-4CDC-8C59-FEC11D7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0F38A-A7EB-4ACC-A1AE-395E198D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A027D-A2DA-482E-8F39-F5ACB48C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A2F2E-2FB8-4093-BD6B-A9B9D0A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27B95-BF90-49A4-A9C6-19D3CDAB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F4524-01A9-4DE2-A9C4-D4B1FAD3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C864-2BFA-45CB-9000-2ADC26D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A51FA-AB21-4E7D-AEAC-085798C8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C3D-42B2-4272-9309-96273473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D05FE-A8A8-4D4E-B7C5-A586BCDF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3B1F4-DBAB-40CB-962C-EC6D45C8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73919-0543-43F7-97CF-6B0E06DE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48E-9E97-448F-8F48-639841B5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D70-D097-41E1-B585-40E362ED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BD52-2096-4D6B-8F75-263028CAA3FB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5493-BF04-4191-B5D0-0709E157A58E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F2DF-B5D8-4722-A9E3-759520138A39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F403-A6F0-4F12-BC29-61C432CC1568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6877-6FB8-4C22-BA10-4D8F5B356095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F868-8747-41EF-952C-CC5BB24108DB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3.xml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Тренировочный тест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9. Укажите предложение, которое соответствует схеме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«П!» - а.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Знаки препинания расставлены частично)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4000" y="1483920"/>
            <a:ext cx="8291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приходил ко мне этот Шурка сказал директо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жар раздался внизу отчаянный кр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же ты не едешь спросил я ямщика с нетерпение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один раз отец говорил Жалко, что с нами нет ружь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Скругленный прямоугольник 4">
            <a:hlinkClick r:id="rId2" action="ppaction://hlinksldjump"/>
          </p:cNvPr>
          <p:cNvSpPr/>
          <p:nvPr/>
        </p:nvSpPr>
        <p:spPr>
          <a:xfrm>
            <a:off x="277164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Скругленный прямоугольник 5">
            <a:hlinkClick r:id="rId3" action="ppaction://hlinksldjump"/>
          </p:cNvPr>
          <p:cNvSpPr/>
          <p:nvPr/>
        </p:nvSpPr>
        <p:spPr>
          <a:xfrm>
            <a:off x="478800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Скругленный прямоугольник 6">
            <a:hlinkClick r:id="rId4" action="ppaction://hlinksldjump"/>
          </p:cNvPr>
          <p:cNvSpPr/>
          <p:nvPr/>
        </p:nvSpPr>
        <p:spPr>
          <a:xfrm>
            <a:off x="6875640" y="5445000"/>
            <a:ext cx="1584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11280" y="380520"/>
            <a:ext cx="568944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940360" y="292428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1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ь недовольно сказала – «К ученью надо готовиться, а ты в лесу пропадаеш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она, речка!» - Обрадовался Васю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н все про озеро какое-то толкует», - заговорил дед Афанас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альчик снова заговорил вслух: Ладно, не робей, найдем избушку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кругленный прямоугольник 3">
            <a:hlinkClick r:id="rId1" action="ppaction://hlinksldjump"/>
          </p:cNvPr>
          <p:cNvSpPr/>
          <p:nvPr/>
        </p:nvSpPr>
        <p:spPr>
          <a:xfrm>
            <a:off x="684360" y="5300640"/>
            <a:ext cx="143964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4">
            <a:hlinkClick r:id="rId2" action="ppaction://hlinksldjump"/>
          </p:cNvPr>
          <p:cNvSpPr/>
          <p:nvPr/>
        </p:nvSpPr>
        <p:spPr>
          <a:xfrm>
            <a:off x="262728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кругленный прямоугольник 5">
            <a:hlinkClick r:id="rId3" action="ppaction://hlinksldjump"/>
          </p:cNvPr>
          <p:cNvSpPr/>
          <p:nvPr/>
        </p:nvSpPr>
        <p:spPr>
          <a:xfrm>
            <a:off x="471636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Скругленный прямоугольник 6">
            <a:hlinkClick r:id="rId4" action="ppaction://hlinksldjump"/>
          </p:cNvPr>
          <p:cNvSpPr/>
          <p:nvPr/>
        </p:nvSpPr>
        <p:spPr>
          <a:xfrm>
            <a:off x="694836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11280" y="260280"/>
            <a:ext cx="63230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6012000" y="2997360"/>
            <a:ext cx="2606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10920" y="333360"/>
            <a:ext cx="5746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867280" y="3068640"/>
            <a:ext cx="2606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Правильно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4" descr="C:\Documents and Settings\Елена\Рабочий стол\солнце23.gif"/>
          <p:cNvPicPr/>
          <p:nvPr/>
        </p:nvPicPr>
        <p:blipFill>
          <a:blip r:embed="rId2"/>
          <a:stretch/>
        </p:blipFill>
        <p:spPr>
          <a:xfrm>
            <a:off x="3657600" y="3505320"/>
            <a:ext cx="28195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71280" y="1125360"/>
            <a:ext cx="7715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Не сдавайся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Пробуй ещё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39640" y="333360"/>
            <a:ext cx="1828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2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так строят дорогу-то в тайге» - назидательно заговорил молодой инженер Промой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орь сказал: «Ну, не жалеешь, что пришел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Я в жизни ничего подобного не слыхала», - говорила Рыжу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 что это с ней?» – с тревогой подумал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229360"/>
            <a:ext cx="165708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4">
            <a:hlinkClick r:id="rId2" action="ppaction://hlinksldjump"/>
          </p:cNvPr>
          <p:cNvSpPr/>
          <p:nvPr/>
        </p:nvSpPr>
        <p:spPr>
          <a:xfrm>
            <a:off x="2771640" y="5229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Скругленный прямоугольник 5">
            <a:hlinkClick r:id="rId3" action="ppaction://hlinksldjump"/>
          </p:cNvPr>
          <p:cNvSpPr/>
          <p:nvPr/>
        </p:nvSpPr>
        <p:spPr>
          <a:xfrm>
            <a:off x="4932360" y="522936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Скругленный прямоугольник 6">
            <a:hlinkClick r:id="rId4" action="ppaction://hlinksldjump"/>
          </p:cNvPr>
          <p:cNvSpPr/>
          <p:nvPr/>
        </p:nvSpPr>
        <p:spPr>
          <a:xfrm>
            <a:off x="6948360" y="5229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Замечательно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581280" y="3581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39640" y="-3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040" y="380520"/>
            <a:ext cx="4809960" cy="32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940360" y="335772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971280" y="1125360"/>
            <a:ext cx="7715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Не сдавайся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Пробуй ещё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838080" y="228600"/>
            <a:ext cx="1828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3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вно он пришел?» – кивнул Матвей на п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ья покачала головой, «И зачем же вот каждый день бродить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бушка у нас доктор Айболит»,  восторженно сказал Вов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какой у нас  ученый кот! - живо прокомментировал Вов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Скругленный прямоугольник 3">
            <a:hlinkClick r:id="rId1" action="ppaction://hlinksldjump"/>
          </p:cNvPr>
          <p:cNvSpPr/>
          <p:nvPr/>
        </p:nvSpPr>
        <p:spPr>
          <a:xfrm>
            <a:off x="2700360" y="508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Скругленный прямоугольник 4">
            <a:hlinkClick r:id="rId2" action="ppaction://hlinksldjump"/>
          </p:cNvPr>
          <p:cNvSpPr/>
          <p:nvPr/>
        </p:nvSpPr>
        <p:spPr>
          <a:xfrm>
            <a:off x="4788000" y="5084640"/>
            <a:ext cx="1800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Скругленный прямоугольник 5">
            <a:hlinkClick r:id="rId3" action="ppaction://hlinksldjump"/>
          </p:cNvPr>
          <p:cNvSpPr/>
          <p:nvPr/>
        </p:nvSpPr>
        <p:spPr>
          <a:xfrm>
            <a:off x="6875640" y="5084640"/>
            <a:ext cx="1800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Скругленный прямоугольник 6">
            <a:hlinkClick r:id="rId4" action="ppaction://hlinksldjump"/>
          </p:cNvPr>
          <p:cNvSpPr/>
          <p:nvPr/>
        </p:nvSpPr>
        <p:spPr>
          <a:xfrm>
            <a:off x="539640" y="508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Управляющая кнопка: домой 8"/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39640" y="-3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4920" y="549360"/>
            <a:ext cx="6769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40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C:\Documents and Settings\Елена\Рабочий стол\мышь-силачка.wmf"/>
          <p:cNvPicPr/>
          <p:nvPr/>
        </p:nvPicPr>
        <p:blipFill>
          <a:blip r:embed="rId1"/>
          <a:stretch/>
        </p:blipFill>
        <p:spPr>
          <a:xfrm>
            <a:off x="5796000" y="314172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94920" y="380880"/>
            <a:ext cx="8497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Восхитительно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Управляющая кнопка: домой 3">
            <a:hlinkClick r:id="" action="ppaction://hlinkshowjump?jump=endshow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4" descr="C:\Documents and Settings\Елена\Рабочий стол\солнце23.gif"/>
          <p:cNvPicPr/>
          <p:nvPr/>
        </p:nvPicPr>
        <p:blipFill>
          <a:blip r:embed="rId1"/>
          <a:stretch/>
        </p:blipFill>
        <p:spPr>
          <a:xfrm>
            <a:off x="3492360" y="3500280"/>
            <a:ext cx="281952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Управляющая кнопка: домой 8"/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C:\Documents and Settings\Елена\Рабочий стол\мышь-силачка.wmf"/>
          <p:cNvPicPr/>
          <p:nvPr/>
        </p:nvPicPr>
        <p:blipFill>
          <a:blip r:embed="rId1"/>
          <a:stretch/>
        </p:blipFill>
        <p:spPr>
          <a:xfrm>
            <a:off x="3413160" y="3457440"/>
            <a:ext cx="2606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-243360"/>
            <a:ext cx="8893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05640" indent="-279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вы! 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395280" y="476280"/>
            <a:ext cx="1946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4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Это еще что за зверь?» - сердито спросила злая волшеб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сливый Лев свирепо сказал: «Хоть я и трус,  а придется мне завтра померяться силами с Гудвино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де вы достали столько зеленого мрамора?» - спросила Эл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езный Дровосек закричал – «Приближается страшная гроза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516640"/>
            <a:ext cx="151272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">
            <a:hlinkClick r:id="rId2" action="ppaction://hlinksldjump"/>
          </p:cNvPr>
          <p:cNvSpPr/>
          <p:nvPr/>
        </p:nvSpPr>
        <p:spPr>
          <a:xfrm>
            <a:off x="2627280" y="5516640"/>
            <a:ext cx="15130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Скругленный прямоугольник 5">
            <a:hlinkClick r:id="rId3" action="ppaction://hlinksldjump"/>
          </p:cNvPr>
          <p:cNvSpPr/>
          <p:nvPr/>
        </p:nvSpPr>
        <p:spPr>
          <a:xfrm>
            <a:off x="4716360" y="551664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Скругленный прямоугольник 6">
            <a:hlinkClick r:id="rId4" action="ppaction://hlinksldjump"/>
          </p:cNvPr>
          <p:cNvSpPr/>
          <p:nvPr/>
        </p:nvSpPr>
        <p:spPr>
          <a:xfrm>
            <a:off x="6732720" y="551664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5. В каком предложении верно воспроизведена замена прямой речи косвенно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Arial"/>
              </a:rPr>
              <a:t>«Иванов Петр, ты решил эту задачу?» - громко спросил уч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громко спрашивал Иванова о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спросил Иванова Петра, ты решил эту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ванова Петра учитель спросил о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громко спросил Иванова Петра, решил ли он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Скругленный прямоугольник 3">
            <a:hlinkClick r:id="rId1" action="ppaction://hlinksldjump"/>
          </p:cNvPr>
          <p:cNvSpPr/>
          <p:nvPr/>
        </p:nvSpPr>
        <p:spPr>
          <a:xfrm>
            <a:off x="2627280" y="544500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Скругленный прямоугольник 4">
            <a:hlinkClick r:id="rId2" action="ppaction://hlinksldjump"/>
          </p:cNvPr>
          <p:cNvSpPr/>
          <p:nvPr/>
        </p:nvSpPr>
        <p:spPr>
          <a:xfrm>
            <a:off x="61128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Скругленный прямоугольник 5">
            <a:hlinkClick r:id="rId3" action="ppaction://hlinksldjump"/>
          </p:cNvPr>
          <p:cNvSpPr/>
          <p:nvPr/>
        </p:nvSpPr>
        <p:spPr>
          <a:xfrm>
            <a:off x="457200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Скругленный прямоугольник 6">
            <a:hlinkClick r:id="rId4" action="ppaction://hlinksldjump"/>
          </p:cNvPr>
          <p:cNvSpPr/>
          <p:nvPr/>
        </p:nvSpPr>
        <p:spPr>
          <a:xfrm>
            <a:off x="665964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6. В каком предложении прямая речь оформлена правильно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95280" y="1268280"/>
            <a:ext cx="8507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ного воды утекло с тех памятных событий» - с грустью добавил ветер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чики знали здесь каждый кустик, поэтому предложили Давайте мы вам покажем секретную троп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Что бы это могло быть?» - размышлял Серге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ибуны стадиона кричали  в едином порыве: «Гол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Скругленный прямоугольник 3">
            <a:hlinkClick r:id="rId1" action="ppaction://hlinksldjump"/>
          </p:cNvPr>
          <p:cNvSpPr/>
          <p:nvPr/>
        </p:nvSpPr>
        <p:spPr>
          <a:xfrm>
            <a:off x="53964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Скругленный прямоугольник 4">
            <a:hlinkClick r:id="rId2" action="ppaction://hlinksldjump"/>
          </p:cNvPr>
          <p:cNvSpPr/>
          <p:nvPr/>
        </p:nvSpPr>
        <p:spPr>
          <a:xfrm>
            <a:off x="457200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Скругленный прямоугольник 5">
            <a:hlinkClick r:id="rId3" action="ppaction://hlinksldjump"/>
          </p:cNvPr>
          <p:cNvSpPr/>
          <p:nvPr/>
        </p:nvSpPr>
        <p:spPr>
          <a:xfrm>
            <a:off x="262728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Скругленный прямоугольник 6">
            <a:hlinkClick r:id="rId4" action="ppaction://hlinksldjump"/>
          </p:cNvPr>
          <p:cNvSpPr/>
          <p:nvPr/>
        </p:nvSpPr>
        <p:spPr>
          <a:xfrm>
            <a:off x="665964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7. Отметьте предложение с ошибкой в пунктуационном оформлении прямой реч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3280" y="1197000"/>
            <a:ext cx="8640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ного еще мешков грузить?!» – раздраженно проговорил Степаны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двигается шторм, надо предупредить команду и подготовить корабль» - сказал капитан старп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.Н.Петров заявил: «Нам придется немедленно заняться расследование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 с чувством прочитал: «Ветер! Ветер! Ты могуч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Скругленный прямоугольник 3">
            <a:hlinkClick r:id="rId1" action="ppaction://hlinksldjump"/>
          </p:cNvPr>
          <p:cNvSpPr/>
          <p:nvPr/>
        </p:nvSpPr>
        <p:spPr>
          <a:xfrm>
            <a:off x="468360" y="5516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Скругленный прямоугольник 4">
            <a:hlinkClick r:id="rId2" action="ppaction://hlinksldjump"/>
          </p:cNvPr>
          <p:cNvSpPr/>
          <p:nvPr/>
        </p:nvSpPr>
        <p:spPr>
          <a:xfrm>
            <a:off x="4859280" y="551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Скругленный прямоугольник 5">
            <a:hlinkClick r:id="rId3" action="ppaction://hlinksldjump"/>
          </p:cNvPr>
          <p:cNvSpPr/>
          <p:nvPr/>
        </p:nvSpPr>
        <p:spPr>
          <a:xfrm>
            <a:off x="7020000" y="551664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Скругленный прямоугольник 6">
            <a:hlinkClick r:id="rId4" action="ppaction://hlinksldjump"/>
          </p:cNvPr>
          <p:cNvSpPr/>
          <p:nvPr/>
        </p:nvSpPr>
        <p:spPr>
          <a:xfrm>
            <a:off x="2700360" y="551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8. В каком предложении с прямой речью допущена ошибка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 строительстве разве расскажешь в двух словах!» - восторженно сказал Ва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стунов реши обратиться к библиотекарю: «Помогите мне, пожалуйста, найти эту книг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ка обиженно спросила: «А почему я должна простить тебя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ни всегда уходят в одно время», - Добавил свиде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30064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4">
            <a:hlinkClick r:id="rId2" action="ppaction://hlinksldjump"/>
          </p:cNvPr>
          <p:cNvSpPr/>
          <p:nvPr/>
        </p:nvSpPr>
        <p:spPr>
          <a:xfrm>
            <a:off x="2700360" y="530064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5">
            <a:hlinkClick r:id="rId3" action="ppaction://hlinksldjump"/>
          </p:cNvPr>
          <p:cNvSpPr/>
          <p:nvPr/>
        </p:nvSpPr>
        <p:spPr>
          <a:xfrm>
            <a:off x="4859280" y="5300640"/>
            <a:ext cx="151308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Скругленный прямоугольник 6">
            <a:hlinkClick r:id="rId4" action="ppaction://hlinksldjump"/>
          </p:cNvPr>
          <p:cNvSpPr/>
          <p:nvPr/>
        </p:nvSpPr>
        <p:spPr>
          <a:xfrm>
            <a:off x="6875640" y="530064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Adel</cp:lastModifiedBy>
  <dcterms:modified xsi:type="dcterms:W3CDTF">2011-03-12T16:34:30Z</dcterms:modified>
  <cp:revision>114</cp:revision>
  <dc:subject/>
  <dc:title>Слайд 1</dc:title>
</cp:coreProperties>
</file>