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FE2-38BC-4FC5-8D6E-BFC6EDF0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B72-1B52-4499-A75B-B4620819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BB5-AD14-4158-97DF-05759A5E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D7C-D846-40E5-ABFE-C21F885B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D157-80C3-4766-9960-9E8B60EB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4C9E-A85C-41B0-9679-C66FC57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C6B9-97D1-412B-A719-167759B6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EABC-2365-4EB9-ADB9-43C7EA27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F470-B3C4-4BDE-83F3-ECC833A7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876A-CDCF-4177-81E4-031D6236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5909-DEA3-43FB-AAB9-5DF5AB2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4B6-98F8-4042-8F94-D696FE00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1CCA-A305-443D-AE7C-C8CCA77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5601-D8C4-46FB-808B-B6D27F8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1060-DF70-485C-B551-919A8897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C67-F6A8-4189-B71D-B6E2D0E1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D974-AE51-44A1-A339-52AC1C81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4715-2944-4665-8695-1E387A43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262B-E093-490F-B858-A71C3AEB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A15A-F8D5-4962-A333-78EEEF99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E7B5-8785-4E81-A5CA-CA78BB8A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A1DA-8370-4ACE-8E4B-A2B4544A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953-F360-4210-87C3-74534ED8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F41D-82C3-49A7-890C-8A5420A2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7044-2AE9-4D21-8CBC-C7628F9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42D6-D2D9-40E5-8BA5-18B76483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9D10-B37C-465D-BC24-F9A65B0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62AB-CE9C-4A63-A6EA-6F406789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73A2-2D19-4300-BC1A-E3CA40B8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EC60C-7DFE-40A5-89B6-547A7818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035F-CC5D-453B-B19A-50D08F13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ED3E6-8239-41D2-9330-DE580D4D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FA5AB-8E47-489F-B1D1-5AAB2E4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17F-C17B-420C-BEDD-175C255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9299-68ED-4003-A8FA-B897C97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9AAA-3381-4D15-A370-46E3D806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01D6-1293-4067-859C-C5C6C04A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4793-A91A-4703-9A67-4BC4DC6B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4F1F-6DCA-4AC3-BD76-324577C2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C282-FEFF-41D3-9E74-77B0959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B7BD-BF3D-4524-8841-496504E9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2F54-270D-49A9-8359-B569586C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C6CE-45BC-49A5-B853-16F34328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CD58C-6C4A-4E06-8230-A0973E44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5E9-22B9-43EA-ACEB-C2ACACA8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5F1C-1A0C-46D3-BEDE-A3A4871E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A186-7FE3-4766-A120-4FBD35DA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87ACB-E849-4CD9-95E3-CDF8C514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1D19-BD51-4270-BB98-6D9E361D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733A-FD09-4B7E-9C90-FBE609B0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52052-E30D-4DA2-BFAD-8C96A00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16DD6-03F2-4BF4-B0F1-6DA8D777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80B7-8E81-4E77-B938-4A5BEE9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3F1AE-6DE4-484E-AC40-FB7745CC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BB95-71FF-4AA5-BE4C-EFAAB53F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E3D-D898-4BC4-8D8B-6479AE03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B32CA-C6D9-4BE1-BD34-737A3579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4DC8C-C45E-4FEE-AF87-7FD682F3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32C9-26C0-4B2D-88DA-18883E5F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311DF-DB89-4C41-B87A-DB200DD4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63B10-4749-4D5E-8161-F448D39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BCF83-0C73-45C2-957C-E271BF45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B9A9-73AD-457C-958E-95EF3C11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ED89A-80F4-49F5-B181-CCFC371B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F32A-3D16-4FA7-8E01-88F27ED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FDE8-BE72-41AF-A01D-E075B7A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59D-F122-4836-B635-F84EC756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C3DD-5F07-4521-8D76-C0FEF0B6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121D-4901-4DF1-BC58-700FAF33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D07B-FFFB-46EF-80A4-61EEB8BA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44F-E7EB-484E-9CC4-9AE769A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AD0-C8DD-4959-B060-B810EE3C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6F3D-0030-44E5-8EDB-13848681C38B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891-B6E9-4A88-BA05-BB7B99337F58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A73A-1851-474F-886A-75EB54CB8831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E70E-B84E-4724-8B00-B0E8FEAB89C7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E44D-2867-4163-B9C4-3374ECF4F342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4200-DDA3-46FD-A15C-F451A05ACA9F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Контроль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9. В каком предложении прямая речь оформлена правильно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0920" y="160020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Здесь, полагаю,  засели казаки, - сказал Чапаев, указывая на реку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Не выдумывайте, пожалуйста!», - твердо и с каким-то естественным спокойствием заявил мальчик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Расскажите свою биографию, Артем», - услыхал слесарь голос Сиротенк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дя переднюю, Чичиков покрутил носом и сказал Петрушке - «Ты бы, по крайней мере, хоть окна отпе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1052280"/>
            <a:ext cx="7991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П», -а.     А: «П!»    «П», - а.      А: «П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1. В каком из предложений пропущены знаки препинания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его это он?» - снова подумал Ослик и вошел в д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Если у тебя будут клыки, то тебя все станут бояться - сказала Звезд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айку пр-р-ришел попить», - прохрипел Ос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вежонок закричал: «Я только на прошлой неделе подарил тебе самова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Расставьте знаки препинания и запишите схемы предложен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Не слишком подходящее место для необыкновенного цветк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умался Шух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ера Сергеевна, когда меня увидела, всплеснула руками и говорит 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Ох! Настоящий кот в сапогах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Странный вечер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умал Митя и споткнулся о коч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ктант закончился и Татьяна Евгеньевна сказала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Проверьте, что вы написали и сдайте тетрад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ак ты пойдешь за мной повсюду?» - говорил он ей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дался чей-то голос: «к вам можно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а не плакала, а только твердила – «О мой друг! О мой брат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едь это все-таки мой дом! - думала он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Где же город?» - подумал Кузь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Балда приговаривал с укоризной: «Не гонялся бы ты, поп, за дешевизной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конец я ей сказал: «Хочешь, пойдем прогуляться на ва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жар! Пожар!» : Раздался внизу отчаянный кр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5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то же ты не едешь?» - Спросил я ямщика с нетерп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ет, дело не ладно: надо достать лодку», - промолвил Ермол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ой, братцы, стой» - кричит Марты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н приедет завтра вечером, его надо встретить» - добавил Мака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6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енщина или девушка на велосипеде – это ужасно» - говорил Бел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не кажется, как будто эта каша обыкновенно немного пригорела», - говаривал Афанасий Иван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чем вы повязаны платком?» - спросил я Влади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авненько я не брал в руки шашек», - говорил Чичиков, подвигая тоже шаш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7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Arial"/>
              </a:rPr>
              <a:t>«Отец надеется на Вашу скромность и порядочное поведение», - сказала Маша, обратившись к учител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  о скромности и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, отец надеется на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ю Маша сказала о скромности и порядочном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вшись к учителю, Маша сказала, что отец надеется на его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8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неужели отец не догадался, что Белла у вас в крепости» - продолж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ляр впадал в добродушный тон, подзывал к себе Каштанку и говорил ей: «Ты, Каштанка, насекомое существо и больше ничег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-то далеко-далеко слышны человеческие голоса: «Какой у него пуль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ще тише отвечал другой голос, женский - «Пульс у него сто тридцать восемь. Температура тридцать девять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ученик</cp:lastModifiedBy>
  <dcterms:modified xsi:type="dcterms:W3CDTF">2011-01-28T16:38:13Z</dcterms:modified>
  <cp:revision>103</cp:revision>
  <dc:subject/>
  <dc:title>Слайд 1</dc:title>
</cp:coreProperties>
</file>