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788-78E8-4A71-A969-41BA012A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B87-E456-42DB-B5F3-45277D42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2F4-3BA5-47A8-ABAF-45743E52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A6D-271A-4575-92A6-C0F0EB91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15AD-95D2-4672-B570-716BFBBB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CA89-D350-440A-8191-E840F4AF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4DF4-4064-4717-A323-B774E73A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24D5-722C-41CA-A885-15D4E040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C528-4ED0-4598-B0BD-576C9401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25FA-8C32-4871-9829-C4287056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8437-45C3-4195-A8B0-2C0E118D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C3F-993B-4452-B443-96F45DF3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5C1A-2C91-46ED-AF68-F4A49E95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50FE-E135-4A66-A6E2-933819FC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584B-C320-4E5B-A32D-A882B0F3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D0F2-C360-4745-816E-D2F2CCD2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0BC3-1A26-4DEA-BD0D-3016A340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AADF1-9D24-4D5D-95CF-4B558963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5F54F-8A4D-43FC-A6F2-BACFCCDE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A60C6-36DF-40B7-A71B-36DF2AD1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D4E22-0353-493D-BFF5-CEC6BCD1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61339-D99C-4288-87C8-3F449A21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6FC-FA67-49CA-967F-4C7145F4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A3A86-B747-4969-BFF4-C3BFD538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02E67-563A-499C-AA87-9E3EB0B8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93EFC-D2C1-452E-A848-9512BADF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85831-04E3-409C-A4AD-8B9F9461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EB1AA-112E-4FA6-80F3-97F75832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AF297-A72B-4805-BF36-47019261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FB01A-1624-4907-98FE-A79C91E7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2B122-17B4-4D4C-9849-D86DB601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494F6-A65F-49D8-8CDA-ED2736EC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8A4E6-68F2-4B46-AFB1-6F689505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9E09-14C6-4314-9EE9-55219312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0241E-6ECC-48B7-8CA6-22CA197C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8B8BF-8138-4EEF-A301-4AB72652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CCA5B-8843-491C-BB09-56F8798F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90A00-E34D-467D-BE18-8C5E399D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64ABF-1610-499D-BF92-AA4C8F73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31DA6-74A5-4CCB-8D6D-4F048F1C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A6D84-7F58-43E1-979C-808798E2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5E00C-0055-4351-9E62-A839CBC3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D9F27-E8DD-4584-8ECF-EEDB0902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6BFD9-C867-4B26-A49B-A425578A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834-5233-4116-9E16-4B4654E7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F948F-4195-4C61-A8EB-7FF34A4F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745AC-867B-4597-863F-EFEB3F41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2347C-6740-416B-AD1E-B9F6FDE4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E2D24-CFB9-466E-A4C5-30374B2E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84DCD-401E-4C0D-9DE7-C978D1D6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657CF-A3C9-4115-A0C5-4C45B35B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3BC7C-F340-4F6D-9208-3465B78C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BA91E-E844-4AE6-9B1F-8EFC93F5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2C7E6-90FE-42AD-8FEC-6BF45AA0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EFDD1-D58A-4828-A78B-767FF4C3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DAE-4DB4-4FC5-A8E8-5B6750AD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183C4-D585-4673-A93D-5A50FB02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77DC8-B0EF-433F-A5D8-3EDDAB3F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630F8-A145-4DFA-95C9-3C26E2F1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F921E-0F7F-4205-B113-C8BC68FF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7A431-D7A8-4A05-B511-DB0C90D6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8CD22-CBB6-4B6C-AAB3-84CE19D7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3E809-2F03-457D-B26B-2726284A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4DDF9-E0B8-4537-9702-93AE94C9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7201E-3DAB-41FB-92FB-6A9D636A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DC5EA-470C-4BE4-936C-3FB533D7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CD3-BF4B-4FD5-A635-FDD543B7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BA2D3-6696-423F-B5E3-91B482FE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FD45F-97A0-4A61-8BB9-BE9508C5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93C47-755C-4AE3-A2E4-427CA7B8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ABCAE-6071-4E66-A243-92046C2B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DE857-15EC-47E2-AAAB-0B5B8B5F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0D1BD-64CF-4676-A51D-E693F344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48569-2A42-4C55-8874-7A725114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24153-72D5-483D-AFB1-76B00307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24A66-9A48-4023-859C-92250831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2DF09-A2A3-42C5-B11A-5FC3F5E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979-99F9-41B7-AB06-62731A82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430E5-6ED2-4244-8BCE-62967E3B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98EDD-44C2-4D2E-92D4-637510F3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F4B25-8D80-4A50-9884-FBBDC617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03BC0-DB86-46ED-82FF-1D52CED8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BED40-88A8-4E8A-9A7F-51CF9454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D09-288A-4C16-8D3C-A2A845EA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D2E4-BAA8-44D4-A710-E12F752A466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95AC-BD81-4EAB-BBA9-CB9EB37C048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C6DC-4A67-4E3B-98FD-4C15C5DD90D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5A7F-872C-49E5-A28E-7308A67305D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1D4A-40B6-46F9-AE47-10944C3FCF3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A8B4-40FB-4B29-B0FC-63C2823AB48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9430-D7E8-44A7-AD09-CB8E35A6D41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60;&#1072;&#1081;&#1083;:Dragunskii0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66"/>
                </a:solidFill>
                <a:latin typeface="Century Schoolbook"/>
              </a:rPr>
              <a:t>Виктор   Юзефович  Драгунский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Century Schoolbook"/>
              </a:rPr>
              <a:t>«Одна  капля  убивает  лошадь»</a:t>
            </a:r>
            <a:endParaRPr b="0" lang="en-US" sz="44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Составила   учитель   начальных   классов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МОУ   Лицей№52</a:t>
            </a:r>
            <a:r>
              <a:rPr b="1" lang="en-US" sz="2400" spc="-1" strike="noStrike">
                <a:solidFill>
                  <a:srgbClr val="424456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г. Уф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Мамонтова  О.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иктор   Драгунский   родился 30/11  1913г. в   г. Нью – Йорке в   семье   эмигрантов, но   в  1925 г. переехал   в  Москву. Работал   актёром, сыграл   несколько   ролей   в   кино. Во   время   ВОВ служил  в   ополчении. Виктор Драгунский умер в 1972 году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исателя похоронил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Москв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916520" y="1904760"/>
            <a:ext cx="3929040" cy="4190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Dragunskii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700280"/>
            <a:ext cx="3632400" cy="4464000"/>
          </a:xfrm>
          <a:prstGeom prst="rect">
            <a:avLst/>
          </a:prstGeom>
          <a:ln w="0">
            <a:noFill/>
          </a:ln>
        </p:spPr>
      </p:pic>
      <p:sp>
        <p:nvSpPr>
          <p:cNvPr id="382" name="WordArt 11"/>
          <p:cNvSpPr txBox="1"/>
          <p:nvPr/>
        </p:nvSpPr>
        <p:spPr>
          <a:xfrm>
            <a:off x="1835280" y="549360"/>
            <a:ext cx="547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ография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3927600" cy="4190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  1959  года  пишет   весёлые   рассказы  про   Дениса   Кораблёва – «Денискины  рассказы». Героя   смешных   историй автор   назвал   в   честь   сына. Все   знают   эти  истори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По  секрету  всему  свету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Капитан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Пожар   во   флигеле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Девочка на   шаре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Заколдованная  буква»  и  др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6438960" y="2247840"/>
            <a:ext cx="885600" cy="1333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390760" cy="2595600"/>
          </a:xfrm>
          <a:prstGeom prst="rect">
            <a:avLst/>
          </a:prstGeom>
          <a:ln w="0">
            <a:noFill/>
          </a:ln>
        </p:spPr>
      </p:pic>
      <p:sp>
        <p:nvSpPr>
          <p:cNvPr id="387" name="WordArt 8"/>
          <p:cNvSpPr txBox="1"/>
          <p:nvPr/>
        </p:nvSpPr>
        <p:spPr>
          <a:xfrm>
            <a:off x="1332000" y="260280"/>
            <a:ext cx="6335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ёлые   рассказы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3300"/>
              </a:solidFill>
              <a:latin typeface="Century Schoolbook"/>
            </a:endParaRPr>
          </a:p>
        </p:txBody>
      </p:sp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24000" cy="3097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5985000" y="1905120"/>
            <a:ext cx="1793880" cy="2019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2948040" cy="3213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"/>
          <p:cNvPicPr/>
          <p:nvPr/>
        </p:nvPicPr>
        <p:blipFill>
          <a:blip r:embed="rId4"/>
          <a:stretch/>
        </p:blipFill>
        <p:spPr>
          <a:xfrm>
            <a:off x="4716360" y="3645000"/>
            <a:ext cx="2454480" cy="2997000"/>
          </a:xfrm>
          <a:prstGeom prst="rect">
            <a:avLst/>
          </a:prstGeom>
          <a:ln w="0">
            <a:noFill/>
          </a:ln>
        </p:spPr>
      </p:pic>
      <p:sp>
        <p:nvSpPr>
          <p:cNvPr id="393" name="WordArt 11"/>
          <p:cNvSpPr txBox="1"/>
          <p:nvPr/>
        </p:nvSpPr>
        <p:spPr>
          <a:xfrm>
            <a:off x="1476360" y="333360"/>
            <a:ext cx="676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юбимые   книг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a50021"/>
                </a:solidFill>
                <a:latin typeface="Century Schoolbook"/>
              </a:rPr>
              <a:t>Объясни</a:t>
            </a:r>
            <a:r>
              <a:rPr b="0" i="1" lang="ru-RU" sz="4800" spc="-1" strike="noStrike">
                <a:solidFill>
                  <a:srgbClr val="a50021"/>
                </a:solidFill>
                <a:latin typeface="Century Schoolbook"/>
              </a:rPr>
              <a:t>  </a:t>
            </a:r>
            <a:r>
              <a:rPr b="0" i="1" lang="ru-RU" sz="6000" spc="-1" strike="noStrike">
                <a:solidFill>
                  <a:srgbClr val="a50021"/>
                </a:solidFill>
                <a:latin typeface="Century Schoolbook"/>
              </a:rPr>
              <a:t>слова</a:t>
            </a:r>
            <a:endParaRPr b="0" lang="en-US" sz="6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Никотин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яд, содержащийся  в  табак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Папиросы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гильза из папиросной бумаги, в которую засыпан измельчённый табак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Захудалый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слабый, истощенный, хилый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Портсигар –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лоский   футляр, коробочка для переноски сигар , сигарет  или папирос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«Казбек» –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ершина  Кавказа; здесь: сорт  папирос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Мундштук -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вердая, свободная от табака часть папиросной гильзы, которую при курении берут в ро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WordArt 5"/>
          <p:cNvSpPr txBox="1"/>
          <p:nvPr/>
        </p:nvSpPr>
        <p:spPr>
          <a:xfrm>
            <a:off x="1908000" y="189000"/>
            <a:ext cx="52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Century Schoolbook"/>
              </a:rPr>
              <a:t>Вопросы   к   тексту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b9aaf8"/>
              </a:gs>
              <a:gs pos="100000">
                <a:srgbClr val="eff9f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 напугало  Дениса  в  словах  доктора  и  мам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 возмутило  мальчика  в  поведении  тети  Тамар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   Почему  мальчик  ругался  про  себя, а  не  вслух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  Зачем  Денис  испортил  папиросы  отц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авильно  ли  поступили  папа  и  гости, смеясь  над  Денисом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идно,  папа  ничего  не  понял.»  Что  он  должен  был  поня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 тебе  понравился  в  этом  рассказ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 кто  не  понравился?  Почем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3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Century Schoolbook"/>
              </a:rPr>
              <a:t>Задание   на   дом</a:t>
            </a:r>
            <a:r>
              <a:rPr b="0" lang="ru-RU" sz="4000" spc="-1" strike="noStrike">
                <a:solidFill>
                  <a:srgbClr val="424456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Напиши  речь  о  вреде  курения. Какие   аргументы  ты  приведешь?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жешь  проиллюстрировать  свою  речь   рисунком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0:51:26Z</dcterms:created>
  <dc:creator>Admin</dc:creator>
  <dc:description/>
  <dc:language>en-US</dc:language>
  <cp:lastModifiedBy>User</cp:lastModifiedBy>
  <dcterms:modified xsi:type="dcterms:W3CDTF">2011-10-12T12:23:21Z</dcterms:modified>
  <cp:revision>21</cp:revision>
  <dc:subject/>
  <dc:title>Слайд 1</dc:title>
</cp:coreProperties>
</file>