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F62-6AEC-47CC-82DA-46EB8C1F8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646F-4C0C-4C67-BB52-E67722AB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E05-3B55-4EFE-B409-5C7E438CC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46A-3CE0-4E4C-8293-DD0E5EF8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31A8-65A1-4CD1-B06E-D2A2CB324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B233-7466-4F49-B89A-5A1D2AC3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96E8-83E5-4F51-8D6B-43D8A092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9356-96CD-45F3-84A1-ED7D4B2B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7FC6-C863-4C64-A841-8A0F2016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0BD6-56D8-4EBB-9E62-10ABE076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2FB8-D187-4602-BBAE-69B21EF2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2CDC-794F-4E9D-B023-D6AFE82C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32A8-B416-4405-AF96-6834A8CE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D61B5-6EDE-468C-B141-1E0BFEED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78DB-673F-4334-A005-11FA1BCD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4E48-3C95-46B2-ACE0-A35CB3E3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B5BB-4958-4CD3-9B79-069007BE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54AA0-06A8-44D2-A7E1-496864FF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AEE72-0D83-4D5F-8218-A43ADA76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D0D89D-D292-4D0F-B95C-76A1A6BA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9B870-6503-4D8B-BCD4-14069729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40B35-74DC-4DAF-A135-1E477D38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370-82B2-4767-9F38-51FA31BF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90626-79AC-4AA7-97AA-F6805D8E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9EF26-BF91-4FEF-8DF0-8979C9AF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0A809-02D4-4759-A217-7AE47289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0C1C2-8C25-48A0-A5FD-2D0A6B0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62A3E-9258-47F9-8431-5141F811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D5221-BAA7-4D36-BFA5-A7B4D49C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99F6AC-7D68-4E83-8FEB-97BBD7CB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9E5B0-098B-48B2-8304-8235A9AC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A06E7-E1AE-43CC-BAF0-B45F3982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FE0E-2515-446F-9C6A-F9D38933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E965-754D-4A7E-8B49-AC153AEB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3AC6B-0BFC-4028-B67A-0812A45C8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8BD44-9528-4A29-BBB6-A8E24931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6FE46-E7DB-4ABF-9E74-1A690F51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2C650-D5A5-492C-96F0-C4B7DFA4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836FF-4556-44C5-8015-06A8A56C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5B1E1-1A3E-43DC-8BDF-E2A020E65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A73A0-B70B-4DB6-A1E3-E4C436DC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D5A6E-2B69-4C66-90DC-EC1CF6327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B4A7B-2FE3-40BC-B7E1-E795A2E1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10A35-CEEB-43D3-AAED-9EEE8E38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4BF-8FB3-4763-B518-A8616CF8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186D5-41CD-45A4-B3F0-DA8752F6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98D7F-BE4C-46B9-BE4C-FB794B48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F8769-2FE8-4D81-98D3-4A2DAC78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9F0E-6EB9-4E20-82A6-C4FF0BC8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46E46-B957-475B-8F92-ED7076B1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F2A0D-FA14-4DBC-A55D-0AFD25A4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F744-27B2-447C-A55F-D8AC41B2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6074E-0C76-48E2-A776-C019A66D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82217-3F12-4805-87CF-3BCADC9E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E3FF5-24FB-42F0-8C25-260463F2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D36A-BFEF-4418-ACAD-10471DB7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4F3BA-2212-46C9-9733-94FD0AD81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7A77A-1723-4DCF-B08A-31A6BCEB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6E683-3162-4122-B718-EA49ACEE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E2A64-1FC0-41C6-BDF5-1BC9412D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7C0A-1946-4A76-97B9-2E93C59D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9BAF0-231E-4E55-9DAE-10115278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73CEF-17A8-4900-9094-21B12E45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C07B-AC46-45EF-BA66-F8D8044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74848-4F9D-4137-926B-6516040D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F23A1-4A6D-459F-B11C-52DFB9DB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47B-4484-423A-8E4E-D85EEAE2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60F70-713B-4D03-820A-CB6FFA43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07976-B1BC-4E73-A21C-FCA1ADA6A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6CE27-0AE5-4326-8060-0198EB3C6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EC67C-C508-4D7E-B198-2A5FC15B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EEC3B-9265-43EF-B0F9-C1A6061A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E28CC-9650-49C4-9750-E0B8D5FB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84FC9-C48A-4BD9-96C6-B974C990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6328D-752D-42DF-B541-C1FD661AF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0AF22D-5BD6-4660-A0AA-633BBA0D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B3C9A-7DFD-4BDA-BCAF-F5CBFD1E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4AE1-CF0E-42DF-B121-64009F15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D9DB5-D6E0-4E87-ACFF-8D06F02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DA184-6BB6-47C3-8647-E6D7DD39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5EBDF-34C6-48DD-874F-FA786D86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3E082-08DE-47AC-94FC-53F2015A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2D33-AD84-414D-B173-0402457B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69E-D365-41CF-8E88-71D6C48C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E811-304E-47B7-8E9A-7A9B5324AD7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C806-8470-416B-81F9-387BE67B252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CDC3-D217-4C69-8ABD-312BCAD260E1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DE61-2C6A-4487-9C39-1F77CCFBD8A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B79-3C8D-49D4-B254-224B8CCFE30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4475-288F-4A40-B302-19CC7413B12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Century Schoolbook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B82F-85FB-4B68-AB67-B77AC0AF705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&#1060;&#1072;&#1081;&#1083;:Dragunskii0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66"/>
                </a:solidFill>
                <a:latin typeface="Century Schoolbook"/>
              </a:rPr>
              <a:t>Виктор   Юзефович  Драгунский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Century Schoolbook"/>
              </a:rPr>
              <a:t>«Одна  капля  убивает  лошадь»</a:t>
            </a:r>
            <a:endParaRPr b="0" lang="en-US" sz="44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Составила   учитель   начальных   классов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ОУ   Лицей№52</a:t>
            </a:r>
            <a:r>
              <a:rPr b="1" lang="en-US" sz="2400" spc="-1" strike="noStrike">
                <a:solidFill>
                  <a:srgbClr val="424456"/>
                </a:solidFill>
                <a:latin typeface="Century Schoolbook"/>
              </a:rPr>
              <a:t> 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г. Уф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  </a:t>
            </a:r>
            <a:r>
              <a:rPr b="1" lang="ru-RU" sz="2400" spc="-1" strike="noStrike">
                <a:solidFill>
                  <a:srgbClr val="424456"/>
                </a:solidFill>
                <a:latin typeface="Century Schoolbook"/>
              </a:rPr>
              <a:t>Мамонтова  О.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42445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иктор   Драгунский   родился 30/11  1913г. в   г. Нью – Йорке в   семье   эмигрантов, но   в  1925 г. переехал   в  Москву. Работал   актёром, сыграл   несколько   ролей   в   кино. Во   время   ВОВ служил  в   ополчении. Виктор Драгунский умер в 1972 году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исателя похоронил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 Москв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916520" y="1904760"/>
            <a:ext cx="3929040" cy="4190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Dragunskii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700280"/>
            <a:ext cx="3632400" cy="4464000"/>
          </a:xfrm>
          <a:prstGeom prst="rect">
            <a:avLst/>
          </a:prstGeom>
          <a:ln w="0">
            <a:noFill/>
          </a:ln>
        </p:spPr>
      </p:pic>
      <p:sp>
        <p:nvSpPr>
          <p:cNvPr id="382" name="WordArt 11"/>
          <p:cNvSpPr txBox="1"/>
          <p:nvPr/>
        </p:nvSpPr>
        <p:spPr>
          <a:xfrm>
            <a:off x="1835280" y="549360"/>
            <a:ext cx="54734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иография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26920" y="1915920"/>
            <a:ext cx="3927600" cy="41907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  1959  года  пишет   весёлые   рассказы  про   Дениса   Кораблёва – «Денискины  рассказы». Героя   смешных   историй автор   назвал   в   честь   сына. Все   знают   эти  истории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  секрету  всему  свету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Капитан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Пожар   во   флигел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Девочка на   шаре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«Заколдованная  буква»  и  др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6438960" y="2247840"/>
            <a:ext cx="885600" cy="13334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2"/>
          <a:stretch/>
        </p:blipFill>
        <p:spPr>
          <a:xfrm>
            <a:off x="5003640" y="4076640"/>
            <a:ext cx="2390760" cy="2595600"/>
          </a:xfrm>
          <a:prstGeom prst="rect">
            <a:avLst/>
          </a:prstGeom>
          <a:ln w="0">
            <a:noFill/>
          </a:ln>
        </p:spPr>
      </p:pic>
      <p:sp>
        <p:nvSpPr>
          <p:cNvPr id="387" name="WordArt 8"/>
          <p:cNvSpPr txBox="1"/>
          <p:nvPr/>
        </p:nvSpPr>
        <p:spPr>
          <a:xfrm>
            <a:off x="1332000" y="260280"/>
            <a:ext cx="6335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3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сёлые   рассказы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3300"/>
              </a:solidFill>
              <a:latin typeface="Century Schoolbook"/>
            </a:endParaRPr>
          </a:p>
        </p:txBody>
      </p:sp>
      <p:pic>
        <p:nvPicPr>
          <p:cNvPr id="389" name="Picture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024000" cy="3097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2"/>
          <a:stretch/>
        </p:blipFill>
        <p:spPr>
          <a:xfrm>
            <a:off x="5985000" y="1905120"/>
            <a:ext cx="1793880" cy="2019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2948040" cy="32130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"/>
          <p:cNvPicPr/>
          <p:nvPr/>
        </p:nvPicPr>
        <p:blipFill>
          <a:blip r:embed="rId4"/>
          <a:stretch/>
        </p:blipFill>
        <p:spPr>
          <a:xfrm>
            <a:off x="4716360" y="3645000"/>
            <a:ext cx="2454480" cy="2997000"/>
          </a:xfrm>
          <a:prstGeom prst="rect">
            <a:avLst/>
          </a:prstGeom>
          <a:ln w="0">
            <a:noFill/>
          </a:ln>
        </p:spPr>
      </p:pic>
      <p:sp>
        <p:nvSpPr>
          <p:cNvPr id="393" name="WordArt 11"/>
          <p:cNvSpPr txBox="1"/>
          <p:nvPr/>
        </p:nvSpPr>
        <p:spPr>
          <a:xfrm>
            <a:off x="1476360" y="333360"/>
            <a:ext cx="6767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Любимые   книг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Объясни</a:t>
            </a:r>
            <a:r>
              <a:rPr b="0" i="1" lang="ru-RU" sz="4800" spc="-1" strike="noStrike">
                <a:solidFill>
                  <a:srgbClr val="a50021"/>
                </a:solidFill>
                <a:latin typeface="Century Schoolbook"/>
              </a:rPr>
              <a:t>  </a:t>
            </a:r>
            <a:r>
              <a:rPr b="0" i="1" lang="ru-RU" sz="6000" spc="-1" strike="noStrike">
                <a:solidFill>
                  <a:srgbClr val="a50021"/>
                </a:solidFill>
                <a:latin typeface="Century Schoolbook"/>
              </a:rPr>
              <a:t>слова</a:t>
            </a:r>
            <a:endParaRPr b="0" lang="en-US" sz="6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Никотин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яд, содержащийся  в  табаке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апиросы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гильза из папиросной бумаги, в которую засыпан измельчённый табак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Захудалый-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слабый, истощенный, хилый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Портсигар –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плоский   футляр, коробочка для переноски сигар , сигарет  или папирос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«Казбек» – </a:t>
            </a:r>
            <a:r>
              <a:rPr b="1" lang="ru-RU" sz="2200" spc="-1" strike="noStrike">
                <a:solidFill>
                  <a:srgbClr val="000000"/>
                </a:solidFill>
                <a:latin typeface="Century Schoolbook"/>
              </a:rPr>
              <a:t>вершина  Кавказа; здесь: сорт  папирос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365040" indent="-25560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Century Schoolbook"/>
              </a:rPr>
              <a:t>Мундштук -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твердая, свободная от табака часть папиросной гильзы, которую при курении берут в ро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WordArt 5"/>
          <p:cNvSpPr txBox="1"/>
          <p:nvPr/>
        </p:nvSpPr>
        <p:spPr>
          <a:xfrm>
            <a:off x="1908000" y="189000"/>
            <a:ext cx="5256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heel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3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3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3000"/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000000"/>
              </a:gs>
            </a:gsLst>
            <a:lin ang="189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Century Schoolbook"/>
              </a:rPr>
              <a:t>Вопросы   к   тексту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b9aaf8"/>
              </a:gs>
              <a:gs pos="100000">
                <a:srgbClr val="eff9f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напугало  Дениса  в  словах  доктора  и  мам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то  возмутило  мальчика  в  поведении  тети  Тамары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  Почему  мальчик  ругался  про  себя, а  не  вслух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 Зачем  Денис  испортил  папиросы  отц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авильно  ли  поступили  папа  и  гости, смеясь  над  Денисом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Видно,  папа  ничего  не  понял.»  Что  он  должен  был  понять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то  тебе  понравился  в  этом  рассказ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 кто  не  понравился?  Почему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3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30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Century Schoolbook"/>
              </a:rPr>
              <a:t>Задание   на   дом</a:t>
            </a:r>
            <a:r>
              <a:rPr b="0" lang="ru-RU" sz="4000" spc="-1" strike="noStrike">
                <a:solidFill>
                  <a:srgbClr val="424456"/>
                </a:solidFill>
                <a:latin typeface="Century Schoolbook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пиши  речь  о  вреде  курения. Какие   аргументы  ты  приведешь?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Century School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Можешь  проиллюстрировать  свою  речь   рисунком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3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10:51:26Z</dcterms:created>
  <dc:creator>Admin</dc:creator>
  <dc:description/>
  <dc:language>en-US</dc:language>
  <cp:lastModifiedBy>User</cp:lastModifiedBy>
  <dcterms:modified xsi:type="dcterms:W3CDTF">2011-10-12T12:23:21Z</dcterms:modified>
  <cp:revision>21</cp:revision>
  <dc:subject/>
  <dc:title>Слайд 1</dc:title>
</cp:coreProperties>
</file>