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285-157D-409E-80BE-B4FE12D2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D79-D7F1-46C7-BE1C-E3927820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4C1-12A3-40DA-A9AC-7F6C16E4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8FB-51D2-4B7E-B999-3E6EFA72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40B-E223-41CC-BDBF-2CC2DC2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906-8A3E-4942-A43B-90DF8CC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D12E-AFB5-420B-9675-162BC21E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115C-30EA-4827-BEB7-C6EE019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68BA-023B-4037-AE99-C26130D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3D47-76A9-4996-A669-2798704B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9224-3CD9-4DA6-A39B-F71C8887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2B7-260C-484E-872C-16BDB776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B816-DD20-4C80-B0EF-8363A4A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6C1-4F68-462F-A472-A376664D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A664-4AA6-4F5F-B478-B35BFCFD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96BA-A20A-4F08-A73C-285A72EB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B0B-D548-4C5D-A66E-F91302D8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F7FA2-56BA-4A6D-BB88-662C3243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ED506-3E4D-4B7B-86A5-CD2878FD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DC2B7-5966-4429-A9C8-1F574B6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FA44A-142E-48DC-9C52-497B917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0167C-68DD-4C9E-AB2B-217BA7D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5C2-AD1D-4DDC-B003-860389B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D1F03-6F13-4CEF-817A-4C8F4E40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D087C-C24F-4B9C-AB52-B657B22F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A836-9E4D-44B9-B152-A15283E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70E3F-5995-4C70-9C08-7155CA9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7605D-9866-479A-A0A7-1FF7DB7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0F44E-8343-461C-8D26-804D8325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E9BFE-645B-494A-A729-EAFF92F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3E98-04B8-4F9E-B862-C707B35C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494F-7E0E-44F0-A293-D1FFD0A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B002-36E4-4751-A7F3-8C8B388B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DAB-73C0-424C-85D2-22A11265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94AB-3FCA-46BE-87F0-FD7CC7E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2BBE-FD81-402F-B09D-4DADC3D6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B895-6C5E-4F01-A204-94494440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FFEC-DC49-4205-BCD9-8C066AF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A7DD-0000-4083-8205-6F2FD68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4ACDC-0C9A-410D-B943-55EF2AC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2C4C-15EC-4A31-B8A9-1C7FB68A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E7FA-B8E6-4434-B3CD-087D109B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6F2D-A94F-49B0-B150-5164934B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12BBE-DCB5-4824-9AB3-59FA8967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B8C-C5D7-4203-8EC8-ADF6ACBF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AD92-4D34-4840-B6FB-AF79EE9E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15CD-F2E0-4276-8F6B-C829C1F4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CBBDF-DF90-4746-95DC-5CDC5025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8353-9CBF-45BD-AC6B-B1B88A6B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F4892-A4E9-45CE-93C8-A149B3DD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9E8D-AA32-4DAE-9999-5D84DBE3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D8D1-BA17-4961-8568-5A0A6DC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D8D1-AA97-4010-8E20-44569E3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2AF6-923C-482A-84EA-D26F4E46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396A-69B0-49BC-B3C0-5FB0BB16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61D-B2E9-4F16-8404-66612AEB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602F-8055-4240-9ABF-8B29F8E9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5496-4EF8-45F9-A2B5-C7915F0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57B4-7861-4F4A-99BE-CC4AE5BD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4373-193B-45C9-94FF-6C823A25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13B7-03C6-4E11-90F0-748F360B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3377-5C41-4BFE-8EE6-AFEBDCA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2B05-E975-49C3-A7F7-EF5D5B2A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DBF2-4999-42E0-B837-DE6A2497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F433-804D-4B93-9770-9F9036E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3AAFD-78DF-4995-AF3C-A3E7EEE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E77-A375-46F1-829E-64F38A7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0D6B9-C66E-481D-A695-5E510D9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9454-E143-4A9F-B114-700839B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26EA1-3C60-4169-A3C1-4742891F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A946F-31D0-47A4-A4FF-5E5603B4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FF54-8C4E-434D-A489-C562C764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D81A-B5CA-45A2-A764-7A8919F9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72139-E21A-48DA-962B-369214A0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D891-818F-4FBC-8FD4-27D0693E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51E6D-FB3E-4A1A-8CAD-C82AB32D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116D-6EB9-4CB7-B304-96D72D0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81F-22F0-4115-A7BF-481B4F1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9F4C-8507-496F-8E7E-213706D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5F1D-5725-42E0-A424-49096525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9AAF-E45E-4908-A613-DC923AA6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96B9-9154-4648-A3C2-63E10EA0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02D4-CB3A-45CC-9CFB-40CBF48A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C84-6BBA-4A91-9D5E-29F2F5AE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F533-51FD-405F-B92A-9CF24F5E9AA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DDA9-1EE0-4E2A-B096-6C0FDD2D6F9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D40-3BDD-41D3-82DE-349E2F3B370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B28A-AC40-472D-AA64-FB07F6CD2EC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132-DF2D-4001-A5BD-68A593935C1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5DF-E804-4BE3-B1A1-48CF6A8E612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1434-DD7E-4324-AD64-853F938A1DF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Century Schoolbook"/>
              </a:rPr>
              <a:t>Виктор   Юзефович  Драгунский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entury Schoolbook"/>
              </a:rPr>
              <a:t>«Одна  капля  убивает  лошадь»</a:t>
            </a:r>
            <a:endParaRPr b="0" lang="en-US" sz="4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Составила   учитель   начальных   классов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ОУ   Лицей№52</a:t>
            </a:r>
            <a:r>
              <a:rPr b="1" lang="en-US" sz="2400" spc="-1" strike="noStrike">
                <a:solidFill>
                  <a:srgbClr val="424456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г. Уф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амонтова  О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ктор   Драгунский   родился 30/11  1913г. в   г. Нью – Йорке в   семье   эмигрантов, но   в  1925 г. переехал   в  Москву. Работал   актёром, сыграл   несколько   ролей   в   кино. Во   время   ВОВ служил  в   ополчении. Виктор Драгунский умер в 1972 году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сателя похоронил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Москв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agunskii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700280"/>
            <a:ext cx="3632400" cy="446400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1"/>
          <p:cNvSpPr txBox="1"/>
          <p:nvPr/>
        </p:nvSpPr>
        <p:spPr>
          <a:xfrm>
            <a:off x="1835280" y="549360"/>
            <a:ext cx="54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графи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 1959  года  пишет   весёлые   рассказы  про   Дениса   Кораблёва – «Денискины  рассказы». Героя   смешных   историй автор   назвал   в   честь   сына. Все   знают   эти  истор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  секрету  всему  свету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Капитан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жар   во   флигел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Девочка на   шар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Заколдованная  буква»  и 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6438960" y="2247840"/>
            <a:ext cx="88560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390760" cy="25956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8"/>
          <p:cNvSpPr txBox="1"/>
          <p:nvPr/>
        </p:nvSpPr>
        <p:spPr>
          <a:xfrm>
            <a:off x="1332000" y="26028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е   рассказ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Century Schoolbook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309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5985000" y="1905120"/>
            <a:ext cx="1793880" cy="20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94804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2454480" cy="299700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1"/>
          <p:cNvSpPr txBox="1"/>
          <p:nvPr/>
        </p:nvSpPr>
        <p:spPr>
          <a:xfrm>
            <a:off x="1476360" y="333360"/>
            <a:ext cx="676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юбимые   книг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Объясни</a:t>
            </a:r>
            <a:r>
              <a:rPr b="0" i="1" lang="ru-RU" sz="4800" spc="-1" strike="noStrike">
                <a:solidFill>
                  <a:srgbClr val="a50021"/>
                </a:solidFill>
                <a:latin typeface="Century Schoolbook"/>
              </a:rPr>
              <a:t>  </a:t>
            </a: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слова</a:t>
            </a:r>
            <a:endParaRPr b="0" lang="en-US" sz="6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Никотин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яд, содержащийся  в  табак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апиросы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ильза из папиросной бумаги, в которую засыпан измельчённый таб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Захудалый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лабый, истощенный, хилы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ортсигар –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оский   футляр, коробочка для переноски сигар , сигарет  или папирос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«Казбек»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ершина  Кавказа; здесь: сорт  папиро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Мундштук -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ердая, свободная от табака часть папиросной гильзы, которую при курении берут в ро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1908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Century Schoolbook"/>
              </a:rPr>
              <a:t>Вопросы   к   тексту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b9aaf8"/>
              </a:gs>
              <a:gs pos="100000">
                <a:srgbClr val="eff9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напугало  Дениса  в  словах  доктора  и  ма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возмутило  мальчика  в  поведении  тети  Тамар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 Почему  мальчик  ругался  про  себя, а  не  вслу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Зачем  Денис  испортил  папиросы  отц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 ли  поступили  папа  и  гости, смеясь  над  Денис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но,  папа  ничего  не  понял.»  Что  он  должен  был  поня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 тебе  понравился  в  этом  рассказ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кто  не  понравился? 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entury Schoolbook"/>
              </a:rPr>
              <a:t>Задание   на   дом</a:t>
            </a:r>
            <a:r>
              <a:rPr b="0" lang="ru-RU" sz="4000" spc="-1" strike="noStrike">
                <a:solidFill>
                  <a:srgbClr val="424456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пиши  речь  о  вреде  курения. Какие   аргументы  ты  приведеш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жешь  проиллюстрировать  свою  речь   рисунко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51:26Z</dcterms:created>
  <dc:creator>Admin</dc:creator>
  <dc:description/>
  <dc:language>en-US</dc:language>
  <cp:lastModifiedBy>User</cp:lastModifiedBy>
  <dcterms:modified xsi:type="dcterms:W3CDTF">2011-10-12T12:23:21Z</dcterms:modified>
  <cp:revision>21</cp:revision>
  <dc:subject/>
  <dc:title>Слайд 1</dc:title>
</cp:coreProperties>
</file>