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248-032C-4F79-AB55-D40B56F2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07A-56BF-4710-BF42-7CBC2B60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E29-B578-4054-A225-D4BF261F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198-5472-4BB6-B106-77A2841E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EC08-DD7C-45FA-96CE-4D37BCD1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5F61-F550-4254-9D81-DA7C8E7C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DCB7-14B6-4A38-B529-D031488D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B880-4447-415E-A3DD-B55D2C22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FE85-0E0F-499F-9C8D-C2360CAD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88F2-6FE2-4AA8-892B-7FD71165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C5FA-4A6F-4143-90F1-9CDD0BE4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51E-E5BA-45E1-935A-919E5B08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66F2-72E4-4154-95F3-6D4CE625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C5F9-EAE7-424F-91E3-0D25057D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9014-B820-416A-8F17-5EFE6EDE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9556-80D3-4BAB-BE99-855E9BF9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130B-B076-4E0C-A49B-5BA5A359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A7F-8FBB-49CE-B02E-5BCB7137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E0F-C115-4855-83D1-7939FEB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A03-1086-4FF6-8476-DF3CE1D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DEF-E879-494A-825D-8BAF5438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089-F7D1-4F2D-8476-6E404B4E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50D-C9A4-4007-A5AA-5FA56B43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DEB-189F-4D26-BC59-697A3386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CC90-5F59-40AF-8DCC-6A906C9DD0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D986-88AF-4299-98D8-E313A60BF0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1187280" y="2205000"/>
            <a:ext cx="662472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ы чувст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68360" y="476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«Окружающий мир»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">
            <a:hlinkClick r:id="rId1"/>
          </p:cNvPr>
          <p:cNvSpPr/>
          <p:nvPr/>
        </p:nvSpPr>
        <p:spPr>
          <a:xfrm>
            <a:off x="5000760" y="6904080"/>
            <a:ext cx="134604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ос – орган обоня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400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468360" y="2708280"/>
            <a:ext cx="2952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ня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ах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сохранить обоня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адо закаляться, беречь организм от просту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лазить в нос посторонними предм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курить, так как  обоняние у курящих ухудшается.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Язык – орган вкус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997360"/>
            <a:ext cx="28828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4969080" cy="4321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042920" y="2421000"/>
            <a:ext cx="192420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ич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кус ед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беречь органы вкус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истить зубы, язык и щёки два раза в день (утром и вечер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сле приёма пищи прополоскать р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льзя есть горячую пищ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брать в рот острые предм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Кожа – орган осяза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4464000" cy="4753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8"/>
          <p:cNvSpPr txBox="1"/>
          <p:nvPr/>
        </p:nvSpPr>
        <p:spPr>
          <a:xfrm>
            <a:off x="611280" y="2421000"/>
            <a:ext cx="30668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яза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косновени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равила ухода за кож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ую неделю мыть тело горячей водой с мы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ыть руки после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сить свободную одежду и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кал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раться не ранить кожу, не допустить ожогов, обморо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бы кожа дышала, делай каждое утро заря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924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Не глаз видит, не ухо слышит, не нос ощущает, а моз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http://school.ort.spb.ru/library/small_school/nature/chelovec/urok2/pics/mozg2.jpg"/>
          <p:cNvPicPr/>
          <p:nvPr/>
        </p:nvPicPr>
        <p:blipFill>
          <a:blip r:embed="rId1"/>
          <a:stretch/>
        </p:blipFill>
        <p:spPr>
          <a:xfrm>
            <a:off x="1692360" y="3429000"/>
            <a:ext cx="583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Тест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 У человека есть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Глаза -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. Уши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4. Нос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5. Кожа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6. Органы чувств 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7. Всеми органами чувств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084720" y="1628640"/>
            <a:ext cx="158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чувств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6084720" y="227664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зре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6156360" y="2852640"/>
            <a:ext cx="13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слуха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5867280" y="335772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боня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5940360" y="393372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сяза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6156360" y="4508640"/>
            <a:ext cx="1600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беречь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2627280" y="5589720"/>
            <a:ext cx="308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головной мозг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Домашние задани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читать статью «Как мы воспринимаем окружающий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раницы 132-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абочая тетрадь. Страница 35. Выполнить зада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11280" y="1700280"/>
          <a:ext cx="7924680" cy="362736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480"/>
                <a:gridCol w="1320840"/>
                <a:gridCol w="1320840"/>
                <a:gridCol w="132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WordArt 609"/>
          <p:cNvSpPr txBox="1"/>
          <p:nvPr/>
        </p:nvSpPr>
        <p:spPr>
          <a:xfrm>
            <a:off x="1116000" y="2276640"/>
            <a:ext cx="3049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610"/>
          <p:cNvSpPr txBox="1"/>
          <p:nvPr/>
        </p:nvSpPr>
        <p:spPr>
          <a:xfrm>
            <a:off x="1116000" y="2781360"/>
            <a:ext cx="3049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611"/>
          <p:cNvSpPr txBox="1"/>
          <p:nvPr/>
        </p:nvSpPr>
        <p:spPr>
          <a:xfrm>
            <a:off x="1116000" y="3284640"/>
            <a:ext cx="30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8" name="WordArt 612"/>
          <p:cNvSpPr txBox="1"/>
          <p:nvPr/>
        </p:nvSpPr>
        <p:spPr>
          <a:xfrm>
            <a:off x="3780000" y="3284640"/>
            <a:ext cx="304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WordArt 613"/>
          <p:cNvSpPr txBox="1"/>
          <p:nvPr/>
        </p:nvSpPr>
        <p:spPr>
          <a:xfrm>
            <a:off x="3780000" y="3860640"/>
            <a:ext cx="30456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614"/>
          <p:cNvSpPr txBox="1"/>
          <p:nvPr/>
        </p:nvSpPr>
        <p:spPr>
          <a:xfrm>
            <a:off x="3708360" y="4365720"/>
            <a:ext cx="3985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615"/>
          <p:cNvSpPr txBox="1"/>
          <p:nvPr/>
        </p:nvSpPr>
        <p:spPr>
          <a:xfrm>
            <a:off x="3780000" y="4869000"/>
            <a:ext cx="304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616"/>
          <p:cNvSpPr txBox="1"/>
          <p:nvPr/>
        </p:nvSpPr>
        <p:spPr>
          <a:xfrm>
            <a:off x="5076720" y="1773360"/>
            <a:ext cx="3049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617"/>
          <p:cNvSpPr txBox="1"/>
          <p:nvPr/>
        </p:nvSpPr>
        <p:spPr>
          <a:xfrm>
            <a:off x="5076720" y="227664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618"/>
          <p:cNvSpPr txBox="1"/>
          <p:nvPr/>
        </p:nvSpPr>
        <p:spPr>
          <a:xfrm>
            <a:off x="5003640" y="2781360"/>
            <a:ext cx="432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619"/>
          <p:cNvSpPr txBox="1"/>
          <p:nvPr/>
        </p:nvSpPr>
        <p:spPr>
          <a:xfrm>
            <a:off x="5076720" y="3284640"/>
            <a:ext cx="389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620"/>
          <p:cNvSpPr txBox="1"/>
          <p:nvPr/>
        </p:nvSpPr>
        <p:spPr>
          <a:xfrm>
            <a:off x="6443640" y="3357720"/>
            <a:ext cx="304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621"/>
          <p:cNvSpPr txBox="1"/>
          <p:nvPr/>
        </p:nvSpPr>
        <p:spPr>
          <a:xfrm>
            <a:off x="644364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622"/>
          <p:cNvSpPr txBox="1"/>
          <p:nvPr/>
        </p:nvSpPr>
        <p:spPr>
          <a:xfrm>
            <a:off x="6443640" y="4365720"/>
            <a:ext cx="30492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623"/>
          <p:cNvSpPr txBox="1"/>
          <p:nvPr/>
        </p:nvSpPr>
        <p:spPr>
          <a:xfrm>
            <a:off x="7740720" y="2276640"/>
            <a:ext cx="304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624"/>
          <p:cNvSpPr txBox="1"/>
          <p:nvPr/>
        </p:nvSpPr>
        <p:spPr>
          <a:xfrm>
            <a:off x="7740720" y="2781360"/>
            <a:ext cx="3045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625"/>
          <p:cNvSpPr txBox="1"/>
          <p:nvPr/>
        </p:nvSpPr>
        <p:spPr>
          <a:xfrm>
            <a:off x="7740720" y="3284640"/>
            <a:ext cx="3603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626"/>
          <p:cNvSpPr txBox="1"/>
          <p:nvPr/>
        </p:nvSpPr>
        <p:spPr>
          <a:xfrm>
            <a:off x="7812000" y="3789360"/>
            <a:ext cx="304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627"/>
          <p:cNvSpPr txBox="1"/>
          <p:nvPr/>
        </p:nvSpPr>
        <p:spPr>
          <a:xfrm>
            <a:off x="2411280" y="3284640"/>
            <a:ext cx="304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" name="WordArt 628"/>
          <p:cNvSpPr txBox="1"/>
          <p:nvPr/>
        </p:nvSpPr>
        <p:spPr>
          <a:xfrm>
            <a:off x="1763640" y="5373720"/>
            <a:ext cx="4969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ы чувст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Глаза</a:t>
            </a:r>
            <a:r>
              <a:rPr b="0" lang="ru-RU" sz="6300" spc="-1" strike="noStrike">
                <a:solidFill>
                  <a:srgbClr val="ffff00"/>
                </a:solidFill>
                <a:latin typeface="Arial"/>
              </a:rPr>
              <a:t> – орган зрения.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2754000"/>
            <a:ext cx="453708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52908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"/>
          <p:cNvSpPr txBox="1"/>
          <p:nvPr/>
        </p:nvSpPr>
        <p:spPr>
          <a:xfrm>
            <a:off x="468360" y="1916280"/>
            <a:ext cx="41050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ре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чину, форму, цв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ов и и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оложен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Берегите зрение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итай, пиши только при хорошем освещении, но помни, что яркий свет не должен попадать в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еди за тем, чтобы книга или тетрадь были на расстоянии 30-35 см от глаз. Для этого поставь руку локтем на стол и кончиками пальцев дотянись до в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 письме свет должен падать сл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нигу при чтении полезно поставить на наклонную подстав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лё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в тран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перерыв между чтением 20-3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редно для глаз подолгу смотреть телевизор, компьютер; садись от экрана не ближе чем 2-3 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три руками глаза- можно занести соринку или опасные бак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гимнастику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– орган слух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89744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0"/>
          <p:cNvSpPr txBox="1"/>
          <p:nvPr/>
        </p:nvSpPr>
        <p:spPr>
          <a:xfrm>
            <a:off x="5580000" y="2133720"/>
            <a:ext cx="275292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х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уко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н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надо беречь 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шу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в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ковырять в уш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жно давать отдых слуху, быть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ыть уш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уши заболели обратиться к вр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2850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от гора, а у г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Две глубокие но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 этих норах воздух брод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о заходит, то выход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( нос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5:57:54Z</dcterms:created>
  <dc:creator>Sam</dc:creator>
  <dc:description/>
  <dc:language>en-US</dc:language>
  <cp:lastModifiedBy>ПК</cp:lastModifiedBy>
  <dcterms:modified xsi:type="dcterms:W3CDTF">2012-12-13T03:24:16Z</dcterms:modified>
  <cp:revision>11</cp:revision>
  <dc:subject/>
  <dc:title>Кроссворд</dc:title>
</cp:coreProperties>
</file>