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1262-AB00-4C54-A3AF-7A896779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EA8F-C57F-4F48-BF64-698F0320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E7D3-2363-4179-A3DC-73605A84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0315-7907-44E6-9B7C-AE88D3251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104C-52AE-4DDE-9024-D7E8843EB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F39E-B55E-46F2-B038-6EE59C6F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1BFD-2E46-4B46-9989-2A96BC97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57F3-80CA-4725-A84A-54205DC1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BC64-F7D2-4A84-8116-A40BD04C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5E99-61C3-4CC3-A06E-1017920D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419D-059C-4F88-8FD4-F47F1F0A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49E9-A323-439D-B177-D62CB277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B882-6CF0-472F-B139-87A16F6D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826E-5BCF-4258-A8B8-DC839186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A7BD-BC30-4E66-B040-E6C85C92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F177-0139-458E-9EC6-37CF1D19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A965-EDA8-4427-A14B-B3F333632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6AE6-3F97-46EA-8194-9429EB3E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7842-8EB6-4B24-821B-8C40F804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278B-3AFC-4846-B2E3-2813B830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84D5-442E-47DA-90C0-6E25A840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D8A4-CB2B-48A5-9FBB-6092E564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1920-8E62-4A4C-A0F0-7FFE70C5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6F15-8BBC-44F5-B16C-7F5C946E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E823-2FE1-4BBA-A298-CC0E9BF4879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09CC-DD55-49ED-BA57-B70DC1F8657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5"/>
          <p:cNvSpPr txBox="1"/>
          <p:nvPr/>
        </p:nvSpPr>
        <p:spPr>
          <a:xfrm>
            <a:off x="1187280" y="2205000"/>
            <a:ext cx="6624720" cy="215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рганы чувст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268360" y="4762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к «Окружающий мир» 3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3">
            <a:hlinkClick r:id="rId1"/>
          </p:cNvPr>
          <p:cNvSpPr/>
          <p:nvPr/>
        </p:nvSpPr>
        <p:spPr>
          <a:xfrm>
            <a:off x="5000760" y="6904080"/>
            <a:ext cx="1346040" cy="23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Нос – орган обоняния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3419640" y="1413000"/>
            <a:ext cx="5400360" cy="4680000"/>
          </a:xfrm>
          <a:prstGeom prst="rect">
            <a:avLst/>
          </a:prstGeom>
          <a:ln w="0">
            <a:noFill/>
          </a:ln>
        </p:spPr>
      </p:pic>
      <p:sp>
        <p:nvSpPr>
          <p:cNvPr id="132" name="WordArt 7"/>
          <p:cNvSpPr txBox="1"/>
          <p:nvPr/>
        </p:nvSpPr>
        <p:spPr>
          <a:xfrm>
            <a:off x="468360" y="2708280"/>
            <a:ext cx="295272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оняние - эт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собность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увствова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ахи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Как сохранить обоняние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412640"/>
            <a:ext cx="79250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Надо закаляться, беречь организм от просту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Не лазить в нос посторонними предмет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Не курить, так как  обоняние у курящих ухудшается.</a:t>
            </a: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Язык – орган вкуса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2997360"/>
            <a:ext cx="288288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4969080" cy="4321080"/>
          </a:xfrm>
          <a:prstGeom prst="rect">
            <a:avLst/>
          </a:prstGeom>
          <a:ln w="0">
            <a:noFill/>
          </a:ln>
        </p:spPr>
      </p:pic>
      <p:sp>
        <p:nvSpPr>
          <p:cNvPr id="138" name="WordArt 7"/>
          <p:cNvSpPr txBox="1"/>
          <p:nvPr/>
        </p:nvSpPr>
        <p:spPr>
          <a:xfrm>
            <a:off x="1042920" y="2421000"/>
            <a:ext cx="1924200" cy="26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зы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могае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ку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лича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кус еды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Как беречь органы вкус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Чистить зубы, язык и щёки два раза в день (утром и вечером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После приёма пищи прополоскать ро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Нельзя есть горячую пищ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Не брать в рот острые предме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Кожа – орган осязания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3995640" y="1484280"/>
            <a:ext cx="4464000" cy="4753080"/>
          </a:xfrm>
          <a:prstGeom prst="rect">
            <a:avLst/>
          </a:prstGeom>
          <a:ln w="0">
            <a:noFill/>
          </a:ln>
        </p:spPr>
      </p:pic>
      <p:sp>
        <p:nvSpPr>
          <p:cNvPr id="143" name="WordArt 8"/>
          <p:cNvSpPr txBox="1"/>
          <p:nvPr/>
        </p:nvSpPr>
        <p:spPr>
          <a:xfrm>
            <a:off x="611280" y="2421000"/>
            <a:ext cx="3066840" cy="26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язание - эт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собнос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к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увствова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косновения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Правила ухода за кожей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аждую неделю мыть тело горячей водой с мы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Мыть руки после загряз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осить свободную одежду и обу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каля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тараться не ранить кожу, не допустить ожогов, обморож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Чтобы кожа дышала, делай каждое утро заряд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79246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«Не глаз видит, не ухо слышит, не нос ощущает, а мозг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9" descr="http://school.ort.spb.ru/library/small_school/nature/chelovec/urok2/pics/mozg2.jpg"/>
          <p:cNvPicPr/>
          <p:nvPr/>
        </p:nvPicPr>
        <p:blipFill>
          <a:blip r:embed="rId1"/>
          <a:stretch/>
        </p:blipFill>
        <p:spPr>
          <a:xfrm>
            <a:off x="1692360" y="3429000"/>
            <a:ext cx="5832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Тест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1. У человека есть орг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2. Глаза - это о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3. Уши – это о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4. Нос – это о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5. Кожа – это о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6. Органы чувств нуж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7. Всеми органами чувств руков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4"/>
          <p:cNvSpPr txBox="1"/>
          <p:nvPr/>
        </p:nvSpPr>
        <p:spPr>
          <a:xfrm>
            <a:off x="6084720" y="1628640"/>
            <a:ext cx="1581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чувств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WordArt 5"/>
          <p:cNvSpPr txBox="1"/>
          <p:nvPr/>
        </p:nvSpPr>
        <p:spPr>
          <a:xfrm>
            <a:off x="6084720" y="2276640"/>
            <a:ext cx="1609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зрения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2" name="WordArt 6"/>
          <p:cNvSpPr txBox="1"/>
          <p:nvPr/>
        </p:nvSpPr>
        <p:spPr>
          <a:xfrm>
            <a:off x="6156360" y="2852640"/>
            <a:ext cx="1371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слуха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WordArt 7"/>
          <p:cNvSpPr txBox="1"/>
          <p:nvPr/>
        </p:nvSpPr>
        <p:spPr>
          <a:xfrm>
            <a:off x="5867280" y="3357720"/>
            <a:ext cx="2133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обоняния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4" name="WordArt 8"/>
          <p:cNvSpPr txBox="1"/>
          <p:nvPr/>
        </p:nvSpPr>
        <p:spPr>
          <a:xfrm>
            <a:off x="5940360" y="3933720"/>
            <a:ext cx="2019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осязания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" name="WordArt 9"/>
          <p:cNvSpPr txBox="1"/>
          <p:nvPr/>
        </p:nvSpPr>
        <p:spPr>
          <a:xfrm>
            <a:off x="6156360" y="4508640"/>
            <a:ext cx="1600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беречь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6" name="WordArt 10"/>
          <p:cNvSpPr txBox="1"/>
          <p:nvPr/>
        </p:nvSpPr>
        <p:spPr>
          <a:xfrm>
            <a:off x="2627280" y="5589720"/>
            <a:ext cx="3086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головной мозг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Домашние задание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Прочитать статью «Как мы воспринимаем окружающий ми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траницы 132-1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Рабочая тетрадь. Страница 35. Выполнить задание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611280" y="1700280"/>
          <a:ext cx="7924680" cy="3627360"/>
        </p:xfrm>
        <a:graphic>
          <a:graphicData uri="http://schemas.openxmlformats.org/drawingml/2006/table">
            <a:tbl>
              <a:tblPr/>
              <a:tblGrid>
                <a:gridCol w="1320840"/>
                <a:gridCol w="1320840"/>
                <a:gridCol w="1320480"/>
                <a:gridCol w="1320840"/>
                <a:gridCol w="1320840"/>
                <a:gridCol w="1320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</a:tr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00cc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WordArt 609"/>
          <p:cNvSpPr txBox="1"/>
          <p:nvPr/>
        </p:nvSpPr>
        <p:spPr>
          <a:xfrm>
            <a:off x="1116000" y="2276640"/>
            <a:ext cx="304920" cy="41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6" name="WordArt 610"/>
          <p:cNvSpPr txBox="1"/>
          <p:nvPr/>
        </p:nvSpPr>
        <p:spPr>
          <a:xfrm>
            <a:off x="1116000" y="2781360"/>
            <a:ext cx="30492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7" name="WordArt 611"/>
          <p:cNvSpPr txBox="1"/>
          <p:nvPr/>
        </p:nvSpPr>
        <p:spPr>
          <a:xfrm>
            <a:off x="1116000" y="3284640"/>
            <a:ext cx="30492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8" name="WordArt 612"/>
          <p:cNvSpPr txBox="1"/>
          <p:nvPr/>
        </p:nvSpPr>
        <p:spPr>
          <a:xfrm>
            <a:off x="3780000" y="3284640"/>
            <a:ext cx="3045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9" name="WordArt 613"/>
          <p:cNvSpPr txBox="1"/>
          <p:nvPr/>
        </p:nvSpPr>
        <p:spPr>
          <a:xfrm>
            <a:off x="3780000" y="3860640"/>
            <a:ext cx="304560" cy="36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0" name="WordArt 614"/>
          <p:cNvSpPr txBox="1"/>
          <p:nvPr/>
        </p:nvSpPr>
        <p:spPr>
          <a:xfrm>
            <a:off x="3708360" y="4365720"/>
            <a:ext cx="39852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1" name="WordArt 615"/>
          <p:cNvSpPr txBox="1"/>
          <p:nvPr/>
        </p:nvSpPr>
        <p:spPr>
          <a:xfrm>
            <a:off x="3780000" y="4869000"/>
            <a:ext cx="3045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2" name="WordArt 616"/>
          <p:cNvSpPr txBox="1"/>
          <p:nvPr/>
        </p:nvSpPr>
        <p:spPr>
          <a:xfrm>
            <a:off x="5076720" y="1773360"/>
            <a:ext cx="304920" cy="40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3" name="WordArt 617"/>
          <p:cNvSpPr txBox="1"/>
          <p:nvPr/>
        </p:nvSpPr>
        <p:spPr>
          <a:xfrm>
            <a:off x="5076720" y="2276640"/>
            <a:ext cx="304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4" name="WordArt 618"/>
          <p:cNvSpPr txBox="1"/>
          <p:nvPr/>
        </p:nvSpPr>
        <p:spPr>
          <a:xfrm>
            <a:off x="5003640" y="2781360"/>
            <a:ext cx="4320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WordArt 619"/>
          <p:cNvSpPr txBox="1"/>
          <p:nvPr/>
        </p:nvSpPr>
        <p:spPr>
          <a:xfrm>
            <a:off x="5076720" y="3284640"/>
            <a:ext cx="3891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6" name="WordArt 620"/>
          <p:cNvSpPr txBox="1"/>
          <p:nvPr/>
        </p:nvSpPr>
        <p:spPr>
          <a:xfrm>
            <a:off x="6443640" y="3357720"/>
            <a:ext cx="30492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7" name="WordArt 621"/>
          <p:cNvSpPr txBox="1"/>
          <p:nvPr/>
        </p:nvSpPr>
        <p:spPr>
          <a:xfrm>
            <a:off x="6443640" y="3789360"/>
            <a:ext cx="304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8" name="WordArt 622"/>
          <p:cNvSpPr txBox="1"/>
          <p:nvPr/>
        </p:nvSpPr>
        <p:spPr>
          <a:xfrm>
            <a:off x="6443640" y="4365720"/>
            <a:ext cx="30492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9" name="WordArt 623"/>
          <p:cNvSpPr txBox="1"/>
          <p:nvPr/>
        </p:nvSpPr>
        <p:spPr>
          <a:xfrm>
            <a:off x="7740720" y="2276640"/>
            <a:ext cx="30456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WordArt 624"/>
          <p:cNvSpPr txBox="1"/>
          <p:nvPr/>
        </p:nvSpPr>
        <p:spPr>
          <a:xfrm>
            <a:off x="7740720" y="2781360"/>
            <a:ext cx="304560" cy="40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1" name="WordArt 625"/>
          <p:cNvSpPr txBox="1"/>
          <p:nvPr/>
        </p:nvSpPr>
        <p:spPr>
          <a:xfrm>
            <a:off x="7740720" y="3284640"/>
            <a:ext cx="36036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Ы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2" name="WordArt 626"/>
          <p:cNvSpPr txBox="1"/>
          <p:nvPr/>
        </p:nvSpPr>
        <p:spPr>
          <a:xfrm>
            <a:off x="7812000" y="3789360"/>
            <a:ext cx="3049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3" name="WordArt 627"/>
          <p:cNvSpPr txBox="1"/>
          <p:nvPr/>
        </p:nvSpPr>
        <p:spPr>
          <a:xfrm>
            <a:off x="2411280" y="3284640"/>
            <a:ext cx="30492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4" name="WordArt 628"/>
          <p:cNvSpPr txBox="1"/>
          <p:nvPr/>
        </p:nvSpPr>
        <p:spPr>
          <a:xfrm>
            <a:off x="1763640" y="5373720"/>
            <a:ext cx="496908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рганы чувст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Глаза</a:t>
            </a:r>
            <a:r>
              <a:rPr b="0" lang="ru-RU" sz="6300" spc="-1" strike="noStrike">
                <a:solidFill>
                  <a:srgbClr val="ffff00"/>
                </a:solidFill>
                <a:latin typeface="Arial"/>
              </a:rPr>
              <a:t> – орган зрения.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8920" y="2754000"/>
            <a:ext cx="4537080" cy="32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4716360" y="1844640"/>
            <a:ext cx="3529080" cy="3960720"/>
          </a:xfrm>
          <a:prstGeom prst="rect">
            <a:avLst/>
          </a:prstGeom>
          <a:ln w="0">
            <a:noFill/>
          </a:ln>
        </p:spPr>
      </p:pic>
      <p:sp>
        <p:nvSpPr>
          <p:cNvPr id="118" name="WordArt 8"/>
          <p:cNvSpPr txBox="1"/>
          <p:nvPr/>
        </p:nvSpPr>
        <p:spPr>
          <a:xfrm>
            <a:off x="468360" y="1916280"/>
            <a:ext cx="4105080" cy="31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рение - эт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собнос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спринима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личину, форму, цве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метов и и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положение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Берегите зрение!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итай, пиши только при хорошем освещении, но помни, что яркий свет не должен попадать в гл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леди за тем, чтобы книга или тетрадь были на расстоянии 30-35 см от глаз. Для этого поставь руку локтем на стол и кончиками пальцев дотянись до вис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и письме свет должен падать сл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нигу при чтении полезно поставить на наклонную подстав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е читай лёж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е читай в транспор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елай перерыв между чтением 20-30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редно для глаз подолгу смотреть телевизор, компьютер; садись от экрана не ближе чем 2-3 ме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е три руками глаза- можно занести соринку или опасные бакте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елай гимнастику для гл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Уши – орган слуха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4897440" cy="4392720"/>
          </a:xfrm>
          <a:prstGeom prst="rect">
            <a:avLst/>
          </a:prstGeom>
          <a:ln w="0">
            <a:noFill/>
          </a:ln>
        </p:spPr>
      </p:pic>
      <p:sp>
        <p:nvSpPr>
          <p:cNvPr id="125" name="WordArt 10"/>
          <p:cNvSpPr txBox="1"/>
          <p:nvPr/>
        </p:nvSpPr>
        <p:spPr>
          <a:xfrm>
            <a:off x="5580000" y="2133720"/>
            <a:ext cx="2752920" cy="26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ух - эт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собнос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спринима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вуков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лны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Уши надо беречь !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щищать уши от сильного шу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щищать уши от сильного ве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е ковырять в уш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ужно давать отдых слуху, быть в тиш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ыть уши каждый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Если уши заболели обратиться к вра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920" y="1341360"/>
            <a:ext cx="828504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Вот гора, а у г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Две глубокие нор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В этих норах воздух брод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То заходит, то выходи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                               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( нос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05:57:54Z</dcterms:created>
  <dc:creator>Sam</dc:creator>
  <dc:description/>
  <dc:language>en-US</dc:language>
  <cp:lastModifiedBy>ПК</cp:lastModifiedBy>
  <dcterms:modified xsi:type="dcterms:W3CDTF">2012-12-13T03:24:16Z</dcterms:modified>
  <cp:revision>11</cp:revision>
  <dc:subject/>
  <dc:title>Кроссворд</dc:title>
</cp:coreProperties>
</file>