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0947B-22D6-41BB-9335-7136F2E8A3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52F32-AD54-40ED-A7C3-DB858273A6E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0AF3D-5A4B-4DDF-AC73-4904F9BA01F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E194B-4AB2-4981-9EA9-9FCE66E19ED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9F661-2B29-4651-8C32-F824B02CB0D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CCFC3-EE0D-438B-A15F-97FA8DDE470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A9CB5-0671-4A8A-A906-FA9FD96A854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1C39A-6697-4AEC-8B83-9942F998E4F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1021D-4575-4570-BBE2-6D476EA452A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4E5D1-1419-4003-A36B-4468B7D8D9B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08382-A431-4F5A-B7D5-CE4B643EA7E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D9DF9-0689-4EC8-837F-C17530581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B12A5-F11F-4067-9059-B699AA3844B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B51E5-9716-4927-B847-57629F28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9B40F-BBBF-45AE-BF3E-384CCCB9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7B3AE-658F-483D-A010-9DE1EBF5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5E319-CB0A-45DB-BF2B-56B8907A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6DE7C-9C67-4C49-B4A3-67F9EBDA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E56A6-FD32-4CD4-BD2D-5C67499E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21595-EEF6-4E84-8383-73C84572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B0558-4F69-4702-BD7C-617D0AFE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1D0D9-DEDD-434F-B727-548F3F7C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07BCF-0398-46B6-B4B5-1639BB5FD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FE121-2B0C-4EB9-9C0C-FF58A761685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61D8E-1243-4D47-8325-C1DF90800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BE46C-2B43-4204-8CEA-4368D9BC9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6A377-13A8-41BA-8972-15963A50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0ED23-03D3-44D5-88EC-6341F5DD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D0148-5F12-442C-8B5C-1C71AB9A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494CE-CCA6-4E5B-A101-EFAF8FF2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DC336-E994-457A-A2A5-C38132AF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0A9AD-CB54-49DD-AE9C-56742A17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14209-58E3-4CF8-9D7B-302E1B8F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82D06-FEE1-4E3E-9BE6-74F8B0E0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C8E33-AD07-45E7-BED6-56D9DE6D651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499BE-6EFC-4C6D-B92A-E0C215AD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22326-1F08-4A57-A875-751DB4288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FF2C1-B303-4601-95D6-CA5054AC6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DA8DC-26E3-48F0-93E2-82F2F69AC7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C5817-BCC7-4FC9-B014-689D899B32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62721-95C5-4B5C-BD1D-13CB2FE033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6726F-2803-4EC9-80D6-A5C6ACA409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01FC2-0C0B-467C-9029-DBE06DC4DC3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BEF82-65F1-44E1-A7EC-C901F38E19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A9DA8-F7A8-4D69-BAB3-395C232069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8F80D-2F40-40B6-BBA1-B1DC289C16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AE405-1D37-4E79-8F82-EA378BE684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D7FED-6781-4BD4-82DE-1CB75E227E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B7491-1752-421C-8734-11DD3B40E1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F0C21-567C-4A79-B7A9-3F8EDB9D17E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4391-C173-489C-83B0-D9386BEAB7A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6841-D5A8-477E-9750-3A31F72FDA2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3B61-B059-4087-91ED-DE56EFE4E40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CD54-600E-47A8-8A1E-9E732149538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9D51-9C78-4BB4-8C6C-E3421D3F09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67472-17BF-4389-BF7E-C72D6AF6C7A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C6FD-7611-496A-A824-F6FE17D9EA1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B662-7C65-4823-A517-BC2927BD702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4303-7E9D-4F0A-B838-E8962F516FB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6CC3-0F28-4C25-9034-D5383847080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67D4-8507-4928-B2E5-9E83A349987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A80C-860E-4274-9C3D-51ED78C3951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D660-5233-42D5-ABC4-2B599F5789B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4C3EF3-C5BC-4923-94FD-17305FE924A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311E48-5E93-4381-A74C-42B9ED19EE0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368A3B-4BF8-4D6A-8A51-CFCB2B6824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164CB-B75B-41C0-87C6-5F1F8919519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722A4-1528-4C40-9636-6696D7D4F8A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25F29E-54DE-4999-8A2E-659CE16225C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F5705-EECA-4E01-97E1-A228EEC4B60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8A8EB7-7CD5-4074-8C2F-4DB046B5276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059955-767D-423D-ABAE-D86B9B946F9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F08DF8-27B4-4B2B-9C8A-E7767E5B764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7F39B6-2CF9-45B2-9C2C-C025730891A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0C7440-C5D1-45C5-B34F-530A83F470B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45558D-C9CB-4474-817E-F5868C1241C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E9794-D524-492C-B0EE-D8761F2603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74A05-E5EF-499A-9E21-65A6A5FCD71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E0D584-1149-40DD-A4A7-64FB1C38090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A6610-2A0D-4B0B-8EC5-6DAADC494BF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BF0050-D210-4A72-B670-F89B988B2D9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FED158-B12F-49CE-A9FF-CCDC50BAD77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CD70B-679C-4129-B2B6-E2AE4FD5F04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116B7-CF34-4FF0-B245-E7F2DA9CAC5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2B27F-2752-4711-810B-87AD3E7A5EF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504E0-B63D-405E-90B3-AF833080C28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F5C623-27B7-473B-90AE-1E5E16B0887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3B572-F46B-4DF1-803C-E85AC68773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304FD-3547-4B76-B878-3E59938F19D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215485-0110-4F95-BCCA-A689C2AAA13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93C1-E0BD-45C2-B73B-903855BF832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2A92-FBA6-4038-A3FF-ED4B16536AB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027E1-979E-4E47-A1A1-ECFDDBBFD7F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5B40-C501-4953-BF0D-22211702526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4641-11A6-4A04-82EB-3F4F497994B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CE2F-1ED1-4A37-801A-044D1456DD0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83545-BDC5-43F9-BF7F-81E54884BB4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9D47-0728-4A59-8D9A-4CE13FE655A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FE7B-64D8-4953-8453-264237D280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3220A-3B2B-41FA-A43D-D4813F4B815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8F2F8-84A8-4ABD-97D3-ED6224D3148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8603-A4EC-416B-A109-2FE60CB95DF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7A76-5AA4-4A9E-9306-CD152E8CB72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6F83E1-123A-4063-B6CE-16F5F461782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73B54D-B64A-4D45-9213-E6C8C7F2A00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B78893-9599-4A52-BEBD-54CA44F05B4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2E1486-D047-474C-9282-F5CB015F727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0F0034-EB27-453C-8C5D-29246EC726E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47B334-43BC-431F-AE0D-1A9CD7A9AAD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E11E00-46F4-4B04-849C-78F6BF3353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02A38-E546-438A-B1D4-4C078CEA1F3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EEAD78-14C4-461C-889F-805B3AB8F61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12C223-079F-4FA2-AB94-D1E994E6741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A07205-791A-45A7-BC06-980A765F1DC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07675E-B3DF-4FC7-B0A5-A821060DD5D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C4E574-5196-459A-84B9-4CE9AC899BC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473D2C-074E-4901-B641-F5BABC7418E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0235BE-F037-4BB8-82AB-4F7FCABFDA7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2CDACC-DE8C-42AD-9CB6-CA6A7600C1E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F206F2-7943-4803-956C-6DFFB581059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1DF868-AF50-4C6B-8BCA-F3C3505556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094B3-3677-464D-B217-C87AB37AE56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CF5A0A-E827-4260-AF66-F1F83EFFB2B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50765C-C47D-4218-85CA-7E91D0CCDC9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078C39-AF81-4CA5-B1D7-C46D1D4A6CF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5E19F8-6519-431B-A3C3-869F94FE785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3BD0FF-FCA0-4228-A03D-BF4EC0E1649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991CD8-DEC0-43C7-BF8D-C7240E1A906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222CDD-F082-4D55-B1BF-34FD6E81095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FA341-4E70-47FD-87B4-0663986BD85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14B0F-FE6A-43F3-977D-20FB0DDFDDD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8C862-DC8E-4220-B79B-762962286C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C9702F6-A39B-42C7-AE16-959F44F926A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3F14237-C6AF-4760-8346-DE52C8C09A3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9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0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2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2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2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3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3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3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4BC312F-D986-462A-B7AA-065FE16BC09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8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8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9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9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9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0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"/>
          <p:cNvGrpSpPr/>
          <p:nvPr/>
        </p:nvGrpSpPr>
        <p:grpSpPr>
          <a:xfrm>
            <a:off x="506520" y="5340240"/>
            <a:ext cx="8642160" cy="22320"/>
            <a:chOff x="506520" y="5340240"/>
            <a:chExt cx="8642160" cy="22320"/>
          </a:xfrm>
        </p:grpSpPr>
        <p:pic>
          <p:nvPicPr>
            <p:cNvPr id="42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Text Box 3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8229240" y="6473520"/>
            <a:ext cx="757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AF3E2FA-B985-44A8-A53D-9338FE77E1A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1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86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3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" name="Group 4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89" name="Picture 5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6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" name="Group 7"/>
          <p:cNvGrpSpPr/>
          <p:nvPr/>
        </p:nvGrpSpPr>
        <p:grpSpPr>
          <a:xfrm>
            <a:off x="506520" y="1047600"/>
            <a:ext cx="8642160" cy="24120"/>
            <a:chOff x="506520" y="1047600"/>
            <a:chExt cx="8642160" cy="24120"/>
          </a:xfrm>
        </p:grpSpPr>
        <p:pic>
          <p:nvPicPr>
            <p:cNvPr id="92" name="Picture 8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21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9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3"/>
          </p:nvPr>
        </p:nvSpPr>
        <p:spPr>
          <a:xfrm>
            <a:off x="8229240" y="6473520"/>
            <a:ext cx="757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C109729-C1C6-467E-A5B0-F18BE6411EC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1"/>
          <p:cNvGrpSpPr/>
          <p:nvPr/>
        </p:nvGrpSpPr>
        <p:grpSpPr>
          <a:xfrm>
            <a:off x="506520" y="3432240"/>
            <a:ext cx="8642160" cy="22320"/>
            <a:chOff x="506520" y="3432240"/>
            <a:chExt cx="8642160" cy="22320"/>
          </a:xfrm>
        </p:grpSpPr>
        <p:pic>
          <p:nvPicPr>
            <p:cNvPr id="136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3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4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1E1ED68-7C0A-4972-82C2-5AF155B3C56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1"/>
          <p:cNvGrpSpPr/>
          <p:nvPr/>
        </p:nvGrpSpPr>
        <p:grpSpPr>
          <a:xfrm>
            <a:off x="506520" y="6010200"/>
            <a:ext cx="8642160" cy="23760"/>
            <a:chOff x="506520" y="6010200"/>
            <a:chExt cx="8642160" cy="23760"/>
          </a:xfrm>
        </p:grpSpPr>
        <p:pic>
          <p:nvPicPr>
            <p:cNvPr id="180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21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3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Num" idx="5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92FCD39-93C0-4033-8E4E-8F8DEA2BE1B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6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EED4B86-A766-4B06-B548-43E3DE9EBBC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1"/>
          <p:cNvGrpSpPr/>
          <p:nvPr/>
        </p:nvGrpSpPr>
        <p:grpSpPr>
          <a:xfrm>
            <a:off x="506520" y="5840280"/>
            <a:ext cx="8642160" cy="22320"/>
            <a:chOff x="506520" y="5840280"/>
            <a:chExt cx="8642160" cy="22320"/>
          </a:xfrm>
        </p:grpSpPr>
        <p:pic>
          <p:nvPicPr>
            <p:cNvPr id="265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 Box 3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7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2A29444-41B3-419D-868F-866779921C1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sldNum" idx="8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20691C7-9FB7-4AB7-804B-1427D2DCB3B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9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24C8434-7023-470F-B58D-1D0F59136A7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3"/>
          <p:cNvSpPr/>
          <p:nvPr/>
        </p:nvSpPr>
        <p:spPr>
          <a:xfrm>
            <a:off x="357120" y="285840"/>
            <a:ext cx="843588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Box 24"/>
          <p:cNvSpPr/>
          <p:nvPr/>
        </p:nvSpPr>
        <p:spPr>
          <a:xfrm>
            <a:off x="285840" y="1428840"/>
            <a:ext cx="864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ыделение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целой части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з неправильной дроби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адайте, какие слова надо вставит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может за версту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ть дробную  …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 чертой –    ………….., знайте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чертою –   …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….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бь такую непременн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звать  …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………….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, что за дробь –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бь обыкновенна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м сегодня с не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гновенные…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3" descr=""/>
          <p:cNvPicPr/>
          <p:nvPr/>
        </p:nvPicPr>
        <p:blipFill>
          <a:blip r:embed="rId1"/>
          <a:stretch/>
        </p:blipFill>
        <p:spPr>
          <a:xfrm>
            <a:off x="5689440" y="3514680"/>
            <a:ext cx="3240360" cy="2700360"/>
          </a:xfrm>
          <a:prstGeom prst="rect">
            <a:avLst/>
          </a:prstGeom>
          <a:ln w="0">
            <a:noFill/>
          </a:ln>
        </p:spPr>
      </p:pic>
      <p:grpSp>
        <p:nvGrpSpPr>
          <p:cNvPr id="545" name="Group 4"/>
          <p:cNvGrpSpPr/>
          <p:nvPr/>
        </p:nvGrpSpPr>
        <p:grpSpPr>
          <a:xfrm>
            <a:off x="7291440" y="2010960"/>
            <a:ext cx="724680" cy="1035720"/>
            <a:chOff x="7291440" y="2010960"/>
            <a:chExt cx="724680" cy="1035720"/>
          </a:xfrm>
        </p:grpSpPr>
        <p:sp>
          <p:nvSpPr>
            <p:cNvPr id="546" name="WordArt 5"/>
            <p:cNvSpPr txBox="1"/>
            <p:nvPr/>
          </p:nvSpPr>
          <p:spPr>
            <a:xfrm rot="2700000">
              <a:off x="7678080" y="2026440"/>
              <a:ext cx="219960" cy="42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2800" spc="1" strike="noStrike">
                  <a:ln w="0">
                    <a:noFill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000000">
                        <a:alpha val="80000"/>
                      </a:srgbClr>
                    </a:outerShdw>
                  </a:effectLst>
                  <a:latin typeface="Arial"/>
                </a:rPr>
                <a:t>1</a:t>
              </a:r>
              <a:endPara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547" name="WordArt 6"/>
            <p:cNvSpPr txBox="1"/>
            <p:nvPr/>
          </p:nvSpPr>
          <p:spPr>
            <a:xfrm rot="2700000">
              <a:off x="7409160" y="2606400"/>
              <a:ext cx="219960" cy="42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2800" spc="1" strike="noStrike">
                  <a:ln w="0">
                    <a:noFill/>
                  </a:ln>
                  <a:blipFill rotWithShape="0">
                    <a:blip r:embed="rId4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000000">
                        <a:alpha val="80000"/>
                      </a:srgbClr>
                    </a:outerShdw>
                  </a:effectLst>
                  <a:latin typeface="Arial"/>
                </a:rPr>
                <a:t>6</a:t>
              </a:r>
              <a:endParaRPr b="0" lang="en-US" sz="2800" spc="1" strike="noStrike">
                <a:ln w="0">
                  <a:noFill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548" name="WordArt 7"/>
            <p:cNvSpPr txBox="1"/>
            <p:nvPr/>
          </p:nvSpPr>
          <p:spPr>
            <a:xfrm rot="2700000">
              <a:off x="7325640" y="2552400"/>
              <a:ext cx="617400" cy="39600"/>
            </a:xfrm>
            <a:prstGeom prst="rect">
              <a:avLst/>
            </a:prstGeom>
          </p:spPr>
          <p:txBody>
            <a:bodyPr wrap="none" lIns="90000" rIns="90000" tIns="-6840" bIns="-684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2800" spc="1" strike="noStrike">
                  <a:ln w="0">
                    <a:noFill/>
                  </a:ln>
                  <a:blipFill rotWithShape="0">
                    <a:blip r:embed="rId6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000000">
                        <a:alpha val="80000"/>
                      </a:srgbClr>
                    </a:outerShdw>
                  </a:effectLst>
                  <a:latin typeface="Arial"/>
                </a:rPr>
                <a:t>-</a:t>
              </a:r>
              <a:endParaRPr b="0" lang="en-US" sz="2800" spc="1" strike="noStrike">
                <a:ln w="0">
                  <a:noFill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549" name="TextBox 8"/>
          <p:cNvSpPr/>
          <p:nvPr/>
        </p:nvSpPr>
        <p:spPr>
          <a:xfrm>
            <a:off x="3786120" y="1571760"/>
            <a:ext cx="13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черт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TextBox 9"/>
          <p:cNvSpPr/>
          <p:nvPr/>
        </p:nvSpPr>
        <p:spPr>
          <a:xfrm>
            <a:off x="3000240" y="199692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числите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Box 10"/>
          <p:cNvSpPr/>
          <p:nvPr/>
        </p:nvSpPr>
        <p:spPr>
          <a:xfrm>
            <a:off x="3286080" y="2357280"/>
            <a:ext cx="323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знаменате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Box 11"/>
          <p:cNvSpPr/>
          <p:nvPr/>
        </p:nvSpPr>
        <p:spPr>
          <a:xfrm>
            <a:off x="2714760" y="3143160"/>
            <a:ext cx="34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обыкновенно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" descr=""/>
          <p:cNvPicPr/>
          <p:nvPr/>
        </p:nvPicPr>
        <p:blipFill>
          <a:blip r:embed="rId1"/>
          <a:stretch/>
        </p:blipFill>
        <p:spPr>
          <a:xfrm>
            <a:off x="2500200" y="1685880"/>
            <a:ext cx="4419720" cy="4457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54" name="Object 3"/>
              <p:cNvSpPr txBox="1"/>
              <p:nvPr/>
            </p:nvSpPr>
            <p:spPr>
              <a:xfrm>
                <a:off x="285840" y="1428840"/>
                <a:ext cx="88416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4"/>
              <p:cNvSpPr txBox="1"/>
              <p:nvPr/>
            </p:nvSpPr>
            <p:spPr>
              <a:xfrm>
                <a:off x="1214280" y="3857760"/>
                <a:ext cx="857520" cy="22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Object 5"/>
              <p:cNvSpPr txBox="1"/>
              <p:nvPr/>
            </p:nvSpPr>
            <p:spPr>
              <a:xfrm>
                <a:off x="7215120" y="4143240"/>
                <a:ext cx="914400" cy="23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6"/>
              <p:cNvSpPr txBox="1"/>
              <p:nvPr/>
            </p:nvSpPr>
            <p:spPr>
              <a:xfrm>
                <a:off x="8001000" y="1357200"/>
                <a:ext cx="83808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8" name="Rectangle 7"/>
          <p:cNvSpPr/>
          <p:nvPr/>
        </p:nvSpPr>
        <p:spPr>
          <a:xfrm>
            <a:off x="1000080" y="214200"/>
            <a:ext cx="70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ая часть фигуры закрашен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1" descr=""/>
          <p:cNvPicPr/>
          <p:nvPr/>
        </p:nvPicPr>
        <p:blipFill>
          <a:blip r:embed="rId1"/>
          <a:stretch/>
        </p:blipFill>
        <p:spPr>
          <a:xfrm>
            <a:off x="357120" y="2500200"/>
            <a:ext cx="4000680" cy="3886200"/>
          </a:xfrm>
          <a:prstGeom prst="rect">
            <a:avLst/>
          </a:prstGeom>
          <a:ln w="0">
            <a:noFill/>
          </a:ln>
        </p:spPr>
      </p:pic>
      <p:sp>
        <p:nvSpPr>
          <p:cNvPr id="560" name="Rectangle 2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Object 3"/>
              <p:cNvSpPr txBox="1"/>
              <p:nvPr/>
            </p:nvSpPr>
            <p:spPr>
              <a:xfrm>
                <a:off x="6705720" y="4038480"/>
                <a:ext cx="990360" cy="25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2" name="Rectangle 4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3" name="Object 5"/>
              <p:cNvSpPr txBox="1"/>
              <p:nvPr/>
            </p:nvSpPr>
            <p:spPr>
              <a:xfrm>
                <a:off x="7858080" y="1571760"/>
                <a:ext cx="914400" cy="23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4" name="Rectangle 6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Object 7"/>
              <p:cNvSpPr txBox="1"/>
              <p:nvPr/>
            </p:nvSpPr>
            <p:spPr>
              <a:xfrm>
                <a:off x="4952880" y="1676520"/>
                <a:ext cx="914400" cy="23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6" name="Rectangle 8"/>
          <p:cNvSpPr/>
          <p:nvPr/>
        </p:nvSpPr>
        <p:spPr>
          <a:xfrm>
            <a:off x="214200" y="21420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йди дробь, которая соответствует белому цвет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67" name="Object 1"/>
              <p:cNvSpPr txBox="1"/>
              <p:nvPr/>
            </p:nvSpPr>
            <p:spPr>
              <a:xfrm>
                <a:off x="785880" y="1274760"/>
                <a:ext cx="1000080" cy="18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Object 2"/>
              <p:cNvSpPr txBox="1"/>
              <p:nvPr/>
            </p:nvSpPr>
            <p:spPr>
              <a:xfrm>
                <a:off x="1868400" y="1285920"/>
                <a:ext cx="989280" cy="18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Object 3"/>
              <p:cNvSpPr txBox="1"/>
              <p:nvPr/>
            </p:nvSpPr>
            <p:spPr>
              <a:xfrm>
                <a:off x="2851200" y="1325520"/>
                <a:ext cx="1292040" cy="17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Object 4"/>
              <p:cNvSpPr txBox="1"/>
              <p:nvPr/>
            </p:nvSpPr>
            <p:spPr>
              <a:xfrm>
                <a:off x="4338720" y="1357200"/>
                <a:ext cx="116208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Object 5"/>
              <p:cNvSpPr txBox="1"/>
              <p:nvPr/>
            </p:nvSpPr>
            <p:spPr>
              <a:xfrm>
                <a:off x="5643720" y="1285920"/>
                <a:ext cx="1071360" cy="18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Object 6"/>
              <p:cNvSpPr txBox="1"/>
              <p:nvPr/>
            </p:nvSpPr>
            <p:spPr>
              <a:xfrm>
                <a:off x="6786720" y="1368360"/>
                <a:ext cx="1285560" cy="16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3" name="Text Box 7"/>
          <p:cNvSpPr/>
          <p:nvPr/>
        </p:nvSpPr>
        <p:spPr>
          <a:xfrm>
            <a:off x="395280" y="351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Вопрос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акая дробь лишняя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ext Box 8"/>
          <p:cNvSpPr/>
          <p:nvPr/>
        </p:nvSpPr>
        <p:spPr>
          <a:xfrm>
            <a:off x="785880" y="3778200"/>
            <a:ext cx="742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Вопро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акая дробь называется неправильно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5" name="Object 1"/>
              <p:cNvSpPr txBox="1"/>
              <p:nvPr/>
            </p:nvSpPr>
            <p:spPr>
              <a:xfrm>
                <a:off x="1227240" y="1627200"/>
                <a:ext cx="84456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Object 2"/>
              <p:cNvSpPr txBox="1"/>
              <p:nvPr/>
            </p:nvSpPr>
            <p:spPr>
              <a:xfrm>
                <a:off x="2314440" y="1555920"/>
                <a:ext cx="90036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Object 3"/>
              <p:cNvSpPr txBox="1"/>
              <p:nvPr/>
            </p:nvSpPr>
            <p:spPr>
              <a:xfrm>
                <a:off x="3419640" y="1587600"/>
                <a:ext cx="866520" cy="14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Object 4"/>
              <p:cNvSpPr txBox="1"/>
              <p:nvPr/>
            </p:nvSpPr>
            <p:spPr>
              <a:xfrm>
                <a:off x="4446720" y="1571760"/>
                <a:ext cx="83952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Object 5"/>
              <p:cNvSpPr txBox="1"/>
              <p:nvPr/>
            </p:nvSpPr>
            <p:spPr>
              <a:xfrm>
                <a:off x="5510160" y="1523880"/>
                <a:ext cx="919080" cy="15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Object 6"/>
              <p:cNvSpPr txBox="1"/>
              <p:nvPr/>
            </p:nvSpPr>
            <p:spPr>
              <a:xfrm>
                <a:off x="6616800" y="1484280"/>
                <a:ext cx="955440" cy="16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1" name="Text Box 8"/>
          <p:cNvSpPr/>
          <p:nvPr/>
        </p:nvSpPr>
        <p:spPr>
          <a:xfrm>
            <a:off x="571680" y="351324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Вопрос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акая дробь называется правильной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7"/>
          <p:cNvSpPr/>
          <p:nvPr/>
        </p:nvSpPr>
        <p:spPr>
          <a:xfrm>
            <a:off x="395280" y="3571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Вопрос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акая дробь лишняя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3" name="Object 2"/>
              <p:cNvSpPr txBox="1"/>
              <p:nvPr/>
            </p:nvSpPr>
            <p:spPr>
              <a:xfrm>
                <a:off x="1065240" y="1555920"/>
                <a:ext cx="93492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Object 3"/>
              <p:cNvSpPr txBox="1"/>
              <p:nvPr/>
            </p:nvSpPr>
            <p:spPr>
              <a:xfrm>
                <a:off x="2260440" y="1627200"/>
                <a:ext cx="81144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Object 4"/>
              <p:cNvSpPr txBox="1"/>
              <p:nvPr/>
            </p:nvSpPr>
            <p:spPr>
              <a:xfrm>
                <a:off x="3328920" y="1555920"/>
                <a:ext cx="88596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Object 5"/>
              <p:cNvSpPr txBox="1"/>
              <p:nvPr/>
            </p:nvSpPr>
            <p:spPr>
              <a:xfrm>
                <a:off x="4405320" y="1627200"/>
                <a:ext cx="80964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Object 6"/>
              <p:cNvSpPr txBox="1"/>
              <p:nvPr/>
            </p:nvSpPr>
            <p:spPr>
              <a:xfrm>
                <a:off x="5429160" y="1571760"/>
                <a:ext cx="1428840" cy="14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8" name="Object 7"/>
              <p:cNvSpPr txBox="1"/>
              <p:nvPr/>
            </p:nvSpPr>
            <p:spPr>
              <a:xfrm>
                <a:off x="6973920" y="1484280"/>
                <a:ext cx="955800" cy="16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9" name="Text Box 7"/>
          <p:cNvSpPr/>
          <p:nvPr/>
        </p:nvSpPr>
        <p:spPr>
          <a:xfrm>
            <a:off x="395280" y="3571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Прочитайте числ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971640" y="630360"/>
            <a:ext cx="7488000" cy="5823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2T19:32:57Z</dcterms:created>
  <dc:creator>Мокеев Михаил Валерьевич</dc:creator>
  <dc:description/>
  <dc:language>en-US</dc:language>
  <cp:lastModifiedBy>YAKOVLEV</cp:lastModifiedBy>
  <dcterms:modified xsi:type="dcterms:W3CDTF">2012-12-15T17:32:17Z</dcterms:modified>
  <cp:revision>135</cp:revision>
  <dc:subject/>
  <dc:title>Слайд 1</dc:title>
</cp:coreProperties>
</file>