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6982-B9CB-46D1-9623-C8EB7848C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E247-F803-4179-BF4C-ABB9206BF35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0A1D4-47D5-4EFD-8BAE-A9F5EB50211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CB0C0-6992-4327-A172-6D20DD99160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B41F0-E85A-41BB-B706-FCB08962083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929EE-99DE-4519-88C5-F6A83759F79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B4AE6-6712-4A86-80B3-8708D468778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A2568-E2B1-4BBD-BF84-BA0DF2AECA6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11D59-B18C-41C1-A3A3-EA7A4F32BA4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5F848-E2B6-44E3-9592-9D112F7881E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C3D1F-1C73-41FD-AC1A-611C6050365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A33B1-80B6-42E4-809F-74355A85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3893-8814-418F-B23C-7C1533B59EA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F0482-1C86-4C02-800B-1403C9EC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6202D-523F-413B-8FF7-A90039F1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5BA30-E859-4444-BB97-999CE1F2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B4C5B-B5F9-4B05-B672-7AC40A48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5FC58-3DF3-4420-8C77-A4DE1279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D5EA3-1BD0-4E96-B55B-D312769A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DA420-8CAA-493D-BB9F-0F929A9A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F8A05-13E0-4A52-943D-0ECABD92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E93CC-B19F-4B68-B5B4-5CC93708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3DC5D-9FB6-4314-9278-9A9CF2AB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7DEC3-AF0E-4401-8C1A-6CD2D59A09B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CD152-9BDC-49EC-A9AA-88794534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DABEA-4C63-42D1-B3D1-5403AC12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83EEF-6297-42B8-A6B0-A3DD21A9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2440B-8FC2-43AD-A7B9-695F3F5D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53FA9-8769-4484-B5DF-EA4C6AA0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CB25C-407D-456B-8F69-F13A376B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9CC23-B1B3-4634-B3F1-332A1841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A8A6B-C7B0-43BB-93C0-2D2A4E16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AEEA2-C042-4ABB-A3D0-7E256AD1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D2E26-8A97-4016-8E16-E21F2A68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AD921-3DCC-4B17-B642-01EFAE5FA37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A8078-8FD4-4F52-A1A0-96A80455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BE687-3BDA-4515-BD98-1F903660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807E8-2F58-429D-A7E5-65E8421E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45E21-655E-4469-8B84-D0C88CB115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8AD5B-A8B7-4216-8F73-DA2D8493AF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977C3-ED7C-4B02-8D59-867824CD19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DB82C-2E6B-47AA-8FC5-091C734C7E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6FFF9-E93B-4E8A-8CFA-0ED9983D06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7FFF2-2544-44DF-A2E4-C1FEDE98CD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53E9-324C-4134-866C-AB6EC9C22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664E4-94EF-4EB9-A3E4-4B15012A8F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237C1-3E31-4D8B-BCA0-E00B7EA454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BE60F-8869-4DB3-881F-0D8A439001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BA892-9C15-466E-8518-3D2E0A112C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B7379-8062-4EBE-86D5-254ECED072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FDA-6F06-4C1C-8418-4D58B7FDD0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BF9-284E-4CEC-92C7-1D0619F83A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44B-CE25-4521-B8D1-7E9E924EDA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516-6E34-4CD3-9597-4059536385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041-7699-4DD8-95FB-A448139331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B68E-4B86-458A-8280-1811F7AE44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82BB-7554-4F49-BD2E-CB4122905F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B4B-F65B-4230-ACA3-E6F598BE25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EE4-12A4-47CC-B033-E3993A3B38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8337-F01B-4A03-8A5E-3FD14533F2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872-6875-4325-BA48-3A94AB1B24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F71E-8427-41B9-A7D4-EEAE2788AE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4A11-072D-4116-BF46-69FE29914B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DAE80-D18D-4093-B877-70681131D0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B4C69-01F1-47F3-A24B-970B8AF40A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368BF-0EF0-488C-9E7B-8FEF14A87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5A6A-B89D-4710-84BE-45841B31EA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2D435-8482-420F-9E9B-F5D00DFE48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D87BE-DD78-4D3D-9800-B06DFDA1D2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A33BB-C24A-4418-96F9-5F18A58A9F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59D1E-DC80-4150-BACA-F069985F02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37EC3-ED63-4EA7-9703-4F2A04F6FE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ACADD-5241-4606-A652-3F19A3D44B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8D07E-2E68-413A-9FB7-D909172A7F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851C7-D835-4EDA-8619-CE6C093C31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F67F2-6093-4465-911C-8C946021FFE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4A09A-A7F4-4610-9BDC-04B600EF8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1057F-2728-48EB-A2C7-2DB1D6897D5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513E6-598F-44E7-8A8C-D1168970DCB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470A8-5D33-4F5E-BAC1-455EE531B9D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206F0-F7F7-4E03-99E4-DB80799BAC8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FB4A9-42CD-4C99-92B1-105D7EF0F66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09551-CD59-4674-91C5-A537966B490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EFA8A-B85D-49CC-9044-BC43A3D1387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AEC98-CA66-4316-9E05-05B686DA3F3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A07F5-9BD6-44A8-ACC2-3CE6D7780BB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88C4E-541B-497E-8D4A-EE9594ABB2E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3C4F7-69D5-4204-BBF7-3EA66EE57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3DCA-B5A4-4495-8B77-E182B048490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79C05-470E-4482-9A4B-6AEE600006B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6A62-FB1E-4462-A915-87885E8CC63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D126-76A9-4862-B92A-10C441B97EA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BD40-68B2-4078-A91A-2E179BF78E1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F660-F9B1-493A-98BA-5F135B3B484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3B66-5419-47CC-8356-2512A5D8DE1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15F1-BC25-4ACB-B8D4-B76D5157729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CF1B-9E3B-427D-A2B6-027FA867371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70EA-090F-40BD-AF8D-2E2D82ABBE7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A51F-CF27-4A05-9612-DCDFC32CE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721D-5928-49A9-9ECC-043E7438D04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E7C9-9D16-442B-8214-9C64240C933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8AF1-2204-4DD4-9F43-224BC187045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88C5-39CA-47E3-807B-9C8E4EB2EB1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D36350-0705-41BF-B187-E52D592F29E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3709C1-9C3C-4610-AD74-4181CF018B7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A60A42-A398-4BDA-A16E-71336ED5FC9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A5E8C0-C009-4444-9594-2C47BC1A88B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975AE0-24DC-4926-B354-B078CCB65D4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FB277C-EC0A-40C1-B10D-BCC78791BA1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F9F077-8C17-410D-A709-3018EAC40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747B-B373-494B-A6B6-DB68503A446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D4CC15-14FD-48EA-A601-372302A8270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5FAB52-E1B3-40CC-8362-6F3377A601F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4A7925-6C21-4A50-9D0D-98B2AD69BB7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9F3000-1867-4734-82DE-31825C72378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E89987-A95F-4A5C-96CD-4226E2E0F15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50AA77-3EBD-4E59-B28E-F4BEFCB09C6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A7833-8466-4951-AA0D-C558C85955E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6B63F-8CFE-46F2-A863-05AB3A826E3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4CACC-070E-46B4-82DB-B42D1E22818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0B60D-CA4E-4510-8581-627428A19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CE71-335B-4C5D-B6CC-EDAE11A32B0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7050DA-E7AA-4079-8A3D-9190A5B38BB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FA0B3-89FE-4D9C-AA78-BE34EFE4D82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CA00E-1387-4A42-B61E-8CDE1BB45CA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5D3D5-8322-4B71-AC88-F23D7A398E3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E57BB-DCCE-453E-98C7-A8101BF5549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2D3585-FDEC-4D14-9465-7CAD766506D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63BC5-009E-4B84-974C-01903D8336F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31211-6391-4E36-B88F-0A9DE646E11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F206D-E36D-4FC2-B389-FEB933111F7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0F3CF-3778-47EB-87C2-22973F2F3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CE2B8C-C872-4941-9AF7-3F53629177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4AA372-6FCD-4A39-8AD3-90084E4FE3F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3462D5-BE47-43A4-852E-19D29BA015A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8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9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9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506520" y="5340240"/>
            <a:ext cx="8642160" cy="22320"/>
            <a:chOff x="506520" y="5340240"/>
            <a:chExt cx="8642160" cy="22320"/>
          </a:xfrm>
        </p:grpSpPr>
        <p:pic>
          <p:nvPicPr>
            <p:cNvPr id="42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989835-CAD1-4375-9636-DB17BDE3F82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86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Group 4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89" name="Picture 5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Group 7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92" name="Picture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8E884A-296B-4DEC-AF6A-5E7C4A555F2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506520" y="3432240"/>
            <a:ext cx="8642160" cy="22320"/>
            <a:chOff x="506520" y="3432240"/>
            <a:chExt cx="8642160" cy="22320"/>
          </a:xfrm>
        </p:grpSpPr>
        <p:pic>
          <p:nvPicPr>
            <p:cNvPr id="136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3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4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385642-B2C3-4CD9-8A88-4F8BFDBAB0C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"/>
          <p:cNvGrpSpPr/>
          <p:nvPr/>
        </p:nvGrpSpPr>
        <p:grpSpPr>
          <a:xfrm>
            <a:off x="506520" y="6010200"/>
            <a:ext cx="8642160" cy="23760"/>
            <a:chOff x="506520" y="6010200"/>
            <a:chExt cx="8642160" cy="23760"/>
          </a:xfrm>
        </p:grpSpPr>
        <p:pic>
          <p:nvPicPr>
            <p:cNvPr id="180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21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5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1314BE-2985-449C-AA78-1AD9BFE16CC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6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5940C7-7BF1-4258-9104-52A8DDCFA91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"/>
          <p:cNvGrpSpPr/>
          <p:nvPr/>
        </p:nvGrpSpPr>
        <p:grpSpPr>
          <a:xfrm>
            <a:off x="506520" y="5840280"/>
            <a:ext cx="8642160" cy="22320"/>
            <a:chOff x="506520" y="5840280"/>
            <a:chExt cx="8642160" cy="22320"/>
          </a:xfrm>
        </p:grpSpPr>
        <p:pic>
          <p:nvPicPr>
            <p:cNvPr id="26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3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3B9BF3-9305-4B24-97CB-CC43C4DBDCE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E8316A-233A-405D-8441-598080317DE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9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F12940-2BE6-4BE9-B255-A9A072C2EF6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3"/>
          <p:cNvSpPr/>
          <p:nvPr/>
        </p:nvSpPr>
        <p:spPr>
          <a:xfrm>
            <a:off x="357120" y="285840"/>
            <a:ext cx="84358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Box 24"/>
          <p:cNvSpPr/>
          <p:nvPr/>
        </p:nvSpPr>
        <p:spPr>
          <a:xfrm>
            <a:off x="285840" y="14288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делени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ой част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 неправильной дроб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те, какие слова надо встави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может за версту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 дробную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чертой –    ………….., знайт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чертою – 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ь такую непременн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звать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………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что за дробь –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ь обыкновенна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сегодня с н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гновенные…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5689440" y="3514680"/>
            <a:ext cx="3240360" cy="2700360"/>
          </a:xfrm>
          <a:prstGeom prst="rect">
            <a:avLst/>
          </a:prstGeom>
          <a:ln w="0">
            <a:noFill/>
          </a:ln>
        </p:spPr>
      </p:pic>
      <p:grpSp>
        <p:nvGrpSpPr>
          <p:cNvPr id="545" name="Group 4"/>
          <p:cNvGrpSpPr/>
          <p:nvPr/>
        </p:nvGrpSpPr>
        <p:grpSpPr>
          <a:xfrm>
            <a:off x="7291440" y="2010960"/>
            <a:ext cx="724680" cy="1035720"/>
            <a:chOff x="7291440" y="2010960"/>
            <a:chExt cx="724680" cy="1035720"/>
          </a:xfrm>
        </p:grpSpPr>
        <p:sp>
          <p:nvSpPr>
            <p:cNvPr id="546" name="WordArt 5"/>
            <p:cNvSpPr txBox="1"/>
            <p:nvPr/>
          </p:nvSpPr>
          <p:spPr>
            <a:xfrm rot="2700000">
              <a:off x="7678080" y="2026440"/>
              <a:ext cx="219960" cy="42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1</a:t>
              </a:r>
              <a:endPara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47" name="WordArt 6"/>
            <p:cNvSpPr txBox="1"/>
            <p:nvPr/>
          </p:nvSpPr>
          <p:spPr>
            <a:xfrm rot="2700000">
              <a:off x="7409160" y="2606400"/>
              <a:ext cx="219960" cy="42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6</a:t>
              </a:r>
              <a:endPara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48" name="WordArt 7"/>
            <p:cNvSpPr txBox="1"/>
            <p:nvPr/>
          </p:nvSpPr>
          <p:spPr>
            <a:xfrm rot="2700000">
              <a:off x="7325640" y="2552400"/>
              <a:ext cx="617400" cy="39600"/>
            </a:xfrm>
            <a:prstGeom prst="rect">
              <a:avLst/>
            </a:prstGeom>
          </p:spPr>
          <p:txBody>
            <a:bodyPr wrap="none" lIns="90000" rIns="90000" tIns="-6840" bIns="-684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-</a:t>
              </a:r>
              <a:endPara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549" name="TextBox 8"/>
          <p:cNvSpPr/>
          <p:nvPr/>
        </p:nvSpPr>
        <p:spPr>
          <a:xfrm>
            <a:off x="3786120" y="157176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черт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Box 9"/>
          <p:cNvSpPr/>
          <p:nvPr/>
        </p:nvSpPr>
        <p:spPr>
          <a:xfrm>
            <a:off x="3000240" y="19969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числи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Box 10"/>
          <p:cNvSpPr/>
          <p:nvPr/>
        </p:nvSpPr>
        <p:spPr>
          <a:xfrm>
            <a:off x="3286080" y="23572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знамена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Box 11"/>
          <p:cNvSpPr/>
          <p:nvPr/>
        </p:nvSpPr>
        <p:spPr>
          <a:xfrm>
            <a:off x="2714760" y="3143160"/>
            <a:ext cx="34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обыкновенн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" descr=""/>
          <p:cNvPicPr/>
          <p:nvPr/>
        </p:nvPicPr>
        <p:blipFill>
          <a:blip r:embed="rId1"/>
          <a:stretch/>
        </p:blipFill>
        <p:spPr>
          <a:xfrm>
            <a:off x="2500200" y="1685880"/>
            <a:ext cx="4419720" cy="4457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285840" y="1428840"/>
                <a:ext cx="8841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"/>
              <p:cNvSpPr txBox="1"/>
              <p:nvPr/>
            </p:nvSpPr>
            <p:spPr>
              <a:xfrm>
                <a:off x="1214280" y="3857760"/>
                <a:ext cx="857520" cy="22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5"/>
              <p:cNvSpPr txBox="1"/>
              <p:nvPr/>
            </p:nvSpPr>
            <p:spPr>
              <a:xfrm>
                <a:off x="7215120" y="4143240"/>
                <a:ext cx="91440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6"/>
              <p:cNvSpPr txBox="1"/>
              <p:nvPr/>
            </p:nvSpPr>
            <p:spPr>
              <a:xfrm>
                <a:off x="8001000" y="1357200"/>
                <a:ext cx="8380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8" name="Rectangle 7"/>
          <p:cNvSpPr/>
          <p:nvPr/>
        </p:nvSpPr>
        <p:spPr>
          <a:xfrm>
            <a:off x="1000080" y="21420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ая часть фигуры закрашен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" descr=""/>
          <p:cNvPicPr/>
          <p:nvPr/>
        </p:nvPicPr>
        <p:blipFill>
          <a:blip r:embed="rId1"/>
          <a:stretch/>
        </p:blipFill>
        <p:spPr>
          <a:xfrm>
            <a:off x="357120" y="2500200"/>
            <a:ext cx="4000680" cy="388620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2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3"/>
              <p:cNvSpPr txBox="1"/>
              <p:nvPr/>
            </p:nvSpPr>
            <p:spPr>
              <a:xfrm>
                <a:off x="6705720" y="4038480"/>
                <a:ext cx="99036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2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5"/>
              <p:cNvSpPr txBox="1"/>
              <p:nvPr/>
            </p:nvSpPr>
            <p:spPr>
              <a:xfrm>
                <a:off x="7858080" y="1571760"/>
                <a:ext cx="914400" cy="23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4" name="Rectangle 6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7"/>
              <p:cNvSpPr txBox="1"/>
              <p:nvPr/>
            </p:nvSpPr>
            <p:spPr>
              <a:xfrm>
                <a:off x="4952880" y="1676520"/>
                <a:ext cx="914400" cy="23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Rectangle 8"/>
          <p:cNvSpPr/>
          <p:nvPr/>
        </p:nvSpPr>
        <p:spPr>
          <a:xfrm>
            <a:off x="214200" y="21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йди дробь, которая соответствует белому цвет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7" name="Object 1"/>
              <p:cNvSpPr txBox="1"/>
              <p:nvPr/>
            </p:nvSpPr>
            <p:spPr>
              <a:xfrm>
                <a:off x="785880" y="1274760"/>
                <a:ext cx="100008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2"/>
              <p:cNvSpPr txBox="1"/>
              <p:nvPr/>
            </p:nvSpPr>
            <p:spPr>
              <a:xfrm>
                <a:off x="1868400" y="1285920"/>
                <a:ext cx="989280" cy="18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3"/>
              <p:cNvSpPr txBox="1"/>
              <p:nvPr/>
            </p:nvSpPr>
            <p:spPr>
              <a:xfrm>
                <a:off x="2851200" y="1325520"/>
                <a:ext cx="129204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4"/>
              <p:cNvSpPr txBox="1"/>
              <p:nvPr/>
            </p:nvSpPr>
            <p:spPr>
              <a:xfrm>
                <a:off x="4338720" y="1357200"/>
                <a:ext cx="116208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5"/>
              <p:cNvSpPr txBox="1"/>
              <p:nvPr/>
            </p:nvSpPr>
            <p:spPr>
              <a:xfrm>
                <a:off x="5643720" y="1285920"/>
                <a:ext cx="107136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6"/>
              <p:cNvSpPr txBox="1"/>
              <p:nvPr/>
            </p:nvSpPr>
            <p:spPr>
              <a:xfrm>
                <a:off x="6786720" y="1368360"/>
                <a:ext cx="128556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3" name="Text Box 7"/>
          <p:cNvSpPr/>
          <p:nvPr/>
        </p:nvSpPr>
        <p:spPr>
          <a:xfrm>
            <a:off x="395280" y="35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лишня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785880" y="3778200"/>
            <a:ext cx="742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называется неправильн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5" name="Object 1"/>
              <p:cNvSpPr txBox="1"/>
              <p:nvPr/>
            </p:nvSpPr>
            <p:spPr>
              <a:xfrm>
                <a:off x="1227240" y="1627200"/>
                <a:ext cx="8445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2"/>
              <p:cNvSpPr txBox="1"/>
              <p:nvPr/>
            </p:nvSpPr>
            <p:spPr>
              <a:xfrm>
                <a:off x="2314440" y="1555920"/>
                <a:ext cx="90036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419640" y="1587600"/>
                <a:ext cx="86652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4"/>
              <p:cNvSpPr txBox="1"/>
              <p:nvPr/>
            </p:nvSpPr>
            <p:spPr>
              <a:xfrm>
                <a:off x="4446720" y="1571760"/>
                <a:ext cx="83952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5"/>
              <p:cNvSpPr txBox="1"/>
              <p:nvPr/>
            </p:nvSpPr>
            <p:spPr>
              <a:xfrm>
                <a:off x="5510160" y="1523880"/>
                <a:ext cx="919080" cy="15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6"/>
              <p:cNvSpPr txBox="1"/>
              <p:nvPr/>
            </p:nvSpPr>
            <p:spPr>
              <a:xfrm>
                <a:off x="6616800" y="1484280"/>
                <a:ext cx="95544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1" name="Text Box 8"/>
          <p:cNvSpPr/>
          <p:nvPr/>
        </p:nvSpPr>
        <p:spPr>
          <a:xfrm>
            <a:off x="571680" y="35132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называется правильно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395280" y="3571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лишня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1065240" y="1555920"/>
                <a:ext cx="93492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"/>
              <p:cNvSpPr txBox="1"/>
              <p:nvPr/>
            </p:nvSpPr>
            <p:spPr>
              <a:xfrm>
                <a:off x="2260440" y="1627200"/>
                <a:ext cx="811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3328920" y="1555920"/>
                <a:ext cx="88596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5"/>
              <p:cNvSpPr txBox="1"/>
              <p:nvPr/>
            </p:nvSpPr>
            <p:spPr>
              <a:xfrm>
                <a:off x="4405320" y="1627200"/>
                <a:ext cx="8096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6"/>
              <p:cNvSpPr txBox="1"/>
              <p:nvPr/>
            </p:nvSpPr>
            <p:spPr>
              <a:xfrm>
                <a:off x="5429160" y="1571760"/>
                <a:ext cx="1428840" cy="14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7"/>
              <p:cNvSpPr txBox="1"/>
              <p:nvPr/>
            </p:nvSpPr>
            <p:spPr>
              <a:xfrm>
                <a:off x="6973920" y="1484280"/>
                <a:ext cx="95580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9" name="Text Box 7"/>
          <p:cNvSpPr/>
          <p:nvPr/>
        </p:nvSpPr>
        <p:spPr>
          <a:xfrm>
            <a:off x="395280" y="3571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Прочитайте чис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971640" y="630360"/>
            <a:ext cx="7488000" cy="582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19:32:57Z</dcterms:created>
  <dc:creator>Мокеев Михаил Валерьевич</dc:creator>
  <dc:description/>
  <dc:language>en-US</dc:language>
  <cp:lastModifiedBy>YAKOVLEV</cp:lastModifiedBy>
  <dcterms:modified xsi:type="dcterms:W3CDTF">2012-12-15T17:32:17Z</dcterms:modified>
  <cp:revision>135</cp:revision>
  <dc:subject/>
  <dc:title>Слайд 1</dc:title>
</cp:coreProperties>
</file>