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0EE5-FCB2-41EA-AB08-94F95488F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A724-6185-4744-A1B0-145D4546236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4114-44C1-42C8-B035-E22179F73D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3E74-D13F-4B31-8F12-C2B2ACD653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100B8-BFA2-4437-8570-2BADE94B7E6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25C6-4F76-431D-87CB-81E81E9A0E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9D57-BEBB-4284-BC20-340366E8DDA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4BC5-610C-45EB-833F-C1010AECE1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F02EA-DCBB-4056-B77E-5E015517B33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586B-6932-423A-B39D-9AEF5AF8DEF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C776-5467-499B-ACB5-C73518A115A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02C0-F92E-44EA-8E99-EC1ED329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B857-A7AD-4E0D-BA4A-8EDEE1F36F3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11EC8-A677-47E0-84FD-06DB0D43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2F3A1-B273-46AF-A611-A4021F8E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456D-F9AA-428E-936D-0EC8855E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36D9-316D-429E-B773-46F90DA4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9C845-BF5F-4994-A15A-7C59993B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8110F-EBE2-4828-8016-2678B31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AAD6-1D3E-4D4B-A64D-AC624A61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A2CA-F1A0-4EA4-B3ED-93FE788F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3689F-37D9-4DBF-AFA5-9DDFD469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C18AA-4B7B-4134-A5AB-F2F51F85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FD40-C62C-47C8-AFFD-8FCE10F0461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1973B-8FCE-495D-AA2F-52725709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CD2CF-8E65-4C44-A475-07E74BFF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0FDD6-D53B-4D8D-B539-B9F62403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69AF-BC21-4608-B830-CAEB6058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3C7C1-0AEB-4658-8F18-B450C2D7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24449-18DF-4C3E-B161-70A2C8FF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BD20D-A6A9-4B70-B985-D57C9BBB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234A5-24D2-4588-9302-92C5BE06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00498-1513-4772-BCD9-4097B98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AECEE-3AE3-4D9F-9B2F-BCFC19BB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9088-9BDA-4D05-A85F-E32C6A5D993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2DA0-63C6-4EF1-AB96-3CA57B38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8C1F7-A6AB-4511-A1BE-D01786AA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D9729-8826-408D-B44D-72921F82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42EB-5116-41F0-8467-4D94F4B0F0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0479-D880-4F6C-99FC-32D2C6D530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06283-854F-4111-9E30-B42479B150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FE0F-4582-441B-A78C-7EBDE8ACA6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85F5-97B9-4B3F-A1D1-4D1B14477C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AD7B4-A4E3-4F8E-ADA5-1C19F1B808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4836-E643-4DE3-8DB3-EDC0AA99C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4518-A2D3-409E-AA3D-82F4C472D4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136A-97A4-4C2D-ABFF-400DA60E79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9211-DB4D-4425-B586-32C313AF3A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137D-6D9F-491A-B45B-F85DEF7EED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4217-9F48-4A4F-9303-8C744BA1E3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C84-C664-4726-B97C-934BE28DE1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5E9-7F32-4FFE-A198-B6B3F1E82D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F93-3930-4F0E-ABDE-5EBB81ABA6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7F8-0748-4B88-A2DC-69162A3FA7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982-93E0-458F-B061-72780E38BD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D9CD-27FF-43F1-A6A1-3A6E04F49A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E5F-DE70-4EB9-8D6B-486300C9D6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32C-3914-495F-93C6-A55A3B2E03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1ED-D161-4C89-BDD3-2D73C6C31C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F5D-2F98-4C8B-8FA6-EF5158F5D3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973-28A2-4F2C-A832-6394AEF3B2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01B-D140-4228-A25A-93DBC05411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63E-C4E3-44B7-A360-942E2BFFA6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90766-0F7F-4443-8CB7-76F50F5A40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0F3C5-39F6-4FA8-B87F-7D0B218B42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1DB5B-0D2A-441D-9464-750B5E56C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4DBB-A34E-4BE3-8226-4A8263FB4F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8F44B-D1FE-46F6-AA75-5B7B8092B2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8541C-C87F-4E58-8B42-D2F762C103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CDE6D-9476-492B-9D37-15F6B3A829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3F77D-E104-4C32-896A-D71C969F56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CCBF4-F519-4FF4-8ADF-D94A928F5C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736A4-A3E1-4074-AB76-5FBCD165A8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B7B66-F6D0-4AFE-91F7-B4DD1D2326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A5B0F-4CFA-4D13-9A20-6B9DEC7927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66BDB-E825-4387-9FE7-BD4B2483CB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E7F23-06BD-4086-A644-B080F476E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AD7B-2290-4F02-89B3-D61F463402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BC409-EA9E-46F9-A2FA-4DFC6159B8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C140A-3E90-445B-A5DC-6280626991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59350-6B58-4309-B7E8-D1FF5B8165A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5C406-3755-4472-8E39-7224FC51F0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1643E-ECCE-4B79-8AE7-7AB4BC5C080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CA1C4-B4CE-4796-BBEA-8A2556F36C3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DFF5B-9D76-4F97-B139-BC2510235D0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DE9D6-E92F-4634-957F-6379B9C191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2B081-0EF9-43B4-B408-7DF9565A3D5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48EAE-262E-482C-A952-38CB2BD8B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6C15-2F56-4010-9C65-C34CAAEBC22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8CBD2-0403-465A-908D-A92C9D3F7E8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0193-CF5B-44D7-92FF-CBB7E251E39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E88B-CB09-45EC-8B6B-B63A395AFFF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EC28-A7BD-463B-ABBE-2B4EB4CA17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A3BA-85ED-4AC1-AB3C-59290071AD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78F2-0A06-4AD6-A6EC-24039E3F55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9B6A-08E4-47DD-BB2F-5A43631A716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8AF5-5A68-4928-B51A-7C6146E363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7C31-351B-46D0-BA26-E623C432CB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2AB3-4723-44DD-8215-31D9CADD3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E233-5515-4DE5-A91C-BCEAD21FE35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BE06-EADA-4C97-A3DA-88869CD2EB3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AC71-A1CF-4F3C-A904-4A915DDE7D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6542-074B-4C77-9DC5-9233C51A18C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076F2-1164-4FA8-B6F5-59283BA252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B4311-C18A-475F-9BFA-7CCBA1C8DF8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B6C4F-8A59-4254-A385-3FE4A881E5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AE1113-B6F5-44ED-8D73-5AB0221614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D8DA4-A81E-48E4-BA46-F5EBBEE5908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325CD-AAE7-4BFA-A1F5-ACB8BB03B7D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529D9-2B91-45FA-9449-A3FCA5824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8D43-FD77-4B17-9C43-DE54C6F6535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53B67-E9CF-438F-B014-E4C6C31A54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6FCB0-192E-405D-AA94-05F45E15C03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40C92-21C3-411D-9943-07B24F28C86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5CDE3-0D67-4AD1-9498-00B9C73319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59AE0-3A98-46B9-BE8E-51367AEFE60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42FF3-2279-4A00-9A87-828E8FCFC8E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88862-357D-43DC-B0BE-D8755A8222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899E7-6C3E-42C5-BC38-07506D73E1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518BA-9C77-409D-A89D-AC8C2B8F2BC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7F6A8-4D4B-4A25-8ACA-558D362D2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458A-C1CC-4C32-B9E1-40C73DFFB3A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FE094-CFC6-454E-A15B-BB179FB533C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DE89C-20E9-4FF0-8F57-DAF8986E86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EAADB-593A-44EF-B0E4-B697BCD4753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BF7BC-9846-41EF-A9FA-CD6B687D323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5BF49-61D7-4B8E-AF16-F9951A4F466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394B4-0BAD-4614-B079-5BA8CE2A55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36A92-FB87-4D97-92D4-67FEB404368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6B56-08EB-407D-A71B-F3E10599A50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5483-E259-4287-A2EB-BC0A3921D6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49AC-6E79-49FA-8A30-6C4DC0A20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75777A-060D-4B12-83DE-AE7B77B7D7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DAD817-A2D2-4574-B79C-0C270E9644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BE292A-F515-4812-9447-7318ED2796B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32E3BC-6E07-45B1-90A7-7DB60B024F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92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13A893-B31B-4DCF-90CC-1BB2D8FA60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3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58381A-1E90-47B6-81BC-FFE90F5994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0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5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A0D6E3-5466-4F52-A0FE-11119DBC57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125255-C198-41B8-B457-1599C51F10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33D2DA-B436-4BDC-A21D-F1C38A343F5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F3C5B4-91D6-4C30-B5DD-5E33982B8A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D9CA19-D80A-4A38-A43F-17E0BB777C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357120" y="285840"/>
            <a:ext cx="8435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285840" y="1428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ел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ой част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неправильной дроб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, какие слова надо встав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может за верст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дробную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чертой –    ………….., знайт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чертою – 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такую непремен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вать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что за дробь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обыкновенна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сегодня с 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новенные…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5689440" y="3514680"/>
            <a:ext cx="3240360" cy="270036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4"/>
          <p:cNvGrpSpPr/>
          <p:nvPr/>
        </p:nvGrpSpPr>
        <p:grpSpPr>
          <a:xfrm>
            <a:off x="7291440" y="2010960"/>
            <a:ext cx="724680" cy="1035720"/>
            <a:chOff x="7291440" y="2010960"/>
            <a:chExt cx="724680" cy="1035720"/>
          </a:xfrm>
        </p:grpSpPr>
        <p:sp>
          <p:nvSpPr>
            <p:cNvPr id="546" name="WordArt 5"/>
            <p:cNvSpPr txBox="1"/>
            <p:nvPr/>
          </p:nvSpPr>
          <p:spPr>
            <a:xfrm rot="2700000">
              <a:off x="7678080" y="202644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7" name="WordArt 6"/>
            <p:cNvSpPr txBox="1"/>
            <p:nvPr/>
          </p:nvSpPr>
          <p:spPr>
            <a:xfrm rot="2700000">
              <a:off x="7409160" y="260640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6</a:t>
              </a:r>
              <a:endPara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8" name="WordArt 7"/>
            <p:cNvSpPr txBox="1"/>
            <p:nvPr/>
          </p:nvSpPr>
          <p:spPr>
            <a:xfrm rot="2700000">
              <a:off x="7325640" y="2552400"/>
              <a:ext cx="617400" cy="39600"/>
            </a:xfrm>
            <a:prstGeom prst="rect">
              <a:avLst/>
            </a:prstGeom>
          </p:spPr>
          <p:txBody>
            <a:bodyPr wrap="none" lIns="90000" rIns="90000" tIns="-6840" bIns="-684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-</a:t>
              </a:r>
              <a:endPara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9" name="TextBox 8"/>
          <p:cNvSpPr/>
          <p:nvPr/>
        </p:nvSpPr>
        <p:spPr>
          <a:xfrm>
            <a:off x="3786120" y="15717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ер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3000240" y="1996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3286080" y="2357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знамен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1"/>
          <p:cNvSpPr/>
          <p:nvPr/>
        </p:nvSpPr>
        <p:spPr>
          <a:xfrm>
            <a:off x="2714760" y="314316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обыкновенн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2500200" y="1685880"/>
            <a:ext cx="4419720" cy="445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285840" y="1428840"/>
                <a:ext cx="884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1214280" y="3857760"/>
                <a:ext cx="85752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7215120" y="4143240"/>
                <a:ext cx="9144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8001000" y="1357200"/>
                <a:ext cx="83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7"/>
          <p:cNvSpPr/>
          <p:nvPr/>
        </p:nvSpPr>
        <p:spPr>
          <a:xfrm>
            <a:off x="1000080" y="214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часть фигуры закраше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000680" cy="3886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6705720" y="4038480"/>
                <a:ext cx="99036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7858080" y="157176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6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4952880" y="167652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Rectangle 8"/>
          <p:cNvSpPr/>
          <p:nvPr/>
        </p:nvSpPr>
        <p:spPr>
          <a:xfrm>
            <a:off x="21420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 дробь, которая соответствует белому цве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7" name="Object 1"/>
              <p:cNvSpPr txBox="1"/>
              <p:nvPr/>
            </p:nvSpPr>
            <p:spPr>
              <a:xfrm>
                <a:off x="785880" y="1274760"/>
                <a:ext cx="1000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1868400" y="1285920"/>
                <a:ext cx="9892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2851200" y="1325520"/>
                <a:ext cx="12920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4338720" y="1357200"/>
                <a:ext cx="11620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5643720" y="1285920"/>
                <a:ext cx="1071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6786720" y="1368360"/>
                <a:ext cx="128556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Text Box 7"/>
          <p:cNvSpPr/>
          <p:nvPr/>
        </p:nvSpPr>
        <p:spPr>
          <a:xfrm>
            <a:off x="395280" y="35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85880" y="377820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неправиль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5" name="Object 1"/>
              <p:cNvSpPr txBox="1"/>
              <p:nvPr/>
            </p:nvSpPr>
            <p:spPr>
              <a:xfrm>
                <a:off x="1227240" y="1627200"/>
                <a:ext cx="844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2314440" y="1555920"/>
                <a:ext cx="90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419640" y="1587600"/>
                <a:ext cx="8665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4446720" y="1571760"/>
                <a:ext cx="8395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5510160" y="1523880"/>
                <a:ext cx="91908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6"/>
              <p:cNvSpPr txBox="1"/>
              <p:nvPr/>
            </p:nvSpPr>
            <p:spPr>
              <a:xfrm>
                <a:off x="6616800" y="1484280"/>
                <a:ext cx="95544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8"/>
          <p:cNvSpPr/>
          <p:nvPr/>
        </p:nvSpPr>
        <p:spPr>
          <a:xfrm>
            <a:off x="571680" y="3513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правильн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065240" y="1555920"/>
                <a:ext cx="9349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2260440" y="1627200"/>
                <a:ext cx="811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3328920" y="1555920"/>
                <a:ext cx="8859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4405320" y="1627200"/>
                <a:ext cx="809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5429160" y="1571760"/>
                <a:ext cx="142884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7"/>
              <p:cNvSpPr txBox="1"/>
              <p:nvPr/>
            </p:nvSpPr>
            <p:spPr>
              <a:xfrm>
                <a:off x="6973920" y="1484280"/>
                <a:ext cx="95580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очитайте чи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71640" y="630360"/>
            <a:ext cx="7488000" cy="582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9:32:57Z</dcterms:created>
  <dc:creator>Мокеев Михаил Валерьевич</dc:creator>
  <dc:description/>
  <dc:language>en-US</dc:language>
  <cp:lastModifiedBy>YAKOVLEV</cp:lastModifiedBy>
  <dcterms:modified xsi:type="dcterms:W3CDTF">2012-12-15T17:32:17Z</dcterms:modified>
  <cp:revision>135</cp:revision>
  <dc:subject/>
  <dc:title>Слайд 1</dc:title>
</cp:coreProperties>
</file>