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276F-84E0-464A-91ED-D89BB7D39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5E91-99EB-4935-99AA-104B4CF8B1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C2C2-D1B7-4FC1-BF0A-B04DF03715C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549FF-6541-48EC-A61C-FB9BC6A7A86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DED0-9969-43F8-B813-FB60F501143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F43C-59B5-4D45-A9D5-D9781719217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2D22-ACEE-4935-B9D9-8FEA6C2E307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A311E-C7F8-4838-96F9-F09D6A0BB97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2785B-94A7-4FD8-9816-770C33C729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2CC9-8B59-4399-9393-16269032596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0A32-1C15-414D-8FA2-BC3607B521A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D7AAE-EC3E-4D0D-A3A7-9A8BF474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D1E6-4C26-4AB1-B7C7-148CEA05FD0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1E90-1894-409F-AE2A-651BAC23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B2017-64C3-4ED0-ACD4-959C29B4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C767A-636A-4CBD-A357-5437AAA9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FEBBD-DE4A-49CE-9A15-EA9601A6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BB2CE-8058-437C-9BFD-041CD5D5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20122-0062-4BAA-B8E8-D5F3391A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B23C-EE50-4694-85C5-264FDCEF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A2F1C-CA5E-468C-BDDC-B89C8BB1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DBB57-141B-4B26-AA80-0C847366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69C61-E6AF-4E2D-8D6A-519C6271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A348-9456-4250-BAEE-D2584FBA5F2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DF0B7-205F-4007-8A07-B3F6850E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837E-AA08-4044-A833-4B583090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E0FB3-4603-4B49-B785-36125781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0A1F0-2E11-41DC-B4E1-2E798E56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5D5E-DFC9-4B57-8B9C-1DB75299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E15CD-74C1-4EE3-8CD0-675D2A61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1820D-DBF5-48A7-9D98-F1045725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036E2-CF79-4E70-9D42-A44BD42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16DB8-704D-4E3C-9D71-167702F8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A0753-6B65-4632-96B2-14BB95AF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DD89-FF16-4394-8DD9-41A33D91070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2A7C-6EA9-4E82-96C4-7405BBE0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571E4-BAEF-413A-98AD-4325610C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8B8F3-B4BB-40B3-809E-043BD14E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A08A-C21C-4A0C-9498-677E531C38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21E80-E63E-4A77-A23B-668CA3904E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751B4-8702-4C69-A321-ABD530EBDC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AE571-9A29-45E7-86D4-9EA7B1EB6D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6F8F-2BE1-4A88-BF53-96C24B444F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CB42-0033-4EBA-A8A1-E911366EAE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E1C1-C294-450D-B855-DF51D4BEE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1446C-AA9B-4F87-9B34-59E6896B4D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2C88-7115-4F81-819E-DE832F7781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FE21-881D-4D4B-B76D-79F80DD036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1716-B3D3-43CB-98E6-FA7E01B560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9003-8B15-438F-8027-F6AA793EEA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3ED-6DCA-437D-BE9E-3F6AFFF2AE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2A6-2EF1-4238-9C4A-253FF17951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20D-1943-48B4-AFD7-7ABE86D7C7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707-7633-4CCE-80D5-BEDE6DB858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8DB-BCF2-4FCE-ACFA-CF1094256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561E-35D0-4A71-928D-9E19CAF680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DEC-8B49-4D51-9C6B-647ABBB568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578-0166-4F2D-BE53-985FF99D85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092-38CE-4630-BB5D-6D82BD28F4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0BD-D877-4087-A777-72F6DB9283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B16-90D3-4115-ADD4-2BFA9DEB90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41E-2E7D-41DE-A699-D028C75D11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AD5-A99E-429E-A175-6346E94390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3A470-4050-4AC3-9248-AF44611A85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D3ABE-B89B-4A69-929E-14E2AABCBD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EDB3C-31A2-47DE-9C97-2B7C77C75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EF80-E049-4F75-A629-408E1D507F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2AFF6-9701-45EC-8A37-8E80D6A83D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87B94-07A9-4A3B-AA64-47E59F0D58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0B058-A3BA-4370-AFF9-5D7FB71A96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2AD83-846D-48B9-8FFC-CB21645776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67528-AFF3-4D3F-A080-79212769C8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940C3-CED2-437E-9295-01530896A9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8A1F4-791B-42D9-B862-157E33FA0B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371A5-4796-4488-AF9D-E68DC43B0C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09BFE-C547-4E6D-9456-BE575FAEEB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28D79-B779-433D-8396-BE334A1DD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DC0E-05BC-4113-A489-0246BFE3A0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FB62C-3FE4-4467-988D-5A816A1BAB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92470-EFD4-4B58-A640-3B1F85F4FE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FB765-5F23-49FD-9599-1C07E77FB4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D2EBF-63A7-49E7-AD98-C6C9FE66287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B4915-F30C-489B-B5D6-6269DC60D5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6D246-AE24-4FF2-9493-2377167DCBC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E40D1-E7F7-4E9B-BD53-82B6D5C3AC2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2451E-D806-491E-97A2-0E3753D4A5C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2A6FF-924A-4DE2-9274-C6783771CB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EC467-BFD9-4B88-8B7E-33457E15D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1E02-A9F6-4437-9DDF-BBADB50DECF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EA8DA-08FA-44A5-A9D1-BED2050BE3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8FAC-5ACE-45AF-9ACC-D997237442C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C651-47EF-4210-BEBC-3E6A218C79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B73B-9C17-4CA5-97B4-89317141DE3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E431-8BE0-4328-9AE5-3C2B52BEA5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7074-CFBD-41F0-8E5F-778C448C49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1FA8-689F-4F63-B754-4DD288A886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958A-144C-4EAE-8125-6C4E1680CB1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84DE-46B0-4AEF-B79F-0150672B913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9ACA-14ED-4C5B-A824-EAAB386FE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731F-3239-4FB3-9A47-8DAD2FC5939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BEE8-2E07-4A02-BF02-74AFF9A6CF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6247-1633-4D41-A8CE-78D074F1366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4472-0E6E-4CA1-99E2-6153711D95B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710E69-1552-42FA-94D2-85D43DB7719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2B5B3-33DD-475F-BAFA-BA612ABE415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F8A7F-193C-49FA-A976-609FEF8608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77F367-AC46-43B5-824B-08AA0B97AD3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3225E-7379-41FD-A36A-37492B4DF6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EADDB9-A32B-4A83-B72F-4E2E2EB4A5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0BEC5-5E14-4F75-8CAE-5166F96F6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AC88-72B2-42AE-B405-EFB639A63F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1C146-26AB-41A9-A781-97B1D567710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383D2A-167E-40AA-BEF4-3AE745DA7A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F70F02-8449-42F5-9D58-782650ADDAA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C86FA-13F4-4E47-8115-99A33722D7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052FCE-A850-4B1E-8128-24001DAB72A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28734-436E-448D-991D-8064BF89AE7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0B942-A43F-48E8-8640-80E8504A396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1A5BB-C9AF-413C-BF0F-A13B8F4FFD8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BFCDA-CBFF-4F5D-837A-1BACA20F9E7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2FB9F-FA24-4125-9019-4B0D1B94C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4A52-58DC-41E1-AA55-B9905CAEF01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EACB5-DC5A-42D9-A3CE-BA5ED2CA504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BC04B-E395-47A4-A27F-44C7255529D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B9737-D37F-46F3-982F-B80A9328BC9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4FE42-04D4-45BB-845B-0B8FD7F18B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8CF48-48B4-40D4-ACB9-C43E64E12B2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52D6D-F1D7-4287-80FD-51E0BBCE815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E8D86-1E97-4D8F-92C0-74E668CE499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C34C-BD8D-4218-98DD-F222921B96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2948-E11D-45F7-BE89-45FC550D3C0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AFD05-F3E3-4650-9214-A0070008A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406D9F-7254-476D-907B-D4D3479F78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6F3327-2D1C-4D1C-83DB-8086EFE7A76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807FDD-CE89-4135-AFBF-9ED0A59588F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42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D6038F-5A2D-42E3-AC3C-52BEB65D31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92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893FB5-138E-490E-AB83-EA8739DEFC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3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920CE6-2509-433F-ACD2-E4A664D4D7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0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5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18105B-D8D0-48DE-8AB3-552CB75589C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1564C5-D9AA-4DA8-8E89-BFCBCD918E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9B0129-494D-43AD-A673-725809B4C7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B6DCFD-F8C8-46FD-8A76-B148E862A88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CBA941-0A10-445F-BF78-D756A9E97E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357120" y="285840"/>
            <a:ext cx="84358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24"/>
          <p:cNvSpPr/>
          <p:nvPr/>
        </p:nvSpPr>
        <p:spPr>
          <a:xfrm>
            <a:off x="285840" y="1428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деле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ой част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 неправильной дроб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те, какие слова надо встав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может за верст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дробную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чертой –    ………….., знайт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чертою – 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такую непремен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вать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что за дробь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обыкновенна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сегодня с 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новенные…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5689440" y="3514680"/>
            <a:ext cx="3240360" cy="270036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4"/>
          <p:cNvGrpSpPr/>
          <p:nvPr/>
        </p:nvGrpSpPr>
        <p:grpSpPr>
          <a:xfrm>
            <a:off x="7291440" y="2010960"/>
            <a:ext cx="724680" cy="1035720"/>
            <a:chOff x="7291440" y="2010960"/>
            <a:chExt cx="724680" cy="1035720"/>
          </a:xfrm>
        </p:grpSpPr>
        <p:sp>
          <p:nvSpPr>
            <p:cNvPr id="546" name="WordArt 5"/>
            <p:cNvSpPr txBox="1"/>
            <p:nvPr/>
          </p:nvSpPr>
          <p:spPr>
            <a:xfrm rot="2700000">
              <a:off x="7678080" y="202644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7" name="WordArt 6"/>
            <p:cNvSpPr txBox="1"/>
            <p:nvPr/>
          </p:nvSpPr>
          <p:spPr>
            <a:xfrm rot="2700000">
              <a:off x="7409160" y="260640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6</a:t>
              </a:r>
              <a:endPara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8" name="WordArt 7"/>
            <p:cNvSpPr txBox="1"/>
            <p:nvPr/>
          </p:nvSpPr>
          <p:spPr>
            <a:xfrm rot="2700000">
              <a:off x="7325640" y="2552400"/>
              <a:ext cx="617400" cy="39600"/>
            </a:xfrm>
            <a:prstGeom prst="rect">
              <a:avLst/>
            </a:prstGeom>
          </p:spPr>
          <p:txBody>
            <a:bodyPr wrap="none" lIns="90000" rIns="90000" tIns="-6840" bIns="-684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-</a:t>
              </a:r>
              <a:endPara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9" name="TextBox 8"/>
          <p:cNvSpPr/>
          <p:nvPr/>
        </p:nvSpPr>
        <p:spPr>
          <a:xfrm>
            <a:off x="3786120" y="15717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ер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3000240" y="1996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исл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3286080" y="2357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знамен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11"/>
          <p:cNvSpPr/>
          <p:nvPr/>
        </p:nvSpPr>
        <p:spPr>
          <a:xfrm>
            <a:off x="2714760" y="314316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обыкновенн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2500200" y="1685880"/>
            <a:ext cx="4419720" cy="445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285840" y="1428840"/>
                <a:ext cx="884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1214280" y="3857760"/>
                <a:ext cx="85752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7215120" y="4143240"/>
                <a:ext cx="91440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8001000" y="1357200"/>
                <a:ext cx="838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7"/>
          <p:cNvSpPr/>
          <p:nvPr/>
        </p:nvSpPr>
        <p:spPr>
          <a:xfrm>
            <a:off x="1000080" y="214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часть фигуры закрашен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000680" cy="38862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6705720" y="4038480"/>
                <a:ext cx="99036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7858080" y="157176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6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4952880" y="167652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Rectangle 8"/>
          <p:cNvSpPr/>
          <p:nvPr/>
        </p:nvSpPr>
        <p:spPr>
          <a:xfrm>
            <a:off x="21420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 дробь, которая соответствует белому цве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7" name="Object 1"/>
              <p:cNvSpPr txBox="1"/>
              <p:nvPr/>
            </p:nvSpPr>
            <p:spPr>
              <a:xfrm>
                <a:off x="785880" y="1274760"/>
                <a:ext cx="1000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1868400" y="1285920"/>
                <a:ext cx="9892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2851200" y="1325520"/>
                <a:ext cx="12920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4338720" y="1357200"/>
                <a:ext cx="11620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5643720" y="1285920"/>
                <a:ext cx="10713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6786720" y="1368360"/>
                <a:ext cx="128556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Text Box 7"/>
          <p:cNvSpPr/>
          <p:nvPr/>
        </p:nvSpPr>
        <p:spPr>
          <a:xfrm>
            <a:off x="395280" y="35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785880" y="377820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неправильн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5" name="Object 1"/>
              <p:cNvSpPr txBox="1"/>
              <p:nvPr/>
            </p:nvSpPr>
            <p:spPr>
              <a:xfrm>
                <a:off x="1227240" y="1627200"/>
                <a:ext cx="8445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2314440" y="1555920"/>
                <a:ext cx="9003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419640" y="1587600"/>
                <a:ext cx="86652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4446720" y="1571760"/>
                <a:ext cx="8395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5510160" y="1523880"/>
                <a:ext cx="91908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6"/>
              <p:cNvSpPr txBox="1"/>
              <p:nvPr/>
            </p:nvSpPr>
            <p:spPr>
              <a:xfrm>
                <a:off x="6616800" y="1484280"/>
                <a:ext cx="95544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8"/>
          <p:cNvSpPr/>
          <p:nvPr/>
        </p:nvSpPr>
        <p:spPr>
          <a:xfrm>
            <a:off x="571680" y="3513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правильно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065240" y="1555920"/>
                <a:ext cx="9349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2260440" y="1627200"/>
                <a:ext cx="811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3328920" y="1555920"/>
                <a:ext cx="8859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4405320" y="1627200"/>
                <a:ext cx="8096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5429160" y="1571760"/>
                <a:ext cx="142884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7"/>
              <p:cNvSpPr txBox="1"/>
              <p:nvPr/>
            </p:nvSpPr>
            <p:spPr>
              <a:xfrm>
                <a:off x="6973920" y="1484280"/>
                <a:ext cx="95580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9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очитайте чис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71640" y="630360"/>
            <a:ext cx="7488000" cy="582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9:32:57Z</dcterms:created>
  <dc:creator>Мокеев Михаил Валерьевич</dc:creator>
  <dc:description/>
  <dc:language>en-US</dc:language>
  <cp:lastModifiedBy>YAKOVLEV</cp:lastModifiedBy>
  <dcterms:modified xsi:type="dcterms:W3CDTF">2012-12-15T17:32:17Z</dcterms:modified>
  <cp:revision>135</cp:revision>
  <dc:subject/>
  <dc:title>Слайд 1</dc:title>
</cp:coreProperties>
</file>