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6E5A-9290-4CF7-B2C8-92DE328CB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8D03-B8F3-4F8D-8044-1BA9E114032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FB120-30DD-4C90-A287-E39E4608ECE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9C119-E790-4D47-B916-E1CABC6161B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DBEE3-EDC3-4BF2-8D43-DF0F2013C60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8DC1F-BCB6-4F55-ABC7-8379756F5F1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8C0BE-4BC0-418A-A07F-DF9350606E9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70C4E-AFA2-42A4-BBB2-8030BDDEAC3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20CF3-AEFF-4859-BA15-7DD5F134F63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640E9-F91C-4B31-8C8C-D66C516004C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6245A-2E34-489B-86A9-8880C6E1DAD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48B42-D605-451F-ACE0-4012FA9B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8577-CC3D-4ACF-A292-5706C83943B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F6E87-579A-4160-9448-35F45062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D4B24-2559-4352-A584-73589FB2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D5E29-7CA1-482E-AD36-EF04462B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E03C3-60FD-4419-88D0-E8E9DAFA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5AE1D-2336-401F-9215-629DFCFF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95FAB-ED18-4FB0-84BC-E8B2D298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0B23C-0530-45A9-87C9-CEE5AC16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0E368-8FFF-4D21-B63B-15164AE4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19C07-0A6A-473A-9DE8-B693C488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93F0F-DF51-4D46-ADC9-34076958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F57A-B38A-4882-946E-B0D6D5DE0DA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C2CEB-8CFC-42CC-A775-81F38881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F642B-DC2C-403D-863F-F7FA6562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59A08-3F0E-4504-8177-2939C675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CF3A5-59CD-4691-BD87-48385459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A7D6B-BACD-4FFB-B0DD-F3A765F7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E0DC4-6633-43DF-973B-3F77FDA1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36501-2F77-4A0B-B33F-69B2512C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08186-5E02-416D-BE51-11E7660C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39DBE-EFD3-4CA0-9C1D-3CE970E2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605DB-70A5-4967-96B5-DE0171FF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D5B4C-756B-4184-893F-687FDA81D3D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0CD24-030A-4F58-8C5D-F383B1C8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1E988-C3A8-4D8F-B2FD-8BDD3383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3CE70-F41D-4FA7-A09E-2B4A3443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63AF-FBC2-44E2-BA92-F49D6A6F50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A96C-9236-4915-AE8F-22595E86E6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6B277-1DF1-4B92-97AF-257E350890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7AACF-0BAD-443F-BD6E-18A12DB7F4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A27A6-B1CC-4F67-BAAF-B790C0A608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74295-7744-4EBB-A170-948BCA4908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8E2F-0C22-406B-8F18-D53605D1D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CB0D5-1B34-4D6E-AC2E-2DCC857685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F8A21-F3A4-4989-B163-5B7E3C39D0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220A8-565D-4E0C-9DBD-7F60F2FA74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27AC-83B1-47E6-9A05-DDB09979FA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39A5D-F0FD-4180-87F4-7886A065D8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C6A-349A-4A59-B3AC-B1A2F6AD3C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65C-670C-42E7-AEDE-EB886D0099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252-2FAF-45EF-9D42-6E0F36A1B3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8581-5B93-4191-B444-896B4A6B82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F2E4-7C35-4958-AA1B-C5307D244C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C563-DB95-4C7C-AAA8-0BADDAD37D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BC87-2E16-4B04-A367-F0DD35708F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079-F188-4A77-9E57-66FBD05876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5EF-4ECD-4B7C-8B4E-1977DD52DE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71B-9F64-4EA9-BA68-A9B1293B27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E6BB-AFE6-4C12-A59F-7A7F6426F8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631-3B10-4B25-8803-D9E28D4476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9E0-37D2-47A6-8DB0-CA6F75C532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6FC67-5AA3-4192-93DA-5797F743FB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AA4D9-2E9C-4492-83A0-511EFA4153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FB93F-4445-4D77-BDF1-E22769E98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ECA56-FF33-4E5B-958E-E8A63E36FE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594A3-7683-4701-826B-C913B3BE41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7FD32-9F07-410F-AF53-C151624620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E3AAE-D4D5-4569-8C3B-E803431ECBE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BE623-C5D2-4AF5-9B57-C59F80BABD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EAA4C-F9E2-40A3-8F3B-4BC30F87D38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32C73-EA28-4F1F-8D2F-BFD432E118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AE21C-3E9D-4A9A-8BA7-A9D59FE8CF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3E4B2-7979-47BC-81F2-51784B0E1B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7D29D-471B-44F8-BB12-7470BBBB05D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041BB-1E0D-406A-9834-68224696E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190C-F9C2-40A5-8A0E-35EC6B09687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0B100-2518-4F36-A28A-6B4D1F3611B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46242-6FE7-4C78-ABC3-DAB942E4C1E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62E09-1FC5-4B31-901E-AB616A35F6C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38F5C-1E4A-494C-8255-C70584802C4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FEBCD-06A8-4C50-98EE-48FE57912AF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6F9D9-F900-430F-927F-F478349F2AC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70CC8-6A04-4FD1-AA60-AFD714B3253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A83EE-80DA-46BA-9C67-800F97C5502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1128A-ED47-4F18-838E-FEBA344CB40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5B747-CA3E-4845-91E2-3E1E39414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BDEE-79BA-4610-BF10-F023224FE1E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A0AC6-B839-4724-8FAD-0CF5B1DB47E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7C18-78A7-46E1-AA1D-31D66D3AA16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422A-C6EC-4B74-BE22-2E3F00583B6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DBD6-A0F6-4077-A246-26433CEDF3B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93C7-DE86-4388-9447-C56C977B1CB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8056-2E3B-4084-A56A-9BA0B4C8BD3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DC23-638C-4CEB-87CA-CADA6A5F54C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847C-7EF9-4A42-A275-70EB2CC67F4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3633-4EFD-496F-BB37-3A510512667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E461-2BE9-468A-9FF3-617BE35BE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8672-BC0E-4E97-B9F5-02546BAAAD4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209D-5EEE-4AF2-960F-0DB1447B25B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9CD7-A825-4D6A-9802-30CEAAE64B5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1699-1918-4F00-8770-1F661E5E79C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FC329C-103D-49F4-87E2-00FA47E0199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BF6800-A012-4FFA-AACF-9CF87795BB5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9B6AFD-8ED9-40B0-AFF8-CD9CDEC8DCD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06457C-F524-46A0-ABDE-B2DEC00FCB1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1F9F47-87EC-40AE-909A-675AAB0CE66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A46545-2A45-4B97-A78D-ED56C028481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F96589-CA5F-4D80-8A73-6008A0BC1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B486-3316-4940-8CF6-DA891C09D2C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EA3323-9902-49AB-A2A0-85E56691958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48BE1C-DC79-40D8-80CF-19B48CA662F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C7307B-2E79-49BB-B4E0-469F2863911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1AC3F6-FF37-4871-8345-26140A66026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453907-B9FF-4EBB-8174-AEC1811C586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6EDF6-ACF5-4657-AB98-6921EC276FA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518EA-67AC-433A-B435-ACC2C0E822C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9F551-A36B-404B-B25F-3EE27251120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32F84-5F4E-4E7D-914A-F83867560B2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1DF58-EA56-4793-A016-89F2B4DEE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3F39-C10F-4521-B76D-02E7579799B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63D45-9C4A-42C5-9E48-C2B3646A39C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8F3B5-A4C8-441A-8900-6139121D67F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CA59E-A4F6-46D7-9C77-38ABF0DC13A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A7DC8-7740-4C7E-A13F-68546D48295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5578D2-944F-41DC-8302-3D5CD4346DE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05A79-B0F5-483A-A3C9-3EA85FA2884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B2F9F-A058-49E6-812C-598AAB35176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95ED5-B830-45A1-9290-39723DD1D80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670B7-F7D9-4147-843B-8658B2AA85B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98381-5BA9-459E-AD7B-98EE6AE1F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6D6210-DBFF-4AB2-8224-D59C355ED9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70C687-E543-435D-9FAA-6B908A12D64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5CCB39-34B3-46F9-B98D-97766DE5A01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8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9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9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506520" y="5340240"/>
            <a:ext cx="8642160" cy="22320"/>
            <a:chOff x="506520" y="5340240"/>
            <a:chExt cx="8642160" cy="22320"/>
          </a:xfrm>
        </p:grpSpPr>
        <p:pic>
          <p:nvPicPr>
            <p:cNvPr id="42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6B360F-B1CC-4461-9BD0-9BE6D818FFE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86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Group 4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89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Group 7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92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978C17-6CD5-4A9C-A3A9-4CD35FF9D08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506520" y="3432240"/>
            <a:ext cx="8642160" cy="22320"/>
            <a:chOff x="506520" y="3432240"/>
            <a:chExt cx="8642160" cy="22320"/>
          </a:xfrm>
        </p:grpSpPr>
        <p:pic>
          <p:nvPicPr>
            <p:cNvPr id="136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4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C49199-614A-4A9E-9D09-1B3C37E9570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"/>
          <p:cNvGrpSpPr/>
          <p:nvPr/>
        </p:nvGrpSpPr>
        <p:grpSpPr>
          <a:xfrm>
            <a:off x="506520" y="6010200"/>
            <a:ext cx="8642160" cy="23760"/>
            <a:chOff x="506520" y="6010200"/>
            <a:chExt cx="8642160" cy="23760"/>
          </a:xfrm>
        </p:grpSpPr>
        <p:pic>
          <p:nvPicPr>
            <p:cNvPr id="180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21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5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D8449D-6C9F-4C6B-868C-7EF1D36DD46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6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8893C0-5916-40C9-BBCE-89797B7FC71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"/>
          <p:cNvGrpSpPr/>
          <p:nvPr/>
        </p:nvGrpSpPr>
        <p:grpSpPr>
          <a:xfrm>
            <a:off x="506520" y="5840280"/>
            <a:ext cx="8642160" cy="22320"/>
            <a:chOff x="506520" y="5840280"/>
            <a:chExt cx="8642160" cy="22320"/>
          </a:xfrm>
        </p:grpSpPr>
        <p:pic>
          <p:nvPicPr>
            <p:cNvPr id="26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C5F99A-C3A8-468A-A385-5F5DFA51DB6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29E3C1-73B1-4DCB-B6B3-66EA7033CF0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9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35C821-D5F3-4475-9849-D5EBBB52A64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3"/>
          <p:cNvSpPr/>
          <p:nvPr/>
        </p:nvSpPr>
        <p:spPr>
          <a:xfrm>
            <a:off x="357120" y="285840"/>
            <a:ext cx="84358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Box 24"/>
          <p:cNvSpPr/>
          <p:nvPr/>
        </p:nvSpPr>
        <p:spPr>
          <a:xfrm>
            <a:off x="285840" y="14288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делени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ой част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 неправильной дроб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те, какие слова надо встави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может за версту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 дробную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чертой –    ………….., знайт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чертою – 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ь такую непременн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звать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……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что за дробь –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ь обыкновенна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сегодня с н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гновенные…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5689440" y="3514680"/>
            <a:ext cx="3240360" cy="2700360"/>
          </a:xfrm>
          <a:prstGeom prst="rect">
            <a:avLst/>
          </a:prstGeom>
          <a:ln w="0">
            <a:noFill/>
          </a:ln>
        </p:spPr>
      </p:pic>
      <p:grpSp>
        <p:nvGrpSpPr>
          <p:cNvPr id="545" name="Group 4"/>
          <p:cNvGrpSpPr/>
          <p:nvPr/>
        </p:nvGrpSpPr>
        <p:grpSpPr>
          <a:xfrm>
            <a:off x="7291440" y="2010960"/>
            <a:ext cx="724680" cy="1035720"/>
            <a:chOff x="7291440" y="2010960"/>
            <a:chExt cx="724680" cy="1035720"/>
          </a:xfrm>
        </p:grpSpPr>
        <p:sp>
          <p:nvSpPr>
            <p:cNvPr id="546" name="WordArt 5"/>
            <p:cNvSpPr txBox="1"/>
            <p:nvPr/>
          </p:nvSpPr>
          <p:spPr>
            <a:xfrm rot="2700000">
              <a:off x="7678080" y="2026440"/>
              <a:ext cx="219960" cy="42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1</a:t>
              </a:r>
              <a:endPara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47" name="WordArt 6"/>
            <p:cNvSpPr txBox="1"/>
            <p:nvPr/>
          </p:nvSpPr>
          <p:spPr>
            <a:xfrm rot="2700000">
              <a:off x="7409160" y="2606400"/>
              <a:ext cx="219960" cy="42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6</a:t>
              </a:r>
              <a:endPara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48" name="WordArt 7"/>
            <p:cNvSpPr txBox="1"/>
            <p:nvPr/>
          </p:nvSpPr>
          <p:spPr>
            <a:xfrm rot="2700000">
              <a:off x="7325640" y="2552400"/>
              <a:ext cx="617400" cy="39600"/>
            </a:xfrm>
            <a:prstGeom prst="rect">
              <a:avLst/>
            </a:prstGeom>
          </p:spPr>
          <p:txBody>
            <a:bodyPr wrap="none" lIns="90000" rIns="90000" tIns="-6840" bIns="-684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-</a:t>
              </a:r>
              <a:endPara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549" name="TextBox 8"/>
          <p:cNvSpPr/>
          <p:nvPr/>
        </p:nvSpPr>
        <p:spPr>
          <a:xfrm>
            <a:off x="3786120" y="157176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черт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Box 9"/>
          <p:cNvSpPr/>
          <p:nvPr/>
        </p:nvSpPr>
        <p:spPr>
          <a:xfrm>
            <a:off x="3000240" y="19969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числи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Box 10"/>
          <p:cNvSpPr/>
          <p:nvPr/>
        </p:nvSpPr>
        <p:spPr>
          <a:xfrm>
            <a:off x="3286080" y="23572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знамена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Box 11"/>
          <p:cNvSpPr/>
          <p:nvPr/>
        </p:nvSpPr>
        <p:spPr>
          <a:xfrm>
            <a:off x="2714760" y="3143160"/>
            <a:ext cx="34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обыкновенн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" descr=""/>
          <p:cNvPicPr/>
          <p:nvPr/>
        </p:nvPicPr>
        <p:blipFill>
          <a:blip r:embed="rId1"/>
          <a:stretch/>
        </p:blipFill>
        <p:spPr>
          <a:xfrm>
            <a:off x="2500200" y="1685880"/>
            <a:ext cx="4419720" cy="4457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285840" y="1428840"/>
                <a:ext cx="8841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"/>
              <p:cNvSpPr txBox="1"/>
              <p:nvPr/>
            </p:nvSpPr>
            <p:spPr>
              <a:xfrm>
                <a:off x="1214280" y="3857760"/>
                <a:ext cx="857520" cy="22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5"/>
              <p:cNvSpPr txBox="1"/>
              <p:nvPr/>
            </p:nvSpPr>
            <p:spPr>
              <a:xfrm>
                <a:off x="7215120" y="4143240"/>
                <a:ext cx="91440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6"/>
              <p:cNvSpPr txBox="1"/>
              <p:nvPr/>
            </p:nvSpPr>
            <p:spPr>
              <a:xfrm>
                <a:off x="8001000" y="1357200"/>
                <a:ext cx="8380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8" name="Rectangle 7"/>
          <p:cNvSpPr/>
          <p:nvPr/>
        </p:nvSpPr>
        <p:spPr>
          <a:xfrm>
            <a:off x="1000080" y="21420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ая часть фигуры закрашен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" descr=""/>
          <p:cNvPicPr/>
          <p:nvPr/>
        </p:nvPicPr>
        <p:blipFill>
          <a:blip r:embed="rId1"/>
          <a:stretch/>
        </p:blipFill>
        <p:spPr>
          <a:xfrm>
            <a:off x="357120" y="2500200"/>
            <a:ext cx="4000680" cy="388620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2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3"/>
              <p:cNvSpPr txBox="1"/>
              <p:nvPr/>
            </p:nvSpPr>
            <p:spPr>
              <a:xfrm>
                <a:off x="6705720" y="4038480"/>
                <a:ext cx="99036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5"/>
              <p:cNvSpPr txBox="1"/>
              <p:nvPr/>
            </p:nvSpPr>
            <p:spPr>
              <a:xfrm>
                <a:off x="7858080" y="1571760"/>
                <a:ext cx="914400" cy="23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4" name="Rectangle 6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7"/>
              <p:cNvSpPr txBox="1"/>
              <p:nvPr/>
            </p:nvSpPr>
            <p:spPr>
              <a:xfrm>
                <a:off x="4952880" y="1676520"/>
                <a:ext cx="914400" cy="23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Rectangle 8"/>
          <p:cNvSpPr/>
          <p:nvPr/>
        </p:nvSpPr>
        <p:spPr>
          <a:xfrm>
            <a:off x="214200" y="21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йди дробь, которая соответствует белому цвет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7" name="Object 1"/>
              <p:cNvSpPr txBox="1"/>
              <p:nvPr/>
            </p:nvSpPr>
            <p:spPr>
              <a:xfrm>
                <a:off x="785880" y="1274760"/>
                <a:ext cx="100008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2"/>
              <p:cNvSpPr txBox="1"/>
              <p:nvPr/>
            </p:nvSpPr>
            <p:spPr>
              <a:xfrm>
                <a:off x="1868400" y="1285920"/>
                <a:ext cx="989280" cy="18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2851200" y="1325520"/>
                <a:ext cx="129204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4"/>
              <p:cNvSpPr txBox="1"/>
              <p:nvPr/>
            </p:nvSpPr>
            <p:spPr>
              <a:xfrm>
                <a:off x="4338720" y="1357200"/>
                <a:ext cx="116208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5"/>
              <p:cNvSpPr txBox="1"/>
              <p:nvPr/>
            </p:nvSpPr>
            <p:spPr>
              <a:xfrm>
                <a:off x="5643720" y="1285920"/>
                <a:ext cx="107136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6"/>
              <p:cNvSpPr txBox="1"/>
              <p:nvPr/>
            </p:nvSpPr>
            <p:spPr>
              <a:xfrm>
                <a:off x="6786720" y="1368360"/>
                <a:ext cx="128556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3" name="Text Box 7"/>
          <p:cNvSpPr/>
          <p:nvPr/>
        </p:nvSpPr>
        <p:spPr>
          <a:xfrm>
            <a:off x="395280" y="35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лишня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785880" y="3778200"/>
            <a:ext cx="74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называется неправильн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5" name="Object 1"/>
              <p:cNvSpPr txBox="1"/>
              <p:nvPr/>
            </p:nvSpPr>
            <p:spPr>
              <a:xfrm>
                <a:off x="1227240" y="1627200"/>
                <a:ext cx="8445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2"/>
              <p:cNvSpPr txBox="1"/>
              <p:nvPr/>
            </p:nvSpPr>
            <p:spPr>
              <a:xfrm>
                <a:off x="2314440" y="1555920"/>
                <a:ext cx="90036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419640" y="1587600"/>
                <a:ext cx="86652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4"/>
              <p:cNvSpPr txBox="1"/>
              <p:nvPr/>
            </p:nvSpPr>
            <p:spPr>
              <a:xfrm>
                <a:off x="4446720" y="1571760"/>
                <a:ext cx="83952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5"/>
              <p:cNvSpPr txBox="1"/>
              <p:nvPr/>
            </p:nvSpPr>
            <p:spPr>
              <a:xfrm>
                <a:off x="5510160" y="1523880"/>
                <a:ext cx="919080" cy="15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6"/>
              <p:cNvSpPr txBox="1"/>
              <p:nvPr/>
            </p:nvSpPr>
            <p:spPr>
              <a:xfrm>
                <a:off x="6616800" y="1484280"/>
                <a:ext cx="95544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1" name="Text Box 8"/>
          <p:cNvSpPr/>
          <p:nvPr/>
        </p:nvSpPr>
        <p:spPr>
          <a:xfrm>
            <a:off x="571680" y="35132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называется правильно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395280" y="3571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лишня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1065240" y="1555920"/>
                <a:ext cx="93492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"/>
              <p:cNvSpPr txBox="1"/>
              <p:nvPr/>
            </p:nvSpPr>
            <p:spPr>
              <a:xfrm>
                <a:off x="2260440" y="1627200"/>
                <a:ext cx="811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3328920" y="1555920"/>
                <a:ext cx="88596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5"/>
              <p:cNvSpPr txBox="1"/>
              <p:nvPr/>
            </p:nvSpPr>
            <p:spPr>
              <a:xfrm>
                <a:off x="4405320" y="1627200"/>
                <a:ext cx="8096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6"/>
              <p:cNvSpPr txBox="1"/>
              <p:nvPr/>
            </p:nvSpPr>
            <p:spPr>
              <a:xfrm>
                <a:off x="5429160" y="1571760"/>
                <a:ext cx="1428840" cy="14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7"/>
              <p:cNvSpPr txBox="1"/>
              <p:nvPr/>
            </p:nvSpPr>
            <p:spPr>
              <a:xfrm>
                <a:off x="6973920" y="1484280"/>
                <a:ext cx="95580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9" name="Text Box 7"/>
          <p:cNvSpPr/>
          <p:nvPr/>
        </p:nvSpPr>
        <p:spPr>
          <a:xfrm>
            <a:off x="395280" y="3571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Прочитайте чис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971640" y="630360"/>
            <a:ext cx="7488000" cy="582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19:32:57Z</dcterms:created>
  <dc:creator>Мокеев Михаил Валерьевич</dc:creator>
  <dc:description/>
  <dc:language>en-US</dc:language>
  <cp:lastModifiedBy>YAKOVLEV</cp:lastModifiedBy>
  <dcterms:modified xsi:type="dcterms:W3CDTF">2012-12-15T17:32:17Z</dcterms:modified>
  <cp:revision>135</cp:revision>
  <dc:subject/>
  <dc:title>Слайд 1</dc:title>
</cp:coreProperties>
</file>