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3750-9063-422A-A941-5906A5E43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A32F-9756-4A0B-BAD0-A789DA453F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92ED-8DBF-4A9B-AA8A-5D388C3F487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C811-BA68-423A-AB0E-1D91A454D7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962FE-82C6-4763-9BF5-7AD1BB36C1A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5351-5CDB-4C11-90A1-39F82257C0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CD98-E415-48F4-95A5-C37346654EB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FDCE-E1B2-4649-AF40-7C4D3B4638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09A4-9B4A-4866-80FA-9ED16F99C5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4765-97B7-434A-87EE-9B83583BC5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C9B8-BE21-49C8-B998-E164AD8D39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D529-DD84-43F2-9F32-7EB06A65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DFDF-8347-41EA-91EF-8F8E1941D8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6D8C-4902-488C-8BA9-E428DC30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B26C-846F-4849-87AB-CE6A740C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C128-ADF7-45E0-B733-C28CE590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EFFB-1684-42F8-9642-5EEE8200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7034-C89D-4A2E-9D09-450F399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14D3F-6C37-41BF-AC74-7E1BE76F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7117-930D-4B2E-A3DC-CD41CBF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1246-482E-4A20-AF04-7C2FD03E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96F3-CC3C-4D8B-8F01-00AA43A6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80B4-5FE3-4640-90BB-DFDF5D03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BA9B-AAA8-4518-99BD-952B08F023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5DE3-E8EC-417E-9EA6-2078021B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1061-E1B9-4271-B4CA-6D48D0D1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B770-B28B-4E51-ABEB-7C34011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79BA5-9DFB-43C8-A705-8CB076A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D2D8F-FCB2-46E6-B9EB-C75B7C9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713DD-513C-4318-B676-713A56F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3F17-13F2-477E-8717-74238AC9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2A5C-92AC-4A62-9030-991C485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D3BF0-7605-492E-9FE5-737F2424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CEE58-C097-484C-BCF6-FE722B7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24B2-648C-4C0A-9E8C-6183EC3D594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0DCE6-8DBF-496A-8C86-6B744690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B69F0-3FB9-4882-96F4-831C4D49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E975F-81BA-41F9-B908-B9E61F7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6F45-CAE9-487F-9072-D604F2BC30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64E5-1967-4029-97B6-1FC30BB4F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78FC-FB2F-4435-846E-516B3CE98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0F6C-1422-4792-B23D-18CB9E2A87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8EBF-B156-4B78-8984-948CA51C24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4DEC-DE5F-42DA-88F3-EC2DB4951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A02F-69A2-4A35-895E-096E71C7D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7A9F-FDB8-435D-88A9-AE4A10A4D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4E87-AB42-4073-8548-9671EE4408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D0C79-D29B-4936-A660-3053F51330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AD24-2FDD-4CB9-9D29-B7B2DAC2F0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9F60-6518-450B-AF77-8BABDB8BDC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E58-CC6A-4A33-BCED-E65026041F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3FC-4EF7-4B5D-B6A0-A8A6CCD5E3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E77-F415-4933-B2BE-56B75F14B0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C37-7AAC-4B0F-A8F4-AA17437596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6CB-2A5C-4D24-AEFE-0D8C783BA9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83C2-EABB-40B2-B32D-87A582C438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EAB-37AA-4459-BBCE-D37DB311FA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191-EEA2-4208-AF50-71D9691CB3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B9B-7874-4417-A975-338DED7D73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2CA-AA4D-4542-8CA5-1287B2D846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CEB-5941-42BD-8A96-AB62A7EA97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0E4-ABF3-4C11-8419-1F2C4C3BB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903-0312-487D-B67F-0C61A1E9AC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471D7-5AB8-42FE-8049-4BBA9C3961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13E70-0404-45B7-8E95-414DD36C81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6B309-782A-4953-8E75-79D035E42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E7A5-466F-417C-B888-139380A930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5F290-87B4-4E8D-B537-5DC0212FAC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C8E78-E7E2-4EF2-BDA1-66E7F91C0D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2FD44-7CC8-4FD7-AA31-6B6A41254D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06980-FA8C-4502-A91E-BC6DCC36D4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2C041-DAB2-4C2D-9D13-FE06EA39E3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64BB6-304B-4724-BAB8-AFF4FA75F1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2781D-B3C3-41F3-B9FD-29CE823719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677E5-6BF6-41AA-9329-26E71A0800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2A19-0A06-429D-B74B-F242B4F6D09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7682F-C6C1-41C8-AA4D-4682CC713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444C-D4E9-4FC9-A409-BB12A7D97D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A6F79-C882-4F20-A4CA-0C14D80F218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B0DD6-BD9F-4520-B372-76E81DDFB3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8C9A-303A-40ED-9BB6-2BA73257ED3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8151E-3174-4FF1-8657-549873C968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0F85B-FC61-4C89-8125-F05F358EEE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0D8D1-7EF4-4C83-82E9-7FAC1587EE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34086-108E-4941-8BCD-73BC18C48E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B742D-7747-4CD2-95E6-A9F14B6773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A1C3D-C520-43AB-9AB1-E4CF9423521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3D7EE-196F-4BCA-89A0-0DCC7CC3D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A9E4-CFDB-49C1-81DD-56548D3383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0B889-E06B-4125-AFD7-092F57CBF4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FE6D-18D6-4663-B93C-80F0CC9E283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0F23-039A-4C4D-B261-4FF9B9D92B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A518-AF60-4BA0-A77F-9D44D5422F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3D8D-E785-4C9A-916A-BC53102FDF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27C-8EB4-4109-AB81-222B7BD99E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86CC-1184-48C1-A06F-796C3C8E485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FFEB-2E28-44F6-A607-3D5ADC9086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1AD7-B7C0-4E68-91FF-74036ADF2F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A1DE-0371-40C1-BA0A-E68FFDEDD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D7B8-0E2E-4DE0-9BD8-CA1453EDEA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E9B7-C716-43A0-BF82-965F586CA5E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BA46-B707-48D6-B56B-6FC3C21FBFD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1F2-0D2A-4EF9-8987-CE7F2305E0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1C097-D94A-4CF5-AE6C-F211CA7351C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58131-EBD8-471C-8217-0BDB213D20F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4F1512-00D5-49F9-8358-935E28F2E7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10843-4F91-4BA0-B7E4-FD3B1A611F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41E4CF-7A78-4830-9BDB-340F138FA2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AF9B7-B4F0-44AB-B2B4-23D6A19393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54F14-BBAF-4016-AE39-DEC4B0EC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F64A-DE53-400C-890F-B1F09391B8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0A3161-5043-4CF3-91A0-65DA546EA90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07262-F4B2-44FB-AE2D-B1A71AE366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E5E5B-7628-43C0-B876-56F2CF21D9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E63080-531E-4857-9BB5-5D5BF956584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EFDF8-555B-4291-8E97-A5EF0C44A99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405F4-ED57-42D2-B41D-8F40F94038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21399-70B6-4010-AB67-F18618C5BF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2764B-5F9C-47D3-9E5B-F042BA867A5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D92BC-CBA5-4F8F-9C7F-E26D61FC56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2CBC5-E273-4F34-A10F-D6F7FF5A9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F487-4D04-49E2-A086-3D7E33E2E27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10116-1FF6-4D67-BFB6-DF1D381338C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72803-8E04-4FBC-9448-604C870336E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29D4C-0EFE-4E99-A233-66FF9E5C52F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DCE05-910F-4864-AC7E-BC7D8D25C7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E1526-98B5-493B-9A83-02D5429431F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39CE7-237E-4315-8D20-7A757ECCC0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86587-C609-42D6-8625-1DCBFAA474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0DC5C-6F78-4D13-882B-986C7F40DB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3E57-E48A-49DF-B400-91C07EFA50E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A000-E9B8-42EE-A9D9-E62754CCE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1AF6D8-1639-463E-A009-3908BD3BB6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2A23B1-AC29-4E6E-A6BB-1558CC22F1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046710-3D52-4032-A15D-3AB08A04A0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42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A58F2F-9CF4-4AF5-B6BC-6766469C4A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92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24A3CD-95C5-441E-866D-6DB22517D2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36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9D462C-136D-491A-9BB0-ADD9E7544C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0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C04E55-BD36-4757-A2CC-20B3BDF0A8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244C53C-C89D-40C7-996F-FECE30C740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BD84DC-EAF1-4D14-B06B-AC2A21827E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EF5EAF-E483-4906-8DBC-A20802C597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477120" y="76320"/>
            <a:ext cx="25146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9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C32170-A422-455B-BCA3-28781B6569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3"/>
          <p:cNvSpPr/>
          <p:nvPr/>
        </p:nvSpPr>
        <p:spPr>
          <a:xfrm>
            <a:off x="357120" y="285840"/>
            <a:ext cx="84358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41320"/>
                <a:tab algn="l" pos="1755720"/>
                <a:tab algn="l" pos="2670120"/>
                <a:tab algn="l" pos="3584520"/>
                <a:tab algn="l" pos="4498920"/>
                <a:tab algn="l" pos="5413320"/>
                <a:tab algn="l" pos="6327720"/>
                <a:tab algn="l" pos="7242120"/>
                <a:tab algn="l" pos="8156520"/>
                <a:tab algn="l" pos="9070920"/>
                <a:tab algn="l" pos="9985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24"/>
          <p:cNvSpPr/>
          <p:nvPr/>
        </p:nvSpPr>
        <p:spPr>
          <a:xfrm>
            <a:off x="285840" y="1428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дел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елой част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 неправильной дроб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те, какие слова надо вста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может за версту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ть дробную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чертой –    ………….., знайт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чертою – 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такую непременн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вать  …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…………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что за дроб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ь обыкновенна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сегодня с н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гновенные…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5689440" y="3514680"/>
            <a:ext cx="3240360" cy="270036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4"/>
          <p:cNvGrpSpPr/>
          <p:nvPr/>
        </p:nvGrpSpPr>
        <p:grpSpPr>
          <a:xfrm>
            <a:off x="7291440" y="2010960"/>
            <a:ext cx="724680" cy="1035720"/>
            <a:chOff x="7291440" y="2010960"/>
            <a:chExt cx="724680" cy="1035720"/>
          </a:xfrm>
        </p:grpSpPr>
        <p:sp>
          <p:nvSpPr>
            <p:cNvPr id="546" name="WordArt 5"/>
            <p:cNvSpPr txBox="1"/>
            <p:nvPr/>
          </p:nvSpPr>
          <p:spPr>
            <a:xfrm rot="2700000">
              <a:off x="7678080" y="202644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1</a:t>
              </a:r>
              <a:endPara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7" name="WordArt 6"/>
            <p:cNvSpPr txBox="1"/>
            <p:nvPr/>
          </p:nvSpPr>
          <p:spPr>
            <a:xfrm rot="2700000">
              <a:off x="7409160" y="2606400"/>
              <a:ext cx="219960" cy="42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6</a:t>
              </a:r>
              <a:endPara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48" name="WordArt 7"/>
            <p:cNvSpPr txBox="1"/>
            <p:nvPr/>
          </p:nvSpPr>
          <p:spPr>
            <a:xfrm rot="2700000">
              <a:off x="7325640" y="2552400"/>
              <a:ext cx="617400" cy="39600"/>
            </a:xfrm>
            <a:prstGeom prst="rect">
              <a:avLst/>
            </a:prstGeom>
          </p:spPr>
          <p:txBody>
            <a:bodyPr wrap="none" lIns="90000" rIns="90000" tIns="-6840" bIns="-684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2800" spc="1" strike="noStrike">
                  <a:ln w="0">
                    <a:noFill/>
                  </a:ln>
                  <a:blipFill rotWithShape="0">
                    <a:blip r:embed="rId6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000000">
                        <a:alpha val="80000"/>
                      </a:srgbClr>
                    </a:outerShdw>
                  </a:effectLst>
                  <a:latin typeface="Arial"/>
                </a:rPr>
                <a:t>-</a:t>
              </a:r>
              <a:endPara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9" name="TextBox 8"/>
          <p:cNvSpPr/>
          <p:nvPr/>
        </p:nvSpPr>
        <p:spPr>
          <a:xfrm>
            <a:off x="3786120" y="157176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ер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9"/>
          <p:cNvSpPr/>
          <p:nvPr/>
        </p:nvSpPr>
        <p:spPr>
          <a:xfrm>
            <a:off x="3000240" y="19969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0"/>
          <p:cNvSpPr/>
          <p:nvPr/>
        </p:nvSpPr>
        <p:spPr>
          <a:xfrm>
            <a:off x="3286080" y="2357280"/>
            <a:ext cx="32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знамена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2714760" y="3143160"/>
            <a:ext cx="34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обыкновенн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2500200" y="1685880"/>
            <a:ext cx="4419720" cy="4457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285840" y="1428840"/>
                <a:ext cx="8841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1214280" y="3857760"/>
                <a:ext cx="85752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7215120" y="4143240"/>
                <a:ext cx="9144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8001000" y="1357200"/>
                <a:ext cx="838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7"/>
          <p:cNvSpPr/>
          <p:nvPr/>
        </p:nvSpPr>
        <p:spPr>
          <a:xfrm>
            <a:off x="1000080" y="214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часть фигуры закраше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" descr=""/>
          <p:cNvPicPr/>
          <p:nvPr/>
        </p:nvPicPr>
        <p:blipFill>
          <a:blip r:embed="rId1"/>
          <a:stretch/>
        </p:blipFill>
        <p:spPr>
          <a:xfrm>
            <a:off x="357120" y="2500200"/>
            <a:ext cx="4000680" cy="388620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6705720" y="4038480"/>
                <a:ext cx="9903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2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7858080" y="157176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4952880" y="1676520"/>
                <a:ext cx="9144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21420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йди дробь, которая соответствует белому цвет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7" name="Object 1"/>
              <p:cNvSpPr txBox="1"/>
              <p:nvPr/>
            </p:nvSpPr>
            <p:spPr>
              <a:xfrm>
                <a:off x="785880" y="1274760"/>
                <a:ext cx="1000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"/>
              <p:cNvSpPr txBox="1"/>
              <p:nvPr/>
            </p:nvSpPr>
            <p:spPr>
              <a:xfrm>
                <a:off x="1868400" y="1285920"/>
                <a:ext cx="98928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2851200" y="1325520"/>
                <a:ext cx="12920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4"/>
              <p:cNvSpPr txBox="1"/>
              <p:nvPr/>
            </p:nvSpPr>
            <p:spPr>
              <a:xfrm>
                <a:off x="4338720" y="1357200"/>
                <a:ext cx="116208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5"/>
              <p:cNvSpPr txBox="1"/>
              <p:nvPr/>
            </p:nvSpPr>
            <p:spPr>
              <a:xfrm>
                <a:off x="5643720" y="1285920"/>
                <a:ext cx="10713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6"/>
              <p:cNvSpPr txBox="1"/>
              <p:nvPr/>
            </p:nvSpPr>
            <p:spPr>
              <a:xfrm>
                <a:off x="6786720" y="1368360"/>
                <a:ext cx="128556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3" name="Text Box 7"/>
          <p:cNvSpPr/>
          <p:nvPr/>
        </p:nvSpPr>
        <p:spPr>
          <a:xfrm>
            <a:off x="395280" y="35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85880" y="37782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неправильн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1227240" y="1627200"/>
                <a:ext cx="8445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2314440" y="1555920"/>
                <a:ext cx="9003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419640" y="1587600"/>
                <a:ext cx="86652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4446720" y="1571760"/>
                <a:ext cx="8395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5510160" y="1523880"/>
                <a:ext cx="9190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6616800" y="1484280"/>
                <a:ext cx="95544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1" name="Text Box 8"/>
          <p:cNvSpPr/>
          <p:nvPr/>
        </p:nvSpPr>
        <p:spPr>
          <a:xfrm>
            <a:off x="571680" y="35132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называется правильн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Вопро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ая дробь лишня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065240" y="1555920"/>
                <a:ext cx="9349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2260440" y="1627200"/>
                <a:ext cx="8114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3328920" y="1555920"/>
                <a:ext cx="88596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4405320" y="1627200"/>
                <a:ext cx="809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5429160" y="1571760"/>
                <a:ext cx="1428840" cy="14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"/>
              <p:cNvSpPr txBox="1"/>
              <p:nvPr/>
            </p:nvSpPr>
            <p:spPr>
              <a:xfrm>
                <a:off x="6973920" y="1484280"/>
                <a:ext cx="95580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9" name="Text Box 7"/>
          <p:cNvSpPr/>
          <p:nvPr/>
        </p:nvSpPr>
        <p:spPr>
          <a:xfrm>
            <a:off x="395280" y="3571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Прочитайте чис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71640" y="630360"/>
            <a:ext cx="7488000" cy="582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19:32:57Z</dcterms:created>
  <dc:creator>Мокеев Михаил Валерьевич</dc:creator>
  <dc:description/>
  <dc:language>en-US</dc:language>
  <cp:lastModifiedBy>YAKOVLEV</cp:lastModifiedBy>
  <dcterms:modified xsi:type="dcterms:W3CDTF">2012-12-15T17:32:17Z</dcterms:modified>
  <cp:revision>135</cp:revision>
  <dc:subject/>
  <dc:title>Слайд 1</dc:title>
</cp:coreProperties>
</file>