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5.jpeg" ContentType="image/jpeg"/>
  <Override PartName="/ppt/media/image32.png" ContentType="image/png"/>
  <Override PartName="/ppt/media/image24.png" ContentType="image/png"/>
  <Override PartName="/ppt/media/image29.png" ContentType="image/png"/>
  <Override PartName="/ppt/media/image14.wmf" ContentType="image/x-wmf"/>
  <Override PartName="/ppt/media/image6.png" ContentType="image/png"/>
  <Override PartName="/ppt/media/image31.png" ContentType="image/png"/>
  <Override PartName="/ppt/media/image11.png" ContentType="image/png"/>
  <Override PartName="/ppt/media/image19.jpeg" ContentType="image/jpeg"/>
  <Override PartName="/ppt/media/image8.png" ContentType="image/png"/>
  <Override PartName="/ppt/media/image28.gif" ContentType="image/gif"/>
  <Override PartName="/ppt/media/image33.png" ContentType="image/png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4B5-CEBD-4E7B-A3AE-20D5D3E4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7BE-B778-4CAA-8840-3A719B33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138-E192-45C3-962C-7FCBFEBF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58F-7CC6-4C81-81AE-4BF18CF4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C56-9D89-4773-BD76-04166A6A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10D-F280-4D74-85A6-0362F7FE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CBEA-6931-45C8-B156-A376F6D3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414-22F3-4695-8680-4C7D9019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B0F-CDE0-43C2-8AC8-17D1D603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7B7-3750-4DEA-A6C4-8EF9870F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593-3CF7-4049-954C-BB5E7BE9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21E-FFBD-45EF-8D56-F3BC0567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B863-9FA0-45CC-BA10-4A27FB3D2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wmf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gif"/><Relationship Id="rId7" Type="http://schemas.openxmlformats.org/officeDocument/2006/relationships/image" Target="../media/image29.png"/><Relationship Id="rId8" Type="http://schemas.openxmlformats.org/officeDocument/2006/relationships/image" Target="../media/image30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Прилетайте ко мне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 гости на Луну.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Будем распевать чай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и распивать песн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3640" y="3645000"/>
            <a:ext cx="3024000" cy="29271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Прилетайте ко мне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 гости на Луну.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Будем расп</a:t>
            </a: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и</a:t>
            </a: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ать чай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и расп</a:t>
            </a: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ать песн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03640" y="3645000"/>
            <a:ext cx="3024000" cy="29271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10625" t="0" r="0" b="6983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90792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л _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л смет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9079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л _ зал с дер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3213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ез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4221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ж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3500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ле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3640" y="4941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лиз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157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зу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6858000"/>
            <a:ext cx="450720" cy="703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51280" y="7101000"/>
            <a:ext cx="57636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7882 0.04763 L -0.2441 -0.29849 E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05711 L -0.04323 -0.32994 E">
                                      <p:cBhvr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25 -0.14127 L -0.54341 -0.18312 E">
                                      <p:cBhvr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158 -0.0363 L 0.27552 -0.08878 E">
                                      <p:cBhvr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4341 -0.0467 L -0.04341 -0.00485 E">
                                      <p:cBhvr>
                                        <p:cTn id="1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6 -0.04671 L 0.23524 -0.86081 E">
                                      <p:cBhvr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5549E-006 L -0.35416 -0.89618 E">
                                      <p:cBhvr>
                                        <p:cTn id="2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7" descr="snowman.gif"/>
          <p:cNvPicPr/>
          <p:nvPr/>
        </p:nvPicPr>
        <p:blipFill>
          <a:blip r:embed="rId1"/>
          <a:stretch/>
        </p:blipFill>
        <p:spPr>
          <a:xfrm>
            <a:off x="7286760" y="4429080"/>
            <a:ext cx="159048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snow.png"/>
          <p:cNvPicPr/>
          <p:nvPr/>
        </p:nvPicPr>
        <p:blipFill>
          <a:blip r:embed="rId2"/>
          <a:stretch/>
        </p:blipFill>
        <p:spPr>
          <a:xfrm>
            <a:off x="5786280" y="214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9" descr=""/>
          <p:cNvPicPr/>
          <p:nvPr/>
        </p:nvPicPr>
        <p:blipFill>
          <a:blip r:embed="rId3"/>
          <a:stretch/>
        </p:blipFill>
        <p:spPr>
          <a:xfrm>
            <a:off x="42840" y="2157480"/>
            <a:ext cx="2200320" cy="11523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3" descr=""/>
          <p:cNvPicPr/>
          <p:nvPr/>
        </p:nvPicPr>
        <p:blipFill>
          <a:blip r:embed="rId4"/>
          <a:stretch/>
        </p:blipFill>
        <p:spPr>
          <a:xfrm>
            <a:off x="669960" y="1011240"/>
            <a:ext cx="1262160" cy="11350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7" descr=""/>
          <p:cNvPicPr/>
          <p:nvPr/>
        </p:nvPicPr>
        <p:blipFill>
          <a:blip r:embed="rId5"/>
          <a:stretch/>
        </p:blipFill>
        <p:spPr>
          <a:xfrm>
            <a:off x="1547640" y="5084640"/>
            <a:ext cx="3200400" cy="8654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9" descr=""/>
          <p:cNvPicPr/>
          <p:nvPr/>
        </p:nvPicPr>
        <p:blipFill>
          <a:blip r:embed="rId6"/>
          <a:stretch/>
        </p:blipFill>
        <p:spPr>
          <a:xfrm>
            <a:off x="3492360" y="2779560"/>
            <a:ext cx="2421000" cy="8654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0" descr=""/>
          <p:cNvPicPr/>
          <p:nvPr/>
        </p:nvPicPr>
        <p:blipFill>
          <a:blip r:embed="rId7"/>
          <a:stretch/>
        </p:blipFill>
        <p:spPr>
          <a:xfrm>
            <a:off x="2908440" y="66600"/>
            <a:ext cx="2852640" cy="8604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22" descr=""/>
          <p:cNvPicPr/>
          <p:nvPr/>
        </p:nvPicPr>
        <p:blipFill>
          <a:blip r:embed="rId8"/>
          <a:stretch/>
        </p:blipFill>
        <p:spPr>
          <a:xfrm>
            <a:off x="4784760" y="5877000"/>
            <a:ext cx="2663640" cy="865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5" descr="fata_fatina_architetto_f_01.png"/>
          <p:cNvPicPr/>
          <p:nvPr/>
        </p:nvPicPr>
        <p:blipFill>
          <a:blip r:embed="rId9"/>
          <a:stretch/>
        </p:blipFill>
        <p:spPr>
          <a:xfrm>
            <a:off x="642960" y="4357800"/>
            <a:ext cx="1285920" cy="2233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5508720" y="119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не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99 0.06898 0.00816 0.13819 0.00972 0.16574 E">
                                      <p:cBhvr>
                                        <p:cTn id="11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" descr="Изображение 11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Изображение 1156"/>
          <p:cNvPicPr/>
          <p:nvPr/>
        </p:nvPicPr>
        <p:blipFill>
          <a:blip r:embed="rId2"/>
          <a:stretch/>
        </p:blipFill>
        <p:spPr>
          <a:xfrm>
            <a:off x="-428760" y="-2142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NA01682_"/>
          <p:cNvPicPr/>
          <p:nvPr/>
        </p:nvPicPr>
        <p:blipFill>
          <a:blip r:embed="rId3"/>
          <a:stretch/>
        </p:blipFill>
        <p:spPr>
          <a:xfrm>
            <a:off x="4572000" y="142920"/>
            <a:ext cx="4437000" cy="3025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6"/>
          <p:cNvSpPr/>
          <p:nvPr/>
        </p:nvSpPr>
        <p:spPr>
          <a:xfrm>
            <a:off x="6807600" y="2924280"/>
            <a:ext cx="16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575640" y="3357720"/>
            <a:ext cx="24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drop"/>
          <p:cNvPicPr/>
          <p:nvPr/>
        </p:nvPicPr>
        <p:blipFill>
          <a:blip r:embed="rId4"/>
          <a:stretch/>
        </p:blipFill>
        <p:spPr>
          <a:xfrm>
            <a:off x="3286080" y="2928960"/>
            <a:ext cx="792360" cy="1371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9"/>
          <p:cNvSpPr/>
          <p:nvPr/>
        </p:nvSpPr>
        <p:spPr>
          <a:xfrm>
            <a:off x="4721400" y="429264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ли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1839240" y="5877000"/>
            <a:ext cx="250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е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6012000" y="5950080"/>
            <a:ext cx="27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ев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866920" y="596880"/>
            <a:ext cx="217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дожд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1361160" y="100008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472 0.02801 -0.06944 0.05602 -0.10781 0.07986 C -0.14618 0.1037 -0.16771 0.13356 -0.23003 0.14352 C -0.29236 0.15347 -0.43194 0.15278 -0.48229 0.13912 C -0.53264 0.12546 -0.53247 0.09375 -0.53229 0.06204 E">
                                      <p:cBhvr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78 0.04144 -0.00538 0.0831 0.03108 0.13912 C 0.06754 0.19514 0.14306 0.26551 0.21875 0.33611 E">
                                      <p:cBhvr>
                                        <p:cTn id="18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Вставьте пропущенные буквы.</a:t>
            </a:r>
            <a:br>
              <a:rPr sz="2800"/>
            </a:b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Подберите проверочны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2" descr="prd0046.gif"/>
          <p:cNvPicPr/>
          <p:nvPr/>
        </p:nvPicPr>
        <p:blipFill>
          <a:blip r:embed="rId1"/>
          <a:stretch/>
        </p:blipFill>
        <p:spPr>
          <a:xfrm>
            <a:off x="1511280" y="5437080"/>
            <a:ext cx="1098720" cy="12384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1" descr="prd0002.gif"/>
          <p:cNvPicPr/>
          <p:nvPr/>
        </p:nvPicPr>
        <p:blipFill>
          <a:blip r:embed="rId2"/>
          <a:stretch/>
        </p:blipFill>
        <p:spPr>
          <a:xfrm>
            <a:off x="6437160" y="5370480"/>
            <a:ext cx="1103400" cy="1274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monitor.wmf"/>
          <p:cNvPicPr/>
          <p:nvPr/>
        </p:nvPicPr>
        <p:blipFill>
          <a:blip r:embed="rId3"/>
          <a:stretch/>
        </p:blipFill>
        <p:spPr>
          <a:xfrm>
            <a:off x="4643280" y="1428840"/>
            <a:ext cx="4357800" cy="3979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5000760" y="1428840"/>
            <a:ext cx="3929040" cy="39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42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Зап_вает в хор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зап_вает мол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л_зал с крыши–  сл_зал смет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3" descr="monitor.wmf"/>
          <p:cNvPicPr/>
          <p:nvPr/>
        </p:nvPicPr>
        <p:blipFill>
          <a:blip r:embed="rId4"/>
          <a:stretch/>
        </p:blipFill>
        <p:spPr>
          <a:xfrm>
            <a:off x="214200" y="1428840"/>
            <a:ext cx="4286520" cy="3914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571680" y="1857240"/>
            <a:ext cx="40003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Сыро в л_су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увидел л_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_рил дверь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_рил карто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2" descr="prd0046.gif"/>
          <p:cNvPicPr/>
          <p:nvPr/>
        </p:nvPicPr>
        <p:blipFill>
          <a:blip r:embed="rId1"/>
          <a:stretch/>
        </p:blipFill>
        <p:spPr>
          <a:xfrm>
            <a:off x="225360" y="1152360"/>
            <a:ext cx="1719360" cy="20671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5" descr="monitor.wmf"/>
          <p:cNvPicPr/>
          <p:nvPr/>
        </p:nvPicPr>
        <p:blipFill>
          <a:blip r:embed="rId2"/>
          <a:stretch/>
        </p:blipFill>
        <p:spPr>
          <a:xfrm>
            <a:off x="2071800" y="214200"/>
            <a:ext cx="4786200" cy="43704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6"/>
          <p:cNvSpPr/>
          <p:nvPr/>
        </p:nvSpPr>
        <p:spPr>
          <a:xfrm>
            <a:off x="3000240" y="20001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7"/>
          <p:cNvSpPr/>
          <p:nvPr/>
        </p:nvSpPr>
        <p:spPr>
          <a:xfrm>
            <a:off x="0" y="45720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ыро в л_су – увидел л_с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0" descr="Изображение 073"/>
          <p:cNvPicPr/>
          <p:nvPr/>
        </p:nvPicPr>
        <p:blipFill>
          <a:blip r:embed="rId3"/>
          <a:stretch/>
        </p:blipFill>
        <p:spPr>
          <a:xfrm>
            <a:off x="2714760" y="714240"/>
            <a:ext cx="3571920" cy="27241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9"/>
          <p:cNvSpPr/>
          <p:nvPr/>
        </p:nvSpPr>
        <p:spPr>
          <a:xfrm>
            <a:off x="0" y="5286240"/>
            <a:ext cx="95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тв_рил дверь – отв_рил картоф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1"/>
          <p:cNvSpPr/>
          <p:nvPr/>
        </p:nvSpPr>
        <p:spPr>
          <a:xfrm>
            <a:off x="5789880" y="142884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2"/>
          <p:cNvSpPr/>
          <p:nvPr/>
        </p:nvSpPr>
        <p:spPr>
          <a:xfrm>
            <a:off x="2788920" y="2714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" descr=""/>
          <p:cNvPicPr/>
          <p:nvPr/>
        </p:nvPicPr>
        <p:blipFill>
          <a:blip r:embed="rId4"/>
          <a:stretch/>
        </p:blipFill>
        <p:spPr>
          <a:xfrm>
            <a:off x="4500720" y="1928880"/>
            <a:ext cx="1571400" cy="115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H59"/>
          <p:cNvPicPr/>
          <p:nvPr/>
        </p:nvPicPr>
        <p:blipFill>
          <a:blip r:embed="rId5"/>
          <a:stretch/>
        </p:blipFill>
        <p:spPr>
          <a:xfrm>
            <a:off x="2571840" y="642960"/>
            <a:ext cx="3786120" cy="279396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5"/>
          <p:cNvSpPr/>
          <p:nvPr/>
        </p:nvSpPr>
        <p:spPr>
          <a:xfrm>
            <a:off x="4643280" y="1785960"/>
            <a:ext cx="3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7" descr="prd0028.gif"/>
          <p:cNvPicPr/>
          <p:nvPr/>
        </p:nvPicPr>
        <p:blipFill>
          <a:blip r:embed="rId6"/>
          <a:stretch/>
        </p:blipFill>
        <p:spPr>
          <a:xfrm>
            <a:off x="2919240" y="781200"/>
            <a:ext cx="2586240" cy="2601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F12"/>
          <p:cNvPicPr/>
          <p:nvPr/>
        </p:nvPicPr>
        <p:blipFill>
          <a:blip r:embed="rId7"/>
          <a:stretch/>
        </p:blipFill>
        <p:spPr>
          <a:xfrm>
            <a:off x="4992840" y="2352600"/>
            <a:ext cx="1236600" cy="9446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9"/>
          <p:cNvSpPr/>
          <p:nvPr/>
        </p:nvSpPr>
        <p:spPr>
          <a:xfrm>
            <a:off x="3003120" y="1714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-0.01736 0.13773 -0.03455 0.27546 E">
                                      <p:cBhvr>
                                        <p:cTn id="277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-0.00069 0.22662 -0.00121 0.45347 E">
                                      <p:cBhvr>
                                        <p:cTn id="28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576 0.16736 -0.07152 0.33496 -0.12899 0.4132 C -0.18645 0.49144 -0.30347 0.45232 -0.34444 0.46945 C -0.38541 0.48658 -0.38003 0.50093 -0.37447 0.51551 E">
                                      <p:cBhvr>
                                        <p:cTn id="301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132 0.03102 0.18281 0.06204 0.25885 0.11389 C 0.3349 0.16574 0.42431 0.25648 0.4566 0.31111 C 0.48889 0.36574 0.48889 0.41505 0.45226 0.44144 C 0.41563 0.46783 0.27326 0.45764 0.23663 0.46945 C 0.2 0.48125 0.21615 0.49676 0.23229 0.5125 E">
                                      <p:cBhvr>
                                        <p:cTn id="31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monitor.wmf"/>
          <p:cNvPicPr/>
          <p:nvPr/>
        </p:nvPicPr>
        <p:blipFill>
          <a:blip r:embed="rId1"/>
          <a:stretch/>
        </p:blipFill>
        <p:spPr>
          <a:xfrm>
            <a:off x="2000160" y="357120"/>
            <a:ext cx="4786560" cy="43704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prd0002.gif"/>
          <p:cNvPicPr/>
          <p:nvPr/>
        </p:nvPicPr>
        <p:blipFill>
          <a:blip r:embed="rId2"/>
          <a:stretch/>
        </p:blipFill>
        <p:spPr>
          <a:xfrm>
            <a:off x="7083360" y="1152360"/>
            <a:ext cx="1633680" cy="21085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6"/>
          <p:cNvSpPr/>
          <p:nvPr/>
        </p:nvSpPr>
        <p:spPr>
          <a:xfrm>
            <a:off x="142920" y="492912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ff"/>
                </a:solidFill>
                <a:latin typeface="Arial"/>
              </a:rPr>
              <a:t>Зап_вает в хоре – зап_вает моло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142920" y="514368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53735"/>
                </a:solidFill>
                <a:latin typeface="Arial"/>
              </a:rPr>
              <a:t>Сл_зал с крыши–  сл_зал смета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prd000l"/>
          <p:cNvPicPr/>
          <p:nvPr/>
        </p:nvPicPr>
        <p:blipFill>
          <a:blip r:embed="rId3"/>
          <a:stretch/>
        </p:blipFill>
        <p:spPr>
          <a:xfrm>
            <a:off x="2928960" y="1071720"/>
            <a:ext cx="2786040" cy="25174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3789000" y="2000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F64"/>
          <p:cNvPicPr/>
          <p:nvPr/>
        </p:nvPicPr>
        <p:blipFill>
          <a:blip r:embed="rId4"/>
          <a:stretch/>
        </p:blipFill>
        <p:spPr>
          <a:xfrm>
            <a:off x="2714760" y="857160"/>
            <a:ext cx="3429000" cy="271296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1"/>
          <p:cNvSpPr/>
          <p:nvPr/>
        </p:nvSpPr>
        <p:spPr>
          <a:xfrm>
            <a:off x="3289680" y="242892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8" descr="H70"/>
          <p:cNvPicPr/>
          <p:nvPr/>
        </p:nvPicPr>
        <p:blipFill>
          <a:blip r:embed="rId5"/>
          <a:stretch/>
        </p:blipFill>
        <p:spPr>
          <a:xfrm>
            <a:off x="2714760" y="857160"/>
            <a:ext cx="3429000" cy="2714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3" descr="ФОТО 138.gif"/>
          <p:cNvPicPr/>
          <p:nvPr/>
        </p:nvPicPr>
        <p:blipFill>
          <a:blip r:embed="rId6"/>
          <a:stretch/>
        </p:blipFill>
        <p:spPr>
          <a:xfrm>
            <a:off x="3714840" y="19288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4"/>
          <p:cNvSpPr/>
          <p:nvPr/>
        </p:nvSpPr>
        <p:spPr>
          <a:xfrm>
            <a:off x="4646160" y="107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F69"/>
          <p:cNvPicPr/>
          <p:nvPr/>
        </p:nvPicPr>
        <p:blipFill>
          <a:blip r:embed="rId7"/>
          <a:stretch/>
        </p:blipFill>
        <p:spPr>
          <a:xfrm>
            <a:off x="2571840" y="857160"/>
            <a:ext cx="3643200" cy="2722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6" descr="Лизун.gif"/>
          <p:cNvPicPr/>
          <p:nvPr/>
        </p:nvPicPr>
        <p:blipFill>
          <a:blip r:embed="rId8"/>
          <a:stretch/>
        </p:blipFill>
        <p:spPr>
          <a:xfrm>
            <a:off x="3857760" y="1077840"/>
            <a:ext cx="928440" cy="11606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7"/>
          <p:cNvSpPr/>
          <p:nvPr/>
        </p:nvSpPr>
        <p:spPr>
          <a:xfrm>
            <a:off x="4146840" y="214308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667 0.05945 -0.03316 0.1189 -0.07466 0.17465 C -0.11615 0.2304 -0.21719 0.29239 -0.24948 0.33403 C -0.28178 0.37566 -0.27535 0.39995 -0.26893 0.42424 E">
                                      <p:cBhvr>
                                        <p:cTn id="35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22 0.01873 0.14445 0.0377 0.18837 0.06292 C 0.23229 0.08813 0.25261 0.12237 0.2632 0.15174 C 0.27379 0.18112 0.25712 0.20402 0.25174 0.23895 C 0.24636 0.27388 0.23854 0.3176 0.23091 0.36155 E">
                                      <p:cBhvr>
                                        <p:cTn id="36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86 0.07472 -0.01771 0.14967 -0.02414 0.24035 C -0.03056 0.33102 -0.02396 0.47745 -0.03907 0.54361 C -0.05417 0.60977 -0.06927 0.62179 -0.11493 0.63706 C -0.16059 0.65233 -0.27084 0.63197 -0.31268 0.63567 C -0.35452 0.63914 -0.35643 0.65071 -0.36563 0.65996 C -0.37483 0.66922 -0.37136 0.67986 -0.36789 0.69073 E">
                                      <p:cBhvr>
                                        <p:cTn id="383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0.00393 C 0.09392 0.02128 0.19027 0.03886 0.246 0.06986 C 0.30173 0.10086 0.32777 0.14758 0.33229 0.18922 C 0.3368 0.23086 0.28437 0.27828 0.27361 0.31946 C 0.26284 0.36063 0.27829 0.4099 0.26788 0.43581 C 0.25746 0.46172 0.23194 0.4675 0.21145 0.4756 C 0.19097 0.48369 0.15781 0.4756 0.14479 0.48485 C 0.13177 0.4941 0.13524 0.52302 0.13333 0.53065 E">
                                      <p:cBhvr>
                                        <p:cTn id="39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Прямоугольник 8" descr=""/>
          <p:cNvPicPr/>
          <p:nvPr/>
        </p:nvPicPr>
        <p:blipFill>
          <a:blip r:embed="rId1"/>
          <a:stretch/>
        </p:blipFill>
        <p:spPr>
          <a:xfrm>
            <a:off x="1596960" y="-60480"/>
            <a:ext cx="6102360" cy="196848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9" descr=""/>
          <p:cNvPicPr/>
          <p:nvPr/>
        </p:nvPicPr>
        <p:blipFill>
          <a:blip r:embed="rId2"/>
          <a:stretch/>
        </p:blipFill>
        <p:spPr>
          <a:xfrm>
            <a:off x="2176560" y="2048040"/>
            <a:ext cx="5010120" cy="179856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10" descr=""/>
          <p:cNvPicPr/>
          <p:nvPr/>
        </p:nvPicPr>
        <p:blipFill>
          <a:blip r:embed="rId3"/>
          <a:stretch/>
        </p:blipFill>
        <p:spPr>
          <a:xfrm>
            <a:off x="139680" y="4011480"/>
            <a:ext cx="9150480" cy="1646280"/>
          </a:xfrm>
          <a:prstGeom prst="rect">
            <a:avLst/>
          </a:prstGeom>
          <a:ln w="0">
            <a:noFill/>
          </a:ln>
        </p:spPr>
      </p:pic>
      <p:pic>
        <p:nvPicPr>
          <p:cNvPr id="115" name="салют.AVI" descr=""/>
          <p:cNvPicPr/>
          <p:nvPr/>
        </p:nvPicPr>
        <p:blipFill>
          <a:blip r:embed="rId4"/>
          <a:stretch/>
        </p:blipFill>
        <p:spPr>
          <a:xfrm>
            <a:off x="0" y="-488880"/>
            <a:ext cx="9144000" cy="734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12:33:54Z</dcterms:created>
  <dc:creator>Sergey</dc:creator>
  <dc:description/>
  <dc:language>en-US</dc:language>
  <cp:lastModifiedBy>Sergey</cp:lastModifiedBy>
  <dcterms:modified xsi:type="dcterms:W3CDTF">2012-12-17T17:07:52Z</dcterms:modified>
  <cp:revision>6</cp:revision>
  <dc:subject/>
  <dc:title>Слайд 1</dc:title>
</cp:coreProperties>
</file>