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CD94-36C6-4B96-A9CE-3E7EDC539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00A3-9289-483D-802A-ED2599080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D151-0A1E-4532-B7E1-7D3946549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661A-45D8-4DAB-9286-38AC2E730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C5140-DEE1-4C84-9BD6-EA97C3263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AF684-6373-4EC2-8E1E-FE2E47B1F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989B8-3BFF-4242-95AD-A884791D8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1A5BF-922A-41EE-AA01-210492DF3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F344D-AD15-42DC-B54D-0C7293139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432440" y="360000"/>
            <a:ext cx="7406280" cy="68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E5D6D-0168-4DE3-B333-5B83C7252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AC7DA-A6FC-4B85-8B5E-E9DCFBA1C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1F00-ED01-45D1-A425-F400008D7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7C8BD-22E4-4C15-9F70-9F18BA07F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1B408-4C9C-45B3-B8B8-7A2477B8F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69CC1-0D93-439E-9C4B-8934DD2DD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473E8-2638-4B99-A83B-1C9F3C476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7040B-F7D1-4007-AE34-1B038FE22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8D9DC-9744-474C-AA6F-A2850B1BD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57FFF-0110-46A6-BF0C-AD63B985F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FD834-0920-4235-B31E-094B082D4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7AA5F-625A-47A9-B57D-997F7A56A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35857-9302-4E79-8409-451003EF9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72F9-ED4F-40FE-A6A9-88DE2CE0E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432440" y="360000"/>
            <a:ext cx="7406280" cy="68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4BA70-4DDC-4DB7-9E7A-EE87F8232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00E58-2871-4E0D-A160-B96D6082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CF5B4-65B9-4FDF-9C11-B03BCD31A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8647D-F6A6-487B-BEE3-C60A4CA27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92D04-A23F-4311-88EA-A8ACC36C7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9F997-9CD2-4BD9-996B-2326F7BCE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20A25-D0A1-4864-A8D9-ECD2F4EE4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501F-BCFD-46FE-AADB-9B0B70E11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9A94-0CEE-407A-83DB-BD5A260CF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2440" y="360000"/>
            <a:ext cx="7406280" cy="68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0A4D-F55B-4713-9F57-CEE600849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387A-A5E3-47C0-BE49-307B1C53A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D354-58E7-49E8-8D4A-28C9756F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41A0-405B-4FE2-9563-D0BBB4D80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89772" sy="89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5760" y="-815760"/>
            <a:ext cx="1638360" cy="163836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840" y="21240"/>
            <a:ext cx="1701720" cy="170172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" name="Кольцо 10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Прямоугольник 11"/>
          <p:cNvSpPr/>
          <p:nvPr/>
        </p:nvSpPr>
        <p:spPr>
          <a:xfrm>
            <a:off x="1013040" y="0"/>
            <a:ext cx="813060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" name="Прямоугольник 14"/>
          <p:cNvSpPr/>
          <p:nvPr/>
        </p:nvSpPr>
        <p:spPr>
          <a:xfrm>
            <a:off x="101484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Образец заголовка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15163692-7037-4DC4-8551-D52B4CE1CD67}" type="slidenum"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Овал 7"/>
          <p:cNvSpPr/>
          <p:nvPr/>
        </p:nvSpPr>
        <p:spPr>
          <a:xfrm>
            <a:off x="921600" y="1413720"/>
            <a:ext cx="209880" cy="209880"/>
          </a:xfrm>
          <a:prstGeom prst="ellipse">
            <a:avLst/>
          </a:prstGeom>
          <a:gradFill rotWithShape="0">
            <a:gsLst>
              <a:gs pos="0">
                <a:srgbClr val="daf5fe">
                  <a:alpha val="95294"/>
                </a:srgbClr>
              </a:gs>
              <a:gs pos="100000">
                <a:srgbClr val="00aad4">
                  <a:alpha val="85098"/>
                </a:srgbClr>
              </a:gs>
            </a:gsLst>
            <a:path path="circle">
              <a:fillToRect l="25000" t="12000" r="75000" b="88000"/>
            </a:path>
          </a:gradFill>
          <a:ln cap="rnd" w="2000">
            <a:solidFill>
              <a:srgbClr val="3891a7">
                <a:shade val="90000"/>
                <a:satMod val="110000"/>
                <a:alpha val="6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Gill Sans MT"/>
            </a:endParaRPr>
          </a:p>
        </p:txBody>
      </p:sp>
      <p:sp>
        <p:nvSpPr>
          <p:cNvPr id="10" name="Овал 8"/>
          <p:cNvSpPr/>
          <p:nvPr/>
        </p:nvSpPr>
        <p:spPr>
          <a:xfrm>
            <a:off x="1157040" y="1344960"/>
            <a:ext cx="63720" cy="63720"/>
          </a:xfrm>
          <a:prstGeom prst="ellipse">
            <a:avLst/>
          </a:prstGeom>
          <a:noFill/>
          <a:ln cap="rnd" w="12700">
            <a:solidFill>
              <a:srgbClr val="3891a7">
                <a:shade val="75000"/>
                <a:alpha val="6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Gill Sans MT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89772" sy="89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5760" y="-815760"/>
            <a:ext cx="1638360" cy="163836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840" y="21240"/>
            <a:ext cx="1701720" cy="170172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0" name="Кольцо 10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Прямоугольник 11"/>
          <p:cNvSpPr/>
          <p:nvPr/>
        </p:nvSpPr>
        <p:spPr>
          <a:xfrm>
            <a:off x="1013040" y="0"/>
            <a:ext cx="813060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2" name="Прямоугольник 14"/>
          <p:cNvSpPr/>
          <p:nvPr/>
        </p:nvSpPr>
        <p:spPr>
          <a:xfrm>
            <a:off x="101484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Образец заголовка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40080" indent="-23760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7040" indent="-228600">
              <a:lnSpc>
                <a:spcPct val="100000"/>
              </a:lnSpc>
              <a:spcBef>
                <a:spcPts val="479"/>
              </a:spcBef>
              <a:buClr>
                <a:srgbClr val="feb80a"/>
              </a:buClr>
              <a:buFont typeface="Wingdings 2" charset="2"/>
              <a:buChar char="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173880">
              <a:lnSpc>
                <a:spcPct val="100000"/>
              </a:lnSpc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8520" indent="-182880">
              <a:lnSpc>
                <a:spcPct val="100000"/>
              </a:lnSpc>
              <a:spcBef>
                <a:spcPts val="400"/>
              </a:spcBef>
              <a:buClr>
                <a:srgbClr val="84aa33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1622A56E-18A9-4F6C-92B2-D291CA0863D8}" type="slidenum"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89772" sy="89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ирог 6"/>
          <p:cNvSpPr/>
          <p:nvPr/>
        </p:nvSpPr>
        <p:spPr>
          <a:xfrm>
            <a:off x="-815760" y="-815760"/>
            <a:ext cx="1638360" cy="163836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5" name="Овал 7"/>
          <p:cNvSpPr/>
          <p:nvPr/>
        </p:nvSpPr>
        <p:spPr>
          <a:xfrm>
            <a:off x="168840" y="21240"/>
            <a:ext cx="1701720" cy="170172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6" name="Кольцо 10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7" name="Прямоугольник 11"/>
          <p:cNvSpPr/>
          <p:nvPr/>
        </p:nvSpPr>
        <p:spPr>
          <a:xfrm>
            <a:off x="1013040" y="0"/>
            <a:ext cx="813060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8" name="Прямоугольник 14"/>
          <p:cNvSpPr/>
          <p:nvPr/>
        </p:nvSpPr>
        <p:spPr>
          <a:xfrm>
            <a:off x="101484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Образец заголовка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435680" y="1523880"/>
            <a:ext cx="3657240" cy="466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40080" indent="-23760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7040" indent="-228600">
              <a:lnSpc>
                <a:spcPct val="100000"/>
              </a:lnSpc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173880">
              <a:lnSpc>
                <a:spcPct val="100000"/>
              </a:lnSpc>
              <a:spcBef>
                <a:spcPts val="360"/>
              </a:spcBef>
              <a:buClr>
                <a:srgbClr val="c32d2e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298520" indent="-182880">
              <a:lnSpc>
                <a:spcPct val="100000"/>
              </a:lnSpc>
              <a:spcBef>
                <a:spcPts val="360"/>
              </a:spcBef>
              <a:buClr>
                <a:srgbClr val="84aa33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body"/>
          </p:nvPr>
        </p:nvSpPr>
        <p:spPr>
          <a:xfrm>
            <a:off x="5276160" y="1523880"/>
            <a:ext cx="3657240" cy="466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40080" indent="-23760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7040" indent="-228600">
              <a:lnSpc>
                <a:spcPct val="100000"/>
              </a:lnSpc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173880">
              <a:lnSpc>
                <a:spcPct val="100000"/>
              </a:lnSpc>
              <a:spcBef>
                <a:spcPts val="360"/>
              </a:spcBef>
              <a:buClr>
                <a:srgbClr val="c32d2e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298520" indent="-182880">
              <a:lnSpc>
                <a:spcPct val="100000"/>
              </a:lnSpc>
              <a:spcBef>
                <a:spcPts val="360"/>
              </a:spcBef>
              <a:buClr>
                <a:srgbClr val="84aa33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7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B7D1EBD-95E6-4024-8010-4DD31C627D5B}" type="slidenum"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www.google.ru/imghp?hl=ru&amp;tab=wi" TargetMode="External"/><Relationship Id="rId2" Type="http://schemas.openxmlformats.org/officeDocument/2006/relationships/hyperlink" Target="http://www.fcior.edu.ru/card/5395/narechie-kak-chast-rechi-i1.html" TargetMode="External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fcior.edu.ru/card/5395/narechie-kak-chast-rechi-i1.html" TargetMode="External"/><Relationship Id="rId2" Type="http://schemas.openxmlformats.org/officeDocument/2006/relationships/hyperlink" Target="http://files.school-collection.edu.ru/dlrstore/5b747fdf-1a05-4e53-a3f7-fdca90f6e89c/%5BIS-TA_05-11_07%5D_%5BIA_02-AT%5D.swf" TargetMode="External"/><Relationship Id="rId3" Type="http://schemas.openxmlformats.org/officeDocument/2006/relationships/hyperlink" Target="http://www.fcior.edu.ru/card/5434/narechie-kak-chast-rechi-i2.html" TargetMode="External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03640" y="119664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70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Презентация к уроку «Наречие как часть речи» в 7 классе (1 урок по теме «Наречие»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475640" y="3285000"/>
            <a:ext cx="740628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5000" anchor="t">
            <a:normAutofit/>
          </a:bodyPr>
          <a:p>
            <a:pPr indent="0" algn="ctr">
              <a:buNone/>
            </a:pPr>
            <a:endParaRPr b="0" lang="en-US" sz="2600" spc="-1" strike="noStrike">
              <a:solidFill>
                <a:srgbClr val="361309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59640" y="1124640"/>
            <a:ext cx="7406280" cy="7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Использованные материалы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5640" y="2133000"/>
            <a:ext cx="7766280" cy="27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5000" anchor="t">
            <a:normAutofit fontScale="75000"/>
          </a:bodyPr>
          <a:p>
            <a:pPr marL="23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361309"/>
                </a:solidFill>
                <a:latin typeface="Gill Sans MT"/>
              </a:rPr>
              <a:t>1. Русский язык. 7-9 классы: поурочные планы по программе М. Т. Баранова, Т. А. Ладыженской, Н. М. Шанского (компакт-диск) – издательство «Учитель», 20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361309"/>
                </a:solidFill>
                <a:latin typeface="Gill Sans MT"/>
              </a:rPr>
              <a:t>2. Тестовые задания по русскому языку: 7 кл.: пособие для учащихся/ Г. А. Богданова.- М.: Просвещение, 200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361309"/>
                </a:solidFill>
                <a:latin typeface="Gill Sans MT"/>
              </a:rPr>
              <a:t>3. Рисунки, найденные в сети Интернет (</a:t>
            </a:r>
            <a:r>
              <a:rPr b="0" lang="en-US" sz="2600" spc="-1" strike="noStrike" u="sng">
                <a:solidFill>
                  <a:srgbClr val="51842d"/>
                </a:solidFill>
                <a:uFillTx/>
                <a:latin typeface="Gill Sans MT"/>
                <a:hlinkClick r:id="rId1"/>
              </a:rPr>
              <a:t>https://www.google.ru/imghp?hl=ru&amp;tab=wi</a:t>
            </a:r>
            <a:r>
              <a:rPr b="0" lang="ru-RU" sz="2600" spc="-1" strike="noStrike">
                <a:solidFill>
                  <a:srgbClr val="361309"/>
                </a:solidFill>
                <a:latin typeface="Gill Sans MT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361309"/>
                </a:solidFill>
                <a:latin typeface="Gill Sans MT"/>
              </a:rPr>
              <a:t>4. Электронные образовательные ресурсы (</a:t>
            </a:r>
            <a:r>
              <a:rPr b="0" lang="ru-RU" sz="2600" spc="-1" strike="noStrike" u="sng">
                <a:solidFill>
                  <a:srgbClr val="51842d"/>
                </a:solidFill>
                <a:uFillTx/>
                <a:latin typeface="Gill Sans MT"/>
                <a:hlinkClick r:id="rId2"/>
              </a:rPr>
              <a:t>www.fcior.edu.ru</a:t>
            </a:r>
            <a:r>
              <a:rPr b="0" lang="ru-RU" sz="2600" spc="-1" strike="noStrike" u="sng">
                <a:solidFill>
                  <a:srgbClr val="361309"/>
                </a:solidFill>
                <a:uFillTx/>
                <a:latin typeface="Gill Sans MT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59640" y="33264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0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5000" spc="-1" strike="noStrike">
                <a:solidFill>
                  <a:srgbClr val="572314"/>
                </a:solidFill>
                <a:latin typeface="Gill Sans MT"/>
              </a:rPr>
              <a:t>Наречие  как  часть  речи</a:t>
            </a:r>
            <a:endParaRPr b="0" lang="ru-RU" sz="5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Прямоугольник 2"/>
          <p:cNvSpPr/>
          <p:nvPr/>
        </p:nvSpPr>
        <p:spPr>
          <a:xfrm>
            <a:off x="1547640" y="2925000"/>
            <a:ext cx="72723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 u="sng">
                <a:solidFill>
                  <a:srgbClr val="8dc765"/>
                </a:solidFill>
                <a:uFillTx/>
                <a:latin typeface="Gill Sans MT"/>
                <a:hlinkClick r:id="rId1"/>
              </a:rPr>
              <a:t>http://www.fcior.edu.ru/card/5395/narechie-kak-chast-rechi-i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3"/>
          <p:cNvSpPr/>
          <p:nvPr/>
        </p:nvSpPr>
        <p:spPr>
          <a:xfrm>
            <a:off x="1691640" y="5517360"/>
            <a:ext cx="73443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 u="sng">
                <a:solidFill>
                  <a:srgbClr val="8dc765"/>
                </a:solidFill>
                <a:uFillTx/>
                <a:latin typeface="Gill Sans MT"/>
                <a:hlinkClick r:id="rId2"/>
              </a:rPr>
              <a:t>http://files.school-collection.edu.ru/dlrstore/5b747fdf-1a05-4e53-a3f7-fdca90f6e89c/%5BIS-TA_05-11_07%5D_%5BIA_02-AT%5D.sw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4"/>
          <p:cNvSpPr/>
          <p:nvPr/>
        </p:nvSpPr>
        <p:spPr>
          <a:xfrm>
            <a:off x="1619640" y="4221000"/>
            <a:ext cx="66963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 u="sng">
                <a:solidFill>
                  <a:srgbClr val="8dc765"/>
                </a:solidFill>
                <a:uFillTx/>
                <a:latin typeface="Gill Sans MT"/>
                <a:hlinkClick r:id="rId3"/>
              </a:rPr>
              <a:t>http://www.fcior.edu.ru/card/5434/narechie-kak-chast-rechi-i2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5"/>
          <p:cNvSpPr/>
          <p:nvPr/>
        </p:nvSpPr>
        <p:spPr>
          <a:xfrm>
            <a:off x="1350360" y="2205000"/>
            <a:ext cx="65059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1. Основные свойства нареч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6"/>
          <p:cNvSpPr/>
          <p:nvPr/>
        </p:nvSpPr>
        <p:spPr>
          <a:xfrm>
            <a:off x="1304640" y="4725000"/>
            <a:ext cx="70786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3. Способы образования нареч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1541520" y="3429000"/>
            <a:ext cx="45399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2. Значения нареч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15640" y="3933000"/>
            <a:ext cx="7641720" cy="25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ru-RU" sz="4400" spc="-1" strike="noStrike">
                <a:solidFill>
                  <a:srgbClr val="572314"/>
                </a:solidFill>
                <a:latin typeface="Gill Sans MT"/>
              </a:rPr>
              <a:t>1. С самого утра небо </a:t>
            </a:r>
            <a:r>
              <a:rPr b="1" i="1" lang="ru-RU" sz="4400" spc="-1" strike="noStrike">
                <a:solidFill>
                  <a:srgbClr val="c00000"/>
                </a:solidFill>
                <a:latin typeface="Gill Sans MT"/>
              </a:rPr>
              <a:t>ясно</a:t>
            </a:r>
            <a:r>
              <a:rPr b="1" i="1" lang="ru-RU" sz="4400" spc="-1" strike="noStrike">
                <a:solidFill>
                  <a:srgbClr val="572314"/>
                </a:solidFill>
                <a:latin typeface="Gill Sans MT"/>
              </a:rPr>
              <a:t>.</a:t>
            </a:r>
            <a:br>
              <a:rPr sz="4400"/>
            </a:br>
            <a:r>
              <a:rPr b="1" lang="ru-RU" sz="4400" spc="-1" strike="noStrike">
                <a:solidFill>
                  <a:srgbClr val="572314"/>
                </a:solidFill>
                <a:latin typeface="Gill Sans MT"/>
              </a:rPr>
              <a:t>2.</a:t>
            </a:r>
            <a:r>
              <a:rPr b="1" i="1" lang="ru-RU" sz="4400" spc="-1" strike="noStrike">
                <a:solidFill>
                  <a:srgbClr val="572314"/>
                </a:solidFill>
                <a:latin typeface="Gill Sans MT"/>
              </a:rPr>
              <a:t>Сергей четко и </a:t>
            </a:r>
            <a:r>
              <a:rPr b="1" i="1" lang="ru-RU" sz="4400" spc="-1" strike="noStrike">
                <a:solidFill>
                  <a:srgbClr val="c00000"/>
                </a:solidFill>
                <a:latin typeface="Gill Sans MT"/>
              </a:rPr>
              <a:t>ясно </a:t>
            </a:r>
            <a:r>
              <a:rPr b="1" i="1" lang="ru-RU" sz="4400" spc="-1" strike="noStrike">
                <a:solidFill>
                  <a:srgbClr val="572314"/>
                </a:solidFill>
                <a:latin typeface="Gill Sans MT"/>
              </a:rPr>
              <a:t>ответил на поставленный вопрос.  </a:t>
            </a:r>
            <a:endParaRPr b="0" lang="ru-RU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55640" y="188640"/>
            <a:ext cx="8280720" cy="36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6000"/>
          </a:bodyPr>
          <a:p>
            <a:pPr marL="351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Проанализируйте значение и синтаксическую роль слова </a:t>
            </a:r>
            <a:r>
              <a:rPr b="1" i="1" lang="ru-RU" sz="3600" spc="-1" strike="noStrike">
                <a:solidFill>
                  <a:srgbClr val="c00000"/>
                </a:solidFill>
                <a:latin typeface="Cambria"/>
              </a:rPr>
              <a:t>ЯСНО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в представленных предложениях.  </a:t>
            </a: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marL="351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Что различает эти слова? </a:t>
            </a: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marL="351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Можете ли вы определить, к какой части речи они относятся?</a:t>
            </a: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240" cy="12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i="1" lang="ru-RU" sz="5400" spc="49" strike="noStrike">
                <a:solidFill>
                  <a:schemeClr val="accent2"/>
                </a:solidFill>
                <a:latin typeface="Times New Roman"/>
              </a:rPr>
              <a:t>Наречие как часть речи</a:t>
            </a:r>
            <a:endParaRPr b="0" lang="ru-RU" sz="5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-214200" y="1000080"/>
            <a:ext cx="6329160" cy="52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AutoNum type="arabicPeriod"/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речие - самостоятельная часть речи, которая обычно обозначает признак действия. Наречия отвечают на вопросы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Как? Когда? Где? Куда? Зачем? С какой целью? В какой степени? И т.д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AutoNum type="arabicPeriod"/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речия не изменяются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AutoNum type="arabicPeriod"/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предложении являются обстоятельствами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47" name="Рисунок 4" descr="53.gif"/>
          <p:cNvPicPr/>
          <p:nvPr/>
        </p:nvPicPr>
        <p:blipFill>
          <a:blip r:embed="rId1"/>
          <a:stretch/>
        </p:blipFill>
        <p:spPr>
          <a:xfrm>
            <a:off x="6429240" y="3784680"/>
            <a:ext cx="2499840" cy="2858760"/>
          </a:xfrm>
          <a:prstGeom prst="rect">
            <a:avLst/>
          </a:prstGeom>
          <a:ln w="9525">
            <a:noFill/>
          </a:ln>
        </p:spPr>
      </p:pic>
      <p:pic>
        <p:nvPicPr>
          <p:cNvPr id="148" name="Picture 4" descr=""/>
          <p:cNvPicPr/>
          <p:nvPr/>
        </p:nvPicPr>
        <p:blipFill>
          <a:blip r:embed="rId2"/>
          <a:stretch/>
        </p:blipFill>
        <p:spPr>
          <a:xfrm>
            <a:off x="5826240" y="1143000"/>
            <a:ext cx="3317400" cy="18666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428760" y="4143240"/>
            <a:ext cx="4444560" cy="249984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5400" spc="-1" strike="noStrike">
                <a:solidFill>
                  <a:srgbClr val="ffa617"/>
                </a:solidFill>
                <a:latin typeface="Times New Roman"/>
              </a:rPr>
              <a:t>ВЫБЕРИТЕ НАРЕЧИЕ</a:t>
            </a:r>
            <a:endParaRPr b="0" lang="ru-RU" sz="5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786200" y="1600200"/>
            <a:ext cx="4071600" cy="52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чера, день, шляпа, холодно, взмахимая, улыбаясь, синеющий, куртка, осторожно, слишком, потом, плакат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2"/>
          <a:stretch/>
        </p:blipFill>
        <p:spPr>
          <a:xfrm>
            <a:off x="285840" y="1357200"/>
            <a:ext cx="4357440" cy="304596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640" y="476640"/>
            <a:ext cx="8393760" cy="9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48000"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572314"/>
                </a:solidFill>
                <a:latin typeface="Gill Sans MT"/>
              </a:rPr>
              <a:t>Найдите  словосочетания:</a:t>
            </a:r>
            <a:br>
              <a:rPr sz="3600"/>
            </a:br>
            <a:r>
              <a:rPr b="1" lang="ru-RU" sz="3600" spc="-1" strike="noStrike">
                <a:solidFill>
                  <a:srgbClr val="572314"/>
                </a:solidFill>
                <a:latin typeface="Gill Sans MT"/>
              </a:rPr>
              <a:t>наречие + слово, с которым оно сочетается.</a:t>
            </a:r>
            <a:br>
              <a:rPr sz="4300"/>
            </a:b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24000" y="1268640"/>
            <a:ext cx="4896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1000"/>
          </a:bodyPr>
          <a:p>
            <a:pPr marL="320040" indent="-2476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1) И </a:t>
            </a:r>
            <a:r>
              <a:rPr b="0" lang="ru-RU" sz="2800" spc="-1" strike="noStrike" u="dotDash">
                <a:solidFill>
                  <a:srgbClr val="000000"/>
                </a:solidFill>
                <a:uFillTx/>
                <a:latin typeface="Gill Sans MT"/>
              </a:rPr>
              <a:t>тогда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 кабинет господина де Тревиля </a:t>
            </a:r>
            <a:r>
              <a:rPr b="0" lang="ru-RU" sz="2800" spc="-1" strike="noStrike" u="dotDash">
                <a:solidFill>
                  <a:srgbClr val="000000"/>
                </a:solidFill>
                <a:uFillTx/>
                <a:latin typeface="Gill Sans MT"/>
              </a:rPr>
              <a:t>всегда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  вызывавш..трепет у всех входивш.. </a:t>
            </a:r>
            <a:r>
              <a:rPr b="0" lang="ru-RU" sz="2800" spc="-1" strike="noStrike" u="dotDash">
                <a:solidFill>
                  <a:srgbClr val="000000"/>
                </a:solidFill>
                <a:uFillTx/>
                <a:latin typeface="Gill Sans MT"/>
              </a:rPr>
              <a:t>мгновенно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 превратился в отделение приемной.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20040" indent="-2476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2) У ворот он увидел Портоса беседовавш.. с караульным.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20040" indent="-2476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3) </a:t>
            </a:r>
            <a:r>
              <a:rPr b="0" lang="ru-RU" sz="2800" spc="-1" strike="noStrike" u="dotDash">
                <a:solidFill>
                  <a:srgbClr val="000000"/>
                </a:solidFill>
                <a:uFillTx/>
                <a:latin typeface="Gill Sans MT"/>
              </a:rPr>
              <a:t>Там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 я  укажу вам подходящ.. для поединка место.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20040" indent="-2476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4) Д’Артаньян произнес эти слова с простотой делавш.. честь его учтивости.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55" name="Содержимое 4" descr="295265700.jpg"/>
          <p:cNvPicPr/>
          <p:nvPr/>
        </p:nvPicPr>
        <p:blipFill>
          <a:blip r:embed="rId1"/>
          <a:stretch/>
        </p:blipFill>
        <p:spPr>
          <a:xfrm>
            <a:off x="179640" y="3213000"/>
            <a:ext cx="3657240" cy="29793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156" name="Прямоугольник 5"/>
          <p:cNvSpPr/>
          <p:nvPr/>
        </p:nvSpPr>
        <p:spPr>
          <a:xfrm>
            <a:off x="251640" y="1628640"/>
            <a:ext cx="331200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27130e"/>
                </a:solidFill>
                <a:latin typeface="Gill Sans MT"/>
              </a:rPr>
              <a:t>Нас приглашает А. Дюм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640" y="476640"/>
            <a:ext cx="8393760" cy="9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48000"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572314"/>
                </a:solidFill>
                <a:latin typeface="Gill Sans MT"/>
              </a:rPr>
              <a:t>Найдите  словосочетания:</a:t>
            </a:r>
            <a:br>
              <a:rPr sz="3600"/>
            </a:br>
            <a:r>
              <a:rPr b="1" lang="ru-RU" sz="3600" spc="-1" strike="noStrike">
                <a:solidFill>
                  <a:srgbClr val="572314"/>
                </a:solidFill>
                <a:latin typeface="Gill Sans MT"/>
              </a:rPr>
              <a:t>наречие + слово, с которым оно сочетается.</a:t>
            </a:r>
            <a:br>
              <a:rPr sz="4300"/>
            </a:b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708000" y="1268640"/>
            <a:ext cx="5112360" cy="51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3000"/>
          </a:bodyPr>
          <a:p>
            <a:pPr marL="339840" indent="-2631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5) Д’Артаньяну приходилось напрягать всю свою волю, чтобы не вмешаться в  происходивш.. </a:t>
            </a:r>
            <a:r>
              <a:rPr b="0" lang="ru-RU" sz="2800" spc="-1" strike="noStrike" u="dotDash">
                <a:solidFill>
                  <a:srgbClr val="000000"/>
                </a:solidFill>
                <a:uFillTx/>
                <a:latin typeface="Gill Sans MT"/>
              </a:rPr>
              <a:t>там, внизу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39840" indent="-2631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6) Д’Артаньян </a:t>
            </a:r>
            <a:r>
              <a:rPr b="0" lang="ru-RU" sz="2800" spc="-1" strike="noStrike" u="dotDash">
                <a:solidFill>
                  <a:srgbClr val="000000"/>
                </a:solidFill>
                <a:uFillTx/>
                <a:latin typeface="Gill Sans MT"/>
              </a:rPr>
              <a:t>немедленно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 отправился в указанный ему трактир который узнал по крикам  доносивш.. ся </a:t>
            </a:r>
            <a:r>
              <a:rPr b="0" lang="ru-RU" sz="2800" spc="-1" strike="noStrike" u="dotDash">
                <a:solidFill>
                  <a:srgbClr val="000000"/>
                </a:solidFill>
                <a:uFillTx/>
                <a:latin typeface="Gill Sans MT"/>
              </a:rPr>
              <a:t>оттуда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39840" indent="-2631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7)  Войти к будущ..му аббату оказалось </a:t>
            </a:r>
            <a:r>
              <a:rPr b="0" lang="ru-RU" sz="2800" spc="-1" strike="noStrike" u="dotDotDash">
                <a:solidFill>
                  <a:srgbClr val="000000"/>
                </a:solidFill>
                <a:uFillTx/>
                <a:latin typeface="Gill Sans MT"/>
              </a:rPr>
              <a:t>не так-то просто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59" name="Содержимое 4" descr="295265700.jpg"/>
          <p:cNvPicPr/>
          <p:nvPr/>
        </p:nvPicPr>
        <p:blipFill>
          <a:blip r:embed="rId1"/>
          <a:stretch/>
        </p:blipFill>
        <p:spPr>
          <a:xfrm>
            <a:off x="179640" y="3213000"/>
            <a:ext cx="3657240" cy="29793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160" name="Прямоугольник 5"/>
          <p:cNvSpPr/>
          <p:nvPr/>
        </p:nvSpPr>
        <p:spPr>
          <a:xfrm>
            <a:off x="251640" y="1628640"/>
            <a:ext cx="331200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27130e"/>
                </a:solidFill>
                <a:latin typeface="Gill Sans MT"/>
              </a:rPr>
              <a:t>Нас приглашает А. Дюм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627640" y="332640"/>
            <a:ext cx="3567960" cy="9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3000"/>
          </a:bodyPr>
          <a:p>
            <a:pPr indent="0">
              <a:lnSpc>
                <a:spcPct val="100000"/>
              </a:lnSpc>
              <a:buNone/>
            </a:pPr>
            <a:r>
              <a:rPr b="1" lang="ru-RU" sz="6000" spc="-1" strike="noStrike">
                <a:solidFill>
                  <a:srgbClr val="572314"/>
                </a:solidFill>
                <a:latin typeface="Gill Sans MT"/>
              </a:rPr>
              <a:t>Сравните:</a:t>
            </a:r>
            <a:endParaRPr b="0" lang="ru-RU" sz="6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15640" y="1268640"/>
            <a:ext cx="7416360" cy="25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1000"/>
          </a:bodyPr>
          <a:p>
            <a:pPr marL="318600" indent="-246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6200" spc="-1" strike="noStrike">
                <a:solidFill>
                  <a:srgbClr val="000000"/>
                </a:solidFill>
                <a:latin typeface="Gill Sans MT"/>
              </a:rPr>
              <a:t>На завтрак я ел яйцо всмятку.</a:t>
            </a:r>
            <a:endParaRPr b="0" lang="ru-RU" sz="6200" spc="-1" strike="noStrike">
              <a:solidFill>
                <a:srgbClr val="000000"/>
              </a:solidFill>
              <a:latin typeface="Gill Sans MT"/>
            </a:endParaRPr>
          </a:p>
          <a:p>
            <a:pPr marL="318600" indent="-246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6200" spc="-1" strike="noStrike">
                <a:solidFill>
                  <a:srgbClr val="000000"/>
                </a:solidFill>
                <a:latin typeface="Gill Sans MT"/>
              </a:rPr>
              <a:t>В результате аварии обе машины разбились всмятку.</a:t>
            </a:r>
            <a:endParaRPr b="0" lang="ru-RU" sz="6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63" name="Picture 2" descr="C:\Users\Анна\Desktop\всмятку.jpg"/>
          <p:cNvPicPr/>
          <p:nvPr/>
        </p:nvPicPr>
        <p:blipFill>
          <a:blip r:embed="rId1"/>
          <a:stretch/>
        </p:blipFill>
        <p:spPr>
          <a:xfrm>
            <a:off x="5004000" y="3789000"/>
            <a:ext cx="3606840" cy="27050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C:\Users\Анна\Desktop\image2136690.jpg"/>
          <p:cNvPicPr/>
          <p:nvPr/>
        </p:nvPicPr>
        <p:blipFill>
          <a:blip r:embed="rId2"/>
          <a:stretch/>
        </p:blipFill>
        <p:spPr>
          <a:xfrm>
            <a:off x="755640" y="3789000"/>
            <a:ext cx="3777840" cy="271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Подведем итоги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</a:pPr>
            <a:r>
              <a:rPr b="0" lang="ru-RU" sz="4400" spc="-1" strike="noStrike">
                <a:solidFill>
                  <a:srgbClr val="000000"/>
                </a:solidFill>
                <a:latin typeface="Gill Sans MT"/>
              </a:rPr>
              <a:t>Чем наречие отличается от других самостоятельных частей речи?</a:t>
            </a:r>
            <a:endParaRPr b="0" lang="ru-RU" sz="4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123640" y="404640"/>
            <a:ext cx="52963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300" spc="-1" strike="noStrike">
                <a:solidFill>
                  <a:srgbClr val="572314"/>
                </a:solidFill>
                <a:latin typeface="Gill Sans MT"/>
              </a:rPr>
              <a:t>Домашнее задание:</a:t>
            </a: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 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699640" y="1484640"/>
            <a:ext cx="46483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Gill Sans MT"/>
              </a:rPr>
              <a:t>§ 32, </a:t>
            </a:r>
            <a:endParaRPr b="0" lang="ru-RU" sz="7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Gill Sans MT"/>
              </a:rPr>
              <a:t>упр. 197, </a:t>
            </a:r>
            <a:endParaRPr b="0" lang="ru-RU" sz="7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Gill Sans MT"/>
              </a:rPr>
              <a:t>упр.199.</a:t>
            </a:r>
            <a:endParaRPr b="0" lang="ru-RU" sz="7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Солнцестояние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Солнцестояние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Солнцестояние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Solstice</Template>
  <TotalTime>134</TotalTime>
  <Application>LibreOffice/7.4.7.2$Linux_X86_64 LibreOffice_project/40$Build-2</Application>
  <AppVersion>15.0000</AppVersion>
  <Words>391</Words>
  <Paragraphs>4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1T18:24:23Z</dcterms:created>
  <dc:creator>Анна</dc:creator>
  <dc:description/>
  <dc:language>en-US</dc:language>
  <cp:lastModifiedBy>1</cp:lastModifiedBy>
  <dcterms:modified xsi:type="dcterms:W3CDTF">2012-12-20T00:31:41Z</dcterms:modified>
  <cp:revision>19</cp:revision>
  <dc:subject/>
  <dc:title>Словарный диктан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1</vt:r8>
  </property>
</Properties>
</file>