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E1C6-2D6B-4AD8-9036-ABBF69BC6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99D-5244-4A17-AFED-25F63B87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EC5-B804-4430-AB5F-BCFD66C91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547D-BBE2-49DD-AF8E-AAA0438E7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98F3B-2A86-47D4-926C-B68C33A8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9D38-FC19-4937-B6C1-700D9D5C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0C02-8ED2-4973-AF54-5A9048E9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B1D6-9213-4F77-8F56-980317DD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FE9D-5EED-4ABD-97D5-6770D3E9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E7E8C-61A9-4419-A232-AF2D6221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778E-A1E0-4556-86C1-3ACE2509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ECC6-8091-40FC-9C56-582379A4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3900-71E7-46A1-8565-D2A20B911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866A0-14CA-422C-90A5-EEFD7E39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F6D5-AEC5-4D4D-82C6-D666D3BC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F866-796A-44F1-A80C-24C02B01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117E-0D96-4DA7-896B-135F8754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9577A-BD79-45E9-B9E3-F9665B1A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F20AA-5177-423E-9B7C-8F905F4E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8A49A-0819-4CA8-A84E-75B2F2D7B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EDC3A-BB8D-4DCE-81E7-D26E1D46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1DF95-2981-401C-B0F2-63A56E46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E2B5-9A99-4BF5-B502-52D2C037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F26FA-5A80-4C89-8531-919E15E6D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10462-A996-4156-8056-E7D8A774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B2F8F-6B58-4DDC-9DC3-DB86876B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523E3-914D-4E9B-BBD9-5B60F3DA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7E16E-066E-4154-B83A-D71B578D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75C15-E2F1-4C45-8906-3ACCEFEC9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AAC8-914B-48C8-B452-13F2DA23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6D48-55DB-4E55-BD46-D4839238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715F-9CD4-4091-A3FC-263099AE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2440" y="360000"/>
            <a:ext cx="7406280" cy="682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A1D9-1A26-41F9-934F-8DFDD5CA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1FC-C55D-4DE9-93FB-F1E52ABA9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F596-BE89-44A8-9E3B-C84DDC95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6C9-30B2-4739-809B-D813C8F7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2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3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2440" y="36000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C89CE64-111F-475A-8ADA-C7FFC142E6DC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7"/>
          <p:cNvSpPr/>
          <p:nvPr/>
        </p:nvSpPr>
        <p:spPr>
          <a:xfrm>
            <a:off x="921600" y="1413720"/>
            <a:ext cx="209880" cy="209880"/>
          </a:xfrm>
          <a:prstGeom prst="ellipse">
            <a:avLst/>
          </a:prstGeom>
          <a:gradFill rotWithShape="0">
            <a:gsLst>
              <a:gs pos="0">
                <a:srgbClr val="daf5fe">
                  <a:alpha val="95294"/>
                </a:srgbClr>
              </a:gs>
              <a:gs pos="100000">
                <a:srgbClr val="00aad4">
                  <a:alpha val="85098"/>
                </a:srgbClr>
              </a:gs>
            </a:gsLst>
            <a:path path="circle">
              <a:fillToRect l="25000" t="12000" r="75000" b="88000"/>
            </a:path>
          </a:gradFill>
          <a:ln cap="rnd" w="2000">
            <a:solidFill>
              <a:srgbClr val="3891a7">
                <a:shade val="90000"/>
                <a:satMod val="110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0" name="Овал 8"/>
          <p:cNvSpPr/>
          <p:nvPr/>
        </p:nvSpPr>
        <p:spPr>
          <a:xfrm>
            <a:off x="1157040" y="1344960"/>
            <a:ext cx="63720" cy="63720"/>
          </a:xfrm>
          <a:prstGeom prst="ellipse">
            <a:avLst/>
          </a:prstGeom>
          <a:noFill/>
          <a:ln cap="rnd" w="12700">
            <a:solidFill>
              <a:srgbClr val="3891a7">
                <a:shade val="75000"/>
                <a:alpha val="6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0" bIns="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Gill Sans MT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0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1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2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79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BC8611-4D58-4504-A072-26720ABA4F70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89772" sy="89772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ирог 6"/>
          <p:cNvSpPr/>
          <p:nvPr/>
        </p:nvSpPr>
        <p:spPr>
          <a:xfrm>
            <a:off x="-815760" y="-815760"/>
            <a:ext cx="1638360" cy="1638360"/>
          </a:xfrm>
          <a:prstGeom prst="pie">
            <a:avLst>
              <a:gd name="adj1" fmla="val 0"/>
              <a:gd name="adj2" fmla="val 5402120"/>
            </a:avLst>
          </a:prstGeom>
          <a:solidFill>
            <a:schemeClr val="bg2">
              <a:tint val="18000"/>
              <a:satMod val="220000"/>
              <a:alpha val="33000"/>
            </a:schemeClr>
          </a:solidFill>
          <a:ln cap="rnd" w="3175">
            <a:solidFill>
              <a:srgbClr val="e7dec9">
                <a:shade val="70000"/>
                <a:satMod val="200000"/>
                <a:alpha val="100000"/>
              </a:srgbClr>
            </a:solidFill>
            <a:round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5" name="Овал 7"/>
          <p:cNvSpPr/>
          <p:nvPr/>
        </p:nvSpPr>
        <p:spPr>
          <a:xfrm>
            <a:off x="168840" y="21240"/>
            <a:ext cx="1701720" cy="1701720"/>
          </a:xfrm>
          <a:prstGeom prst="ellipse">
            <a:avLst/>
          </a:prstGeom>
          <a:noFill/>
          <a:ln cap="rnd" w="27305">
            <a:solidFill>
              <a:srgbClr val="e7dec9">
                <a:tint val="45000"/>
                <a:satMod val="325000"/>
                <a:alpha val="100000"/>
              </a:srgbClr>
            </a:solidFill>
            <a:round/>
          </a:ln>
          <a:effectLst>
            <a:outerShdw algn="tl" blurRad="25560" dir="5400000" dist="25560" rotWithShape="0">
              <a:schemeClr val="bg2">
                <a:shade val="50000"/>
                <a:satMod val="150000"/>
                <a:alpha val="8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6" name="Кольцо 10"/>
          <p:cNvSpPr/>
          <p:nvPr/>
        </p:nvSpPr>
        <p:spPr>
          <a:xfrm rot="2315400">
            <a:off x="182880" y="1054800"/>
            <a:ext cx="1125360" cy="1102320"/>
          </a:xfrm>
          <a:prstGeom prst="donut">
            <a:avLst>
              <a:gd name="adj" fmla="val 11833"/>
            </a:avLst>
          </a:prstGeom>
          <a:gradFill rotWithShape="0">
            <a:gsLst>
              <a:gs pos="0">
                <a:srgbClr val="eed18e">
                  <a:alpha val="60000"/>
                </a:srgbClr>
              </a:gs>
              <a:gs pos="100000">
                <a:srgbClr val="fefaf6">
                  <a:alpha val="70196"/>
                </a:srgbClr>
              </a:gs>
            </a:gsLst>
            <a:lin ang="13500000"/>
          </a:gradFill>
          <a:ln cap="rnd" w="7350">
            <a:solidFill>
              <a:srgbClr val="e7dec9">
                <a:shade val="60000"/>
                <a:satMod val="220000"/>
                <a:alpha val="100000"/>
              </a:srgbClr>
            </a:solidFill>
            <a:round/>
          </a:ln>
          <a:effectLst>
            <a:outerShdw algn="tl" blurRad="12600" dir="4557825" dist="14843" rotWithShape="0">
              <a:schemeClr val="bg2">
                <a:shade val="10000"/>
                <a:satMod val="200000"/>
                <a:alpha val="3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7" name="Прямоугольник 11"/>
          <p:cNvSpPr/>
          <p:nvPr/>
        </p:nvSpPr>
        <p:spPr>
          <a:xfrm>
            <a:off x="1013040" y="0"/>
            <a:ext cx="813060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63360" dir="5400000" dist="25560" rotWithShape="0">
              <a:srgbClr val="000000">
                <a:alpha val="43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8" name="Прямоугольник 14"/>
          <p:cNvSpPr/>
          <p:nvPr/>
        </p:nvSpPr>
        <p:spPr>
          <a:xfrm>
            <a:off x="1014840" y="0"/>
            <a:ext cx="72720" cy="685764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algn="tl" blurRad="38520" dir="10800000" dist="38160" rotWithShape="0">
              <a:schemeClr val="bg2">
                <a:shade val="20000"/>
                <a:satMod val="110000"/>
                <a:alpha val="25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ill Sans M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35680" y="27432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Образец заголовка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43568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body"/>
          </p:nvPr>
        </p:nvSpPr>
        <p:spPr>
          <a:xfrm>
            <a:off x="5276160" y="1523880"/>
            <a:ext cx="3657240" cy="466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080" indent="-237600">
              <a:lnSpc>
                <a:spcPct val="10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</a:pPr>
            <a:r>
              <a:rPr b="0" lang="ru-RU" sz="2400" spc="-1" strike="noStrike">
                <a:solidFill>
                  <a:srgbClr val="000000"/>
                </a:solidFill>
                <a:latin typeface="Gill Sans MT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704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000000"/>
                </a:solidFill>
                <a:latin typeface="Gill Sans MT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097280" indent="-173880">
              <a:lnSpc>
                <a:spcPct val="100000"/>
              </a:lnSpc>
              <a:spcBef>
                <a:spcPts val="360"/>
              </a:spcBef>
              <a:buClr>
                <a:srgbClr val="c32d2e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98520" indent="-182880">
              <a:lnSpc>
                <a:spcPct val="100000"/>
              </a:lnSpc>
              <a:spcBef>
                <a:spcPts val="360"/>
              </a:spcBef>
              <a:buClr>
                <a:srgbClr val="84aa33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Gill Sans MT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7"/>
          </p:nvPr>
        </p:nvSpPr>
        <p:spPr>
          <a:xfrm>
            <a:off x="3581280" y="630540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5715000" y="630540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8613720" y="6305400"/>
            <a:ext cx="456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200" spc="-1" strike="noStrike">
                <a:solidFill>
                  <a:srgbClr val="b5a989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371DFF4B-E10D-48EE-AB10-C379CD1ED745}" type="slidenum">
              <a:rPr b="0" lang="ru-RU" sz="1200" spc="-1" strike="noStrike">
                <a:solidFill>
                  <a:srgbClr val="b5a989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s://www.google.ru/imghp?hl=ru&amp;tab=wi" TargetMode="External"/><Relationship Id="rId2" Type="http://schemas.openxmlformats.org/officeDocument/2006/relationships/hyperlink" Target="http://www.fcior.edu.ru/card/5395/narechie-kak-chast-rechi-i1.html" TargetMode="External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fcior.edu.ru/card/5395/narechie-kak-chast-rechi-i1.html" TargetMode="External"/><Relationship Id="rId2" Type="http://schemas.openxmlformats.org/officeDocument/2006/relationships/hyperlink" Target="http://files.school-collection.edu.ru/dlrstore/5b747fdf-1a05-4e53-a3f7-fdca90f6e89c/%5BIS-TA_05-11_07%5D_%5BIA_02-AT%5D.swf" TargetMode="External"/><Relationship Id="rId3" Type="http://schemas.openxmlformats.org/officeDocument/2006/relationships/hyperlink" Target="http://www.fcior.edu.ru/card/5434/narechie-kak-chast-rechi-i2.html" TargetMode="Externa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03640" y="1196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70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резентация к уроку «Наречие как часть речи» в 7 классе (1 урок по теме «Наречие»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475640" y="3285000"/>
            <a:ext cx="740628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/>
          </a:bodyPr>
          <a:p>
            <a:pPr indent="0" algn="ctr">
              <a:buNone/>
            </a:pPr>
            <a:endParaRPr b="0" lang="en-US" sz="2600" spc="-1" strike="noStrike">
              <a:solidFill>
                <a:srgbClr val="36130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59640" y="1124640"/>
            <a:ext cx="7406280" cy="7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2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Использованные материалы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15640" y="2133000"/>
            <a:ext cx="7766280" cy="273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5000" anchor="t">
            <a:normAutofit fontScale="75000"/>
          </a:bodyPr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1. Русский язык. 7-9 классы: поурочные планы по программе М. Т. Баранова, Т. А. Ладыженской, Н. М. Шанского (компакт-диск) – издательство «Учитель», 20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2. Тестовые задания по русскому языку: 7 кл.: пособие для учащихся/ Г. А. Богданова.- М.: Просвещение,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3. Рисунки, найденные в сети Интернет (</a:t>
            </a:r>
            <a:r>
              <a:rPr b="0" lang="en-US" sz="2600" spc="-1" strike="noStrike" u="sng">
                <a:solidFill>
                  <a:srgbClr val="51842d"/>
                </a:solidFill>
                <a:uFillTx/>
                <a:latin typeface="Gill Sans MT"/>
                <a:hlinkClick r:id="rId1"/>
              </a:rPr>
              <a:t>https://www.google.ru/imghp?hl=ru&amp;tab=wi</a:t>
            </a: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2600" spc="-1" strike="noStrike">
                <a:solidFill>
                  <a:srgbClr val="361309"/>
                </a:solidFill>
                <a:latin typeface="Gill Sans MT"/>
              </a:rPr>
              <a:t>4. Электронные образовательные ресурсы (</a:t>
            </a:r>
            <a:r>
              <a:rPr b="0" lang="ru-RU" sz="2600" spc="-1" strike="noStrike" u="sng">
                <a:solidFill>
                  <a:srgbClr val="51842d"/>
                </a:solidFill>
                <a:uFillTx/>
                <a:latin typeface="Gill Sans MT"/>
                <a:hlinkClick r:id="rId2"/>
              </a:rPr>
              <a:t>www.fcior.edu.ru</a:t>
            </a:r>
            <a:r>
              <a:rPr b="0" lang="ru-RU" sz="2600" spc="-1" strike="noStrike" u="sng">
                <a:solidFill>
                  <a:srgbClr val="361309"/>
                </a:solidFill>
                <a:uFillTx/>
                <a:latin typeface="Gill Sans MT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3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59640" y="332640"/>
            <a:ext cx="740628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90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5000" spc="-1" strike="noStrike">
                <a:solidFill>
                  <a:srgbClr val="572314"/>
                </a:solidFill>
                <a:latin typeface="Gill Sans MT"/>
              </a:rPr>
              <a:t>Наречие  как  часть  речи</a:t>
            </a:r>
            <a:endParaRPr b="0" lang="ru-RU" sz="5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Прямоугольник 2"/>
          <p:cNvSpPr/>
          <p:nvPr/>
        </p:nvSpPr>
        <p:spPr>
          <a:xfrm>
            <a:off x="1547640" y="2925000"/>
            <a:ext cx="727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1"/>
              </a:rPr>
              <a:t>http://www.fcior.edu.ru/card/5395/narechie-kak-chast-rechi-i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3"/>
          <p:cNvSpPr/>
          <p:nvPr/>
        </p:nvSpPr>
        <p:spPr>
          <a:xfrm>
            <a:off x="1691640" y="5517360"/>
            <a:ext cx="7344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2"/>
              </a:rPr>
              <a:t>http://files.school-collection.edu.ru/dlrstore/5b747fdf-1a05-4e53-a3f7-fdca90f6e89c/%5BIS-TA_05-11_07%5D_%5BIA_02-AT%5D.sw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1619640" y="4221000"/>
            <a:ext cx="6696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 u="sng">
                <a:solidFill>
                  <a:srgbClr val="8dc765"/>
                </a:solidFill>
                <a:uFillTx/>
                <a:latin typeface="Gill Sans MT"/>
                <a:hlinkClick r:id="rId3"/>
              </a:rPr>
              <a:t>http://www.fcior.edu.ru/card/5434/narechie-kak-chast-rechi-i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5"/>
          <p:cNvSpPr/>
          <p:nvPr/>
        </p:nvSpPr>
        <p:spPr>
          <a:xfrm>
            <a:off x="1350360" y="2205000"/>
            <a:ext cx="6505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1. Основные свойства нареч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6"/>
          <p:cNvSpPr/>
          <p:nvPr/>
        </p:nvSpPr>
        <p:spPr>
          <a:xfrm>
            <a:off x="1304640" y="4725000"/>
            <a:ext cx="7078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3. Способы образова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7"/>
          <p:cNvSpPr/>
          <p:nvPr/>
        </p:nvSpPr>
        <p:spPr>
          <a:xfrm>
            <a:off x="1541520" y="3429000"/>
            <a:ext cx="4539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2. Значения нареч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15640" y="3933000"/>
            <a:ext cx="7641720" cy="25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1. С самого утра небо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.</a:t>
            </a:r>
            <a:br>
              <a:rPr sz="4400"/>
            </a:br>
            <a:r>
              <a:rPr b="1" lang="ru-RU" sz="4400" spc="-1" strike="noStrike">
                <a:solidFill>
                  <a:srgbClr val="572314"/>
                </a:solidFill>
                <a:latin typeface="Gill Sans MT"/>
              </a:rPr>
              <a:t>2.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Сергей четко и </a:t>
            </a:r>
            <a:r>
              <a:rPr b="1" i="1" lang="ru-RU" sz="4400" spc="-1" strike="noStrike">
                <a:solidFill>
                  <a:srgbClr val="c00000"/>
                </a:solidFill>
                <a:latin typeface="Gill Sans MT"/>
              </a:rPr>
              <a:t>ясно </a:t>
            </a:r>
            <a:r>
              <a:rPr b="1" i="1" lang="ru-RU" sz="4400" spc="-1" strike="noStrike">
                <a:solidFill>
                  <a:srgbClr val="572314"/>
                </a:solidFill>
                <a:latin typeface="Gill Sans MT"/>
              </a:rPr>
              <a:t>ответил на поставленный вопрос.  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55640" y="188640"/>
            <a:ext cx="8280720" cy="36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Проанализируйте значение и синтаксическую роль слова </a:t>
            </a:r>
            <a:r>
              <a:rPr b="1" i="1" lang="ru-RU" sz="3600" spc="-1" strike="noStrike">
                <a:solidFill>
                  <a:srgbClr val="c00000"/>
                </a:solidFill>
                <a:latin typeface="Cambria"/>
              </a:rPr>
              <a:t>ЯСНО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 в представленных предложениях. 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Что различает эти слова? 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marL="351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Cambria"/>
              </a:rPr>
              <a:t>Можете ли вы определить, к какой части речи они относятся?</a:t>
            </a: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240" cy="120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i="1" lang="ru-RU" sz="5400" spc="49" strike="noStrike">
                <a:solidFill>
                  <a:schemeClr val="accent2"/>
                </a:solidFill>
                <a:latin typeface="Times New Roman"/>
              </a:rPr>
              <a:t>Наречие как часть речи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214200" y="1000080"/>
            <a:ext cx="632916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е - самостоятельная часть речи, которая обычно обозначает признак действия. Наречия отвечают на вопросы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Как? Когда? Где? Куда? Зачем? С какой целью? В какой степени? И т.д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аречия не изменяются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 предложении являются обстоятельствами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7" name="Рисунок 4" descr="53.gif"/>
          <p:cNvPicPr/>
          <p:nvPr/>
        </p:nvPicPr>
        <p:blipFill>
          <a:blip r:embed="rId1"/>
          <a:stretch/>
        </p:blipFill>
        <p:spPr>
          <a:xfrm>
            <a:off x="6429240" y="3784680"/>
            <a:ext cx="2499840" cy="2858760"/>
          </a:xfrm>
          <a:prstGeom prst="rect">
            <a:avLst/>
          </a:prstGeom>
          <a:ln w="9525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2"/>
          <a:stretch/>
        </p:blipFill>
        <p:spPr>
          <a:xfrm>
            <a:off x="5826240" y="1143000"/>
            <a:ext cx="3317400" cy="18666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428760" y="4143240"/>
            <a:ext cx="4444560" cy="249984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5400" spc="-1" strike="noStrike">
                <a:solidFill>
                  <a:srgbClr val="ffa617"/>
                </a:solidFill>
                <a:latin typeface="Times New Roman"/>
              </a:rPr>
              <a:t>ВЫБЕРИТЕ НАРЕЧИЕ</a:t>
            </a:r>
            <a:endParaRPr b="0" lang="ru-RU" sz="5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786200" y="1600200"/>
            <a:ext cx="4071600" cy="52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чера, день, шляпа, холодно, взмахимая, улыбаясь, синеющий, куртка, осторожно, слишком, потом, плакат.</a:t>
            </a: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285840" y="1357200"/>
            <a:ext cx="4357440" cy="304596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000" y="1268640"/>
            <a:ext cx="48963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1000"/>
          </a:bodyPr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1) И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о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кабинет господина де Тревил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всег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 вызывавш..трепет у всех в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мгнов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превратился в отделение приемной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2) У ворот он увидел Портоса беседовавш.. с караульным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3)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я  укажу вам подходящ.. для поединка место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20040" indent="-2476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4) Д’Артаньян произнес эти слова с простотой делавш.. честь его учтивости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5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56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393760" cy="9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8000"/>
          </a:bodyPr>
          <a:p>
            <a:pPr indent="0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йдите  словосочетания:</a:t>
            </a:r>
            <a:br>
              <a:rPr sz="3600"/>
            </a:br>
            <a:r>
              <a:rPr b="1" lang="ru-RU" sz="3600" spc="-1" strike="noStrike">
                <a:solidFill>
                  <a:srgbClr val="572314"/>
                </a:solidFill>
                <a:latin typeface="Gill Sans MT"/>
              </a:rPr>
              <a:t>наречие + слово, с которым оно сочетается.</a:t>
            </a:r>
            <a:br>
              <a:rPr sz="4300"/>
            </a:br>
            <a:endParaRPr b="0" lang="ru-RU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708000" y="1268640"/>
            <a:ext cx="5112360" cy="51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5) Д’Артаньяну приходилось напрягать всю свою волю, чтобы не вмешаться в  происходивш..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там, внизу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6) Д’Артаньян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немедленн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 отправился в указанный ему трактир который узнал по крикам  доносивш.. ся </a:t>
            </a:r>
            <a:r>
              <a:rPr b="0" lang="ru-RU" sz="2800" spc="-1" strike="noStrike" u="dotDash">
                <a:solidFill>
                  <a:srgbClr val="000000"/>
                </a:solidFill>
                <a:uFillTx/>
                <a:latin typeface="Gill Sans MT"/>
              </a:rPr>
              <a:t>оттуда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marL="339840" indent="-26316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7)  Войти к будущ..му аббату оказалось </a:t>
            </a:r>
            <a:r>
              <a:rPr b="0" lang="ru-RU" sz="2800" spc="-1" strike="noStrike" u="dotDotDash">
                <a:solidFill>
                  <a:srgbClr val="000000"/>
                </a:solidFill>
                <a:uFillTx/>
                <a:latin typeface="Gill Sans MT"/>
              </a:rPr>
              <a:t>не так-то просто</a:t>
            </a:r>
            <a:r>
              <a:rPr b="0" lang="ru-RU" sz="2800" spc="-1" strike="noStrike">
                <a:solidFill>
                  <a:srgbClr val="000000"/>
                </a:solidFill>
                <a:latin typeface="Gill Sans MT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9" name="Содержимое 4" descr="295265700.jpg"/>
          <p:cNvPicPr/>
          <p:nvPr/>
        </p:nvPicPr>
        <p:blipFill>
          <a:blip r:embed="rId1"/>
          <a:stretch/>
        </p:blipFill>
        <p:spPr>
          <a:xfrm>
            <a:off x="179640" y="3213000"/>
            <a:ext cx="3657240" cy="29793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160" name="Прямоугольник 5"/>
          <p:cNvSpPr/>
          <p:nvPr/>
        </p:nvSpPr>
        <p:spPr>
          <a:xfrm>
            <a:off x="251640" y="1628640"/>
            <a:ext cx="331200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3200" spc="-1" strike="noStrike">
                <a:solidFill>
                  <a:srgbClr val="27130e"/>
                </a:solidFill>
                <a:latin typeface="Gill Sans MT"/>
              </a:rPr>
              <a:t>Нас приглашает А. Дюм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27640" y="332640"/>
            <a:ext cx="3567960" cy="94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3000"/>
          </a:bodyPr>
          <a:p>
            <a:pPr indent="0">
              <a:lnSpc>
                <a:spcPct val="100000"/>
              </a:lnSpc>
              <a:buNone/>
            </a:pPr>
            <a:r>
              <a:rPr b="1" lang="ru-RU" sz="6000" spc="-1" strike="noStrike">
                <a:solidFill>
                  <a:srgbClr val="572314"/>
                </a:solidFill>
                <a:latin typeface="Gill Sans MT"/>
              </a:rPr>
              <a:t>Сравните:</a:t>
            </a:r>
            <a:endParaRPr b="0" lang="ru-RU" sz="6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5640" y="1268640"/>
            <a:ext cx="7416360" cy="25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61000"/>
          </a:bodyPr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На завтрак я ел яйцо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marL="318600" indent="-246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</a:pPr>
            <a:r>
              <a:rPr b="0" lang="ru-RU" sz="6200" spc="-1" strike="noStrike">
                <a:solidFill>
                  <a:srgbClr val="000000"/>
                </a:solidFill>
                <a:latin typeface="Gill Sans MT"/>
              </a:rPr>
              <a:t>В результате аварии обе машины разбились всмятку.</a:t>
            </a:r>
            <a:endParaRPr b="0" lang="ru-RU" sz="6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3" name="Picture 2" descr="C:\Users\Анна\Desktop\всмятку.jpg"/>
          <p:cNvPicPr/>
          <p:nvPr/>
        </p:nvPicPr>
        <p:blipFill>
          <a:blip r:embed="rId1"/>
          <a:stretch/>
        </p:blipFill>
        <p:spPr>
          <a:xfrm>
            <a:off x="5004000" y="3789000"/>
            <a:ext cx="3606840" cy="27050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Users\Анна\Desktop\image2136690.jpg"/>
          <p:cNvPicPr/>
          <p:nvPr/>
        </p:nvPicPr>
        <p:blipFill>
          <a:blip r:embed="rId2"/>
          <a:stretch/>
        </p:blipFill>
        <p:spPr>
          <a:xfrm>
            <a:off x="755640" y="3789000"/>
            <a:ext cx="3777840" cy="271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5680" y="274680"/>
            <a:ext cx="74977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Подведем итоги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5680" y="1447920"/>
            <a:ext cx="74977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8332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"/>
            </a:pPr>
            <a:r>
              <a:rPr b="0" lang="ru-RU" sz="4400" spc="-1" strike="noStrike">
                <a:solidFill>
                  <a:srgbClr val="000000"/>
                </a:solidFill>
                <a:latin typeface="Gill Sans MT"/>
              </a:rPr>
              <a:t>Чем наречие отличается от других самостоятельных частей речи?</a:t>
            </a:r>
            <a:endParaRPr b="0" lang="ru-RU" sz="4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23640" y="404640"/>
            <a:ext cx="529632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300" spc="-1" strike="noStrike">
                <a:solidFill>
                  <a:srgbClr val="572314"/>
                </a:solidFill>
                <a:latin typeface="Gill Sans MT"/>
              </a:rPr>
              <a:t>Домашнее задание:</a:t>
            </a:r>
            <a:r>
              <a:rPr b="0" lang="ru-RU" sz="4300" spc="-1" strike="noStrike">
                <a:solidFill>
                  <a:srgbClr val="572314"/>
                </a:solidFill>
                <a:latin typeface="Gill Sans MT"/>
              </a:rPr>
              <a:t> </a:t>
            </a:r>
            <a:endParaRPr b="0" lang="ru-RU" sz="4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699640" y="1484640"/>
            <a:ext cx="4648320" cy="48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§ 32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 197, 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  <a:p>
            <a:pPr marL="36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Gill Sans MT"/>
              </a:rPr>
              <a:t>упр.199.</a:t>
            </a:r>
            <a:endParaRPr b="0" lang="ru-RU" sz="7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Солнцестояние">
  <a:themeElements>
    <a:clrScheme name="Солнцестояние">
      <a:dk1>
        <a:srgbClr val="000000"/>
      </a:dk1>
      <a:lt1>
        <a:srgbClr val="ffffff"/>
      </a:lt1>
      <a:dk2>
        <a:srgbClr val="4f271c"/>
      </a:dk2>
      <a:lt2>
        <a:srgbClr val="e7dec9"/>
      </a:lt2>
      <a:accent1>
        <a:srgbClr val="3891a7"/>
      </a:accent1>
      <a:accent2>
        <a:srgbClr val="feb80a"/>
      </a:accent2>
      <a:accent3>
        <a:srgbClr val="c32d2e"/>
      </a:accent3>
      <a:accent4>
        <a:srgbClr val="84aa33"/>
      </a:accent4>
      <a:accent5>
        <a:srgbClr val="964305"/>
      </a:accent5>
      <a:accent6>
        <a:srgbClr val="475a8d"/>
      </a:accent6>
      <a:hlink>
        <a:srgbClr val="8dc765"/>
      </a:hlink>
      <a:folHlink>
        <a:srgbClr val="aa8a1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Solstice</Template>
  <TotalTime>134</TotalTime>
  <Application>LibreOffice/7.4.7.2$Linux_X86_64 LibreOffice_project/40$Build-2</Application>
  <AppVersion>15.0000</AppVersion>
  <Words>391</Words>
  <Paragraphs>4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1T18:24:23Z</dcterms:created>
  <dc:creator>Анна</dc:creator>
  <dc:description/>
  <dc:language>en-US</dc:language>
  <cp:lastModifiedBy>1</cp:lastModifiedBy>
  <dcterms:modified xsi:type="dcterms:W3CDTF">2012-12-20T00:31:41Z</dcterms:modified>
  <cp:revision>19</cp:revision>
  <dc:subject/>
  <dc:title>Словарный дикта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1</vt:r8>
  </property>
</Properties>
</file>