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417-6360-4045-ABDC-A9BE581F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E53-184C-45CC-A323-D604821A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72E-31C4-4C8D-8B9C-7AC55B17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FED-4327-435C-A539-E15012C3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DAB4-C504-4713-A56A-84953B0C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DE6C-B2F6-4D4E-9ED7-F1275065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9504-1C8C-4B3A-B541-23ABB3AD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BB10-3337-4E4D-9ECB-41E41585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D975-6AB9-437E-BD08-F0BCC926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5C48-831D-4DEC-8437-D0A4FE02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A4AE-36FD-4923-A3D1-AE9CF1E7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67F-88D2-4D04-88B6-12BCDC91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777D-F702-4928-AD6F-57A5745F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7AED-E69F-42F8-BCAE-17FA95E8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9FD5-B001-4FF9-A17F-CC268170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72FD-26F4-4AE4-9E1A-ABBB0A92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79FB-A65E-4A5F-B184-86504EA8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6138B-1D51-46DF-B419-75B6AA8B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9734-0095-48BE-8B4E-231EB4C5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91AAC-E078-4250-888F-375E424D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34170-A9A9-4DB5-B732-1417F637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950E-6BE6-4447-A98E-756075E8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C0F-627E-494E-B29D-5559FB0E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57AC-EA59-4F9E-8546-143C0293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F12DE-5A98-4442-A782-D1B77E9F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459D-3EDE-40E5-B9AD-AD4D2EF4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A25A-FD99-4307-AE14-98D0CC90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B2628-9854-4D98-AAF0-1B8D983D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D377-2B9C-4A5F-B8FC-53CC5FF9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41B6-659F-4C0A-9D2F-73A94CAD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206-2EFA-4158-96E6-8A1FF566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AC3-A77C-480D-AC0A-E8A19D27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9C4-C495-4FD7-A60F-DFE52122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6B5-5183-4D98-AC96-2D99C82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384-F540-40EC-B896-E951FD6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4F2-44CA-486F-AB78-686CA861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C30496F-3077-4B5E-BD5C-840995C0BE01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F753674-0981-426F-B2C2-AAAB625A4225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68F3F7F-8048-41C7-A9E8-74F55444480A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ru/imghp?hl=ru&amp;tab=wi" TargetMode="External"/><Relationship Id="rId2" Type="http://schemas.openxmlformats.org/officeDocument/2006/relationships/hyperlink" Target="http://www.fcior.edu.ru/card/5395/narechie-kak-chast-rechi-i1.html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cior.edu.ru/card/5395/narechie-kak-chast-rechi-i1.html" TargetMode="External"/><Relationship Id="rId2" Type="http://schemas.openxmlformats.org/officeDocument/2006/relationships/hyperlink" Target="http://files.school-collection.edu.ru/dlrstore/5b747fdf-1a05-4e53-a3f7-fdca90f6e89c/%5BIS-TA_05-11_07%5D_%5BIA_02-AT%5D.swf" TargetMode="External"/><Relationship Id="rId3" Type="http://schemas.openxmlformats.org/officeDocument/2006/relationships/hyperlink" Target="http://www.fcior.edu.ru/card/5434/narechie-kak-chast-rechi-i2.html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640" y="1196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резентация к уроку «Наречие как часть речи» в 7 классе (1 урок по теме «Наречие»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5640" y="3285000"/>
            <a:ext cx="740628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36130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9640" y="1124640"/>
            <a:ext cx="7406280" cy="7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Использованные материалы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5640" y="2133000"/>
            <a:ext cx="7766280" cy="27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75000"/>
          </a:bodyPr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1. Русский язык. 7-9 классы: поурочные планы по программе М. Т. Баранова, Т. А. Ладыженской, Н. М. Шанского (компакт-диск) – издательство «Учитель»,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2. Тестовые задания по русскому языку: 7 кл.: пособие для учащихся/ Г. А. Богданова.- М.: Просвещение,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3. Рисунки, найденные в сети Интернет (</a:t>
            </a:r>
            <a:r>
              <a:rPr b="0" lang="en-US" sz="2600" spc="-1" strike="noStrike" u="sng">
                <a:solidFill>
                  <a:srgbClr val="51842d"/>
                </a:solidFill>
                <a:uFillTx/>
                <a:latin typeface="Gill Sans MT"/>
                <a:hlinkClick r:id="rId1"/>
              </a:rPr>
              <a:t>https://www.google.ru/imghp?hl=ru&amp;tab=wi</a:t>
            </a: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4. Электронные образовательные ресурсы (</a:t>
            </a:r>
            <a:r>
              <a:rPr b="0" lang="ru-RU" sz="2600" spc="-1" strike="noStrike" u="sng">
                <a:solidFill>
                  <a:srgbClr val="51842d"/>
                </a:solidFill>
                <a:uFillTx/>
                <a:latin typeface="Gill Sans MT"/>
                <a:hlinkClick r:id="rId2"/>
              </a:rPr>
              <a:t>www.fcior.edu.ru</a:t>
            </a:r>
            <a:r>
              <a:rPr b="0" lang="ru-RU" sz="2600" spc="-1" strike="noStrike" u="sng">
                <a:solidFill>
                  <a:srgbClr val="361309"/>
                </a:solidFill>
                <a:uFillTx/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9640" y="332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572314"/>
                </a:solidFill>
                <a:latin typeface="Gill Sans MT"/>
              </a:rPr>
              <a:t>Наречие  как  часть  речи</a:t>
            </a:r>
            <a:endParaRPr b="0" lang="ru-RU" sz="5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547640" y="2925000"/>
            <a:ext cx="727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fcior.edu.ru/card/5395/narechie-kak-chast-rechi-i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1691640" y="5517360"/>
            <a:ext cx="734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files.school-collection.edu.ru/dlrstore/5b747fdf-1a05-4e53-a3f7-fdca90f6e89c/%5BIS-TA_05-11_07%5D_%5BIA_02-AT%5D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619640" y="4221000"/>
            <a:ext cx="6696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fcior.edu.ru/card/5434/narechie-kak-chast-rechi-i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350360" y="2205000"/>
            <a:ext cx="6505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1. Основные свойства нареч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304640" y="4725000"/>
            <a:ext cx="707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3. Способы образова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1541520" y="3429000"/>
            <a:ext cx="4539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2. Значе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933000"/>
            <a:ext cx="7641720" cy="25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1. С самого утра небо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572314"/>
                </a:solidFill>
                <a:latin typeface="Gill Sans MT"/>
              </a:rPr>
              <a:t>2.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Сергей четко и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 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ответил на поставленный вопрос.  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88640"/>
            <a:ext cx="8280720" cy="36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анализируйте значение и синтаксическую роль слова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ЯСНО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 представленных предложениях.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то различает эти слова?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ожете ли вы определить, к какой части речи они относятся?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5400" spc="49" strike="noStrike">
                <a:solidFill>
                  <a:schemeClr val="accent2"/>
                </a:solidFill>
                <a:latin typeface="Times New Roman"/>
              </a:rPr>
              <a:t>Наречие как часть речи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214200" y="1000080"/>
            <a:ext cx="63291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е - самостоятельная часть речи, которая обычно обозначает признак действия. Наречия отвечают на вопрос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? Когда? Где? Куда? Зачем? С какой целью? В какой степени? И т.д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я не изменяютс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редложении являются обстоятельствам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Рисунок 4" descr="53.gif"/>
          <p:cNvPicPr/>
          <p:nvPr/>
        </p:nvPicPr>
        <p:blipFill>
          <a:blip r:embed="rId1"/>
          <a:stretch/>
        </p:blipFill>
        <p:spPr>
          <a:xfrm>
            <a:off x="6429240" y="3784680"/>
            <a:ext cx="2499840" cy="285876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826240" y="1143000"/>
            <a:ext cx="3317400" cy="1866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28760" y="4143240"/>
            <a:ext cx="4444560" cy="2499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a617"/>
                </a:solidFill>
                <a:latin typeface="Times New Roman"/>
              </a:rPr>
              <a:t>ВЫБЕРИТЕ НАРЕЧИЕ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86200" y="1600200"/>
            <a:ext cx="407160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чера, день, шляпа, холодно, взмахимая, улыбаясь, синеющий, куртка, осторожно, слишком, потом, плакат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4357440" cy="3045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24000" y="1268640"/>
            <a:ext cx="48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1) И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о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кабинет господина де Тревил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все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вызывавш..трепет у всех в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мгнов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превратился в отделение приемной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2) У ворот он увидел Портоса беседовавш.. с караульны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3)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я  укажу вам подходящ.. для поединка место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4) Д’Артаньян произнес эти слова с простотой делавш.. честь его учтивост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5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6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08000" y="1268640"/>
            <a:ext cx="511236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5) Д’Артаньяну приходилось напрягать всю свою волю, чтобы не вмешаться в  проис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, внизу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6) Д’Артаньян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немедл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отправился в указанный ему трактир который узнал по крикам  доносивш.. с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отту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7)  Войти к будущ..му аббату оказалось </a:t>
            </a:r>
            <a:r>
              <a:rPr b="0" lang="ru-RU" sz="2800" spc="-1" strike="noStrike" u="dotDotDash">
                <a:solidFill>
                  <a:srgbClr val="000000"/>
                </a:solidFill>
                <a:uFillTx/>
                <a:latin typeface="Gill Sans MT"/>
              </a:rPr>
              <a:t>не так-то прост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9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0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27640" y="332640"/>
            <a:ext cx="356796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572314"/>
                </a:solidFill>
                <a:latin typeface="Gill Sans MT"/>
              </a:rPr>
              <a:t>Сравните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268640"/>
            <a:ext cx="7416360" cy="25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На завтрак я ел яйцо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В результате аварии обе машины разбились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3" name="Picture 2" descr="C:\Users\Анна\Desktop\всмятку.jpg"/>
          <p:cNvPicPr/>
          <p:nvPr/>
        </p:nvPicPr>
        <p:blipFill>
          <a:blip r:embed="rId1"/>
          <a:stretch/>
        </p:blipFill>
        <p:spPr>
          <a:xfrm>
            <a:off x="5004000" y="378900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Анна\Desktop\image2136690.jpg"/>
          <p:cNvPicPr/>
          <p:nvPr/>
        </p:nvPicPr>
        <p:blipFill>
          <a:blip r:embed="rId2"/>
          <a:stretch/>
        </p:blipFill>
        <p:spPr>
          <a:xfrm>
            <a:off x="755640" y="3789000"/>
            <a:ext cx="3777840" cy="27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одведем итог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4400" spc="-1" strike="noStrike">
                <a:solidFill>
                  <a:srgbClr val="000000"/>
                </a:solidFill>
                <a:latin typeface="Gill Sans MT"/>
              </a:rPr>
              <a:t>Чем наречие отличается от других самостоятельных частей речи?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5296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Домашнее задание:</a:t>
            </a: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9640" y="1484640"/>
            <a:ext cx="46483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§ 32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 197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199.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34</TotalTime>
  <Application>LibreOffice/7.4.7.2$Linux_X86_64 LibreOffice_project/40$Build-2</Application>
  <AppVersion>15.0000</AppVersion>
  <Words>391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24:23Z</dcterms:created>
  <dc:creator>Анна</dc:creator>
  <dc:description/>
  <dc:language>en-US</dc:language>
  <cp:lastModifiedBy>1</cp:lastModifiedBy>
  <dcterms:modified xsi:type="dcterms:W3CDTF">2012-12-20T00:31:41Z</dcterms:modified>
  <cp:revision>19</cp:revision>
  <dc:subject/>
  <dc:title>Словарный дикта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